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1" name="PlaceHolder 2"/>
          <p:cNvSpPr>
            <a:spLocks noGrp="1"/>
          </p:cNvSpPr>
          <p:nvPr>
            <p:ph type="dt" idx="8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1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4"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95" name="PlaceHolder 6"/>
          <p:cNvSpPr>
            <a:spLocks noGrp="1"/>
          </p:cNvSpPr>
          <p:nvPr>
            <p:ph type="sldNum" idx="9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45B0-8C67-491A-B324-DA5A0E1A3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F74C-1819-4A03-B845-2260CA28D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9" name="PlaceHolder 1"/>
          <p:cNvSpPr>
            <a:spLocks noGrp="1"/>
          </p:cNvSpPr>
          <p:nvPr>
            <p:ph type="sldImg"/>
          </p:nvPr>
        </p:nvSpPr>
        <p:spPr>
          <a:xfrm>
            <a:off x="114444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388F-7470-4776-93AE-14633041F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8" name="PlaceHolder 1"/>
          <p:cNvSpPr>
            <a:spLocks noGrp="1"/>
          </p:cNvSpPr>
          <p:nvPr>
            <p:ph type="sldImg"/>
          </p:nvPr>
        </p:nvSpPr>
        <p:spPr>
          <a:xfrm>
            <a:off x="114444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 big! They are living examples of how dreams coupled with hard work are a recipe for success. Using your talents and passion to advocate for others.</a:t>
            </a:r>
            <a:endParaRPr b="0" lang="en-US" sz="1200" spc="-1" strike="noStrike">
              <a:solidFill>
                <a:srgbClr val="000000"/>
              </a:solidFill>
              <a:latin typeface="Arial"/>
            </a:endParaRPr>
          </a:p>
        </p:txBody>
      </p:sp>
      <p:sp>
        <p:nvSpPr>
          <p:cNvPr id="1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56E8-5242-4984-9485-128106EE9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E6EA-A399-4D33-B6C8-CDE46439B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ational Oceanic and Atmospheric Administration (NOAA) Ernest F. Hollings (Hollings) scholarship program is designed (1) to increase undergraduate training in oceanic and atmospheric science, research, technology, and education and foster multidisciplinary training opportunities; (2) to increase public understanding and support for stewardship of the ocean and atmosphere and improve environmental literacy; (3) to recruit and prepare students for public service careers with NOAA and other natural resource and science agencies at the Federal, state and local levels of government; and (4) to recruit and prepare students for careers as teachers and educators in oceanic and atmospheric science and to improve scientific and environmental education in the United Stat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p to $28,425 available per student:</a:t>
            </a:r>
            <a:br>
              <a:rPr sz="1100"/>
            </a:br>
            <a:r>
              <a:rPr b="0" lang="en-US" sz="1100" spc="-1" strike="noStrike">
                <a:solidFill>
                  <a:srgbClr val="000000"/>
                </a:solidFill>
                <a:latin typeface="Arial"/>
              </a:rPr>
              <a:t>Up to $8,000 of academic assistance per year for full-time study during the junior and senior years; a 10-week, paid ($650/week) internship during the intervening summer; housing subsidy during the internship; round-trip travel to the internship site; and travel expenses to the Hollings scholarship program conferenc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13302-5BD4-4823-81BB-FDD60DC2F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255A7-EF73-44E9-8F65-053E74081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D604F8-119D-4D48-A266-62AE679FDF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C4D93F-AC32-4114-9C94-4AA53000FA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1F5411-FE9D-4D33-BCA2-0AA19DD8FE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295366-BEDB-465B-B4F0-81ED877748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6F94DA-7265-4206-B445-B977E2D965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30B642-93CD-4AFA-9964-29F3CA280D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55FF92-7EAF-47A3-BFB3-96E49B310B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F83F10-B6D0-4532-8650-FDC37CE0D3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42E83D-F989-48A6-A516-541793D76C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168EC1-722F-4412-B040-CED37EAA769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675B9-FAFE-478A-AFEE-CF5B84C11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812B5A-3E07-46A1-9E91-06F4F42E2E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7BD077-CFD5-454E-A537-9652B5D05F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6885D8-A42F-4E83-B678-A2BA6F0598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607F4E-BAA7-4912-BDE7-E8A5ED6367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8ED008-BF96-4B11-B19C-3F96420483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94013F-49EF-438F-9B4C-BB3F3BEDE5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CE6592-2343-4E2F-83EA-377AC6A161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07E99D-1FFA-457D-A9EF-4A4A3B54AA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9EFDC2-EA36-4B2C-8647-B1A7EB180D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27ECF3-EB48-45E6-A504-A7195530CE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90120-C5E5-40E5-BE01-D83A41FD8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3701ED-1F45-4F9B-9374-E865C4275B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A951CB-5B16-4517-8015-0AE18BD040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CCFF47-77C0-4D04-BFF1-0F2411EE5A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FBD021-D2B7-476A-8AB1-9D3465BACF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31430F-8F5F-430C-ADBC-DC4C197F8F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16ACE5-35D4-41B1-B32F-C683C80166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21ACE2-1F5F-4968-9613-BDBB22D0B4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DFFE84-33B7-4F34-913D-802CEA2835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C46D19-F70C-4FC6-BEDF-A543DF544A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0D9A1D-9911-48D1-86E0-3E4FDBA6A6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B53E4-DE46-4BF3-8528-90C694599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303026-4824-4122-A2B1-8E2816B4AE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A2ED85-D1D5-4624-84D5-2E03681BE8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588F7E-8551-475F-875C-993D57E0D4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7842A7-AB10-46CC-845E-74D11889B29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8F3B37-5028-45DD-9354-04859E46AA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13541E-3FCC-4855-9E37-A57E7985B6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5E4E0F-C492-44E8-B26A-E8EF6ECCF1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4C88B9-74C4-4EE9-86F3-69ACE7E283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AB032E-A5C8-447B-818B-F04755EB96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F9C877-AFB5-4E33-87C7-6D466A76AD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413FD-1B2B-42BB-9D4A-E12CC717A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A1E35F-EC07-43C8-A7C0-2B73920FE9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BF3A54-C991-44F7-840C-4AF4D02BDB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D3177B-1F2F-45AE-A32E-2DC66B8B25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67D8EF8-4F64-4208-937E-BB69A37488E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E33DC9-0BAE-45AE-8D52-7C87CE9BA8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D69D65-0C30-433A-827A-973ADDD5102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EF956F-7B89-4CB9-8525-86DB26EB79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803669-FE50-4434-A132-0CA683BA5B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B39218-1C5E-416D-8AC6-F77D68E3C2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D1F079-549B-4CAF-86A9-FCAB60F0A1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C6AA3-5490-4190-9256-DADBBB7C5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8FE1A9-4DA9-4F21-BA49-EA646931E8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62515A-4AB9-4316-B3F1-33A32277D7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4C88C9-3A99-4E72-9753-5B2B6AC24C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7B375B-4ABC-4C51-B487-6F6B16C4DB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8C43C0-0D9C-48DB-8759-1FC609F549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EC56B46-CBED-4BA6-A895-AB43C64AC4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D33B89D-80A6-4D1A-8EBC-2E43EE50AB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1CC2937-9183-42A1-BF60-63FAE3492AF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44008A-493B-4DEE-ABD7-0B35E6E8DC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4A4C14-8912-4288-9C51-D871B4D3D5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2CF49-C210-400E-AB53-48A34C275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6B610CD-0A14-4249-A68F-34958022E62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D3C324-8073-474A-82EF-F011298B0EB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94F43A-8040-4A64-8525-889F5FBFD8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43B508-6960-46FF-AC1D-FBA7D346EB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AA6BA1-2F90-4B0A-ABA3-45032A5DCA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80EF1E-8477-44B9-B8E5-C538CF64A0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286DC0-92D7-450F-8C50-CB68AB0238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413859-4964-4F6B-838B-BE58558C82E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765F697-A8B3-4AB6-9957-F784A0B96C2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D679C01-DF26-434A-99D1-36D414A4AE5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C11E0-FC75-49B2-A612-574C7CB07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1FF7CF-8647-4AF4-9F52-498B373D45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225CD5C-E369-44AC-9245-49216449A2C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B285A3-DB42-4D4D-84D7-194A2A1094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928DCFB-BC7A-4AE5-A927-45216D782F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96A7BF4-51F3-494B-83AB-22D8A937831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71AB9B-1195-4DB6-97D7-9E9B84424E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224248-9230-4830-93C5-4431900B26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BE70F2-BCF2-4847-B06A-16F2BE47C0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76DFB8C-08A4-450C-8BDB-C3E5FE3E3D0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F347F84-6DF8-42E1-BB2E-98643E7A61F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B2587-FFF8-4273-A027-8E1950258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732B19C-9658-4616-933E-D906962B30D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4F4F10C-25B4-4AEB-9B5C-82A11B8B8B5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649985-CDDE-4D1F-8809-236517530A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F91983C-1B29-42E5-9E3D-732312BDE51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BF4CCA8-6F08-4EF7-8E8A-E95D832D9A2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4E0A65D-C3EB-4F7A-A401-1830BD3AD5F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B1C1875-EA4E-48FB-A552-D831B03B2AF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274800-3AB0-44FE-80C6-B8312BC4AC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A95746-FEFC-44BB-ABB3-02B9079BFA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F94A02-C853-4A50-91CE-FD0C3C1772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A40D6-F685-4C1E-8D45-2F5A6EE16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E41D771-3823-401D-9990-2B418825AFF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2465FAF-246D-44E1-A67D-2F9E6B80E2A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8EBC89F-C533-4C36-9A64-C89A24DE2B1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A95D8D0-2084-4B91-84E6-19C3EDC2BEA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B80C2A0-8104-4FFD-991F-E2E66AB64C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842A7E-11E2-47CC-9C12-69F0E5D6CB0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26E294B-8F25-463F-845E-3A876E16E17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E92190A-E9EA-4076-B696-76BDA8E9997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15BB010-4D6E-4130-A800-0E2E2C3CCA2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C3388B-AA9A-4951-B322-D03A5663CC9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4D12E-D079-4387-B70A-76E0DC416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A2072-CEB6-405F-8B4A-5EF2F0B75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5BE584C-4470-4912-B259-8336D229E5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015352-1860-44F9-BEDF-D020E3ABB5E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D6485E4-15A7-4E8E-BEFB-CDF854A1CF1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2544DCD-0F63-4308-8165-5015310A20E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A11337A-7D75-45FC-9E80-48EE1FDA6DB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7FA0181-3029-4D06-8554-7274359CF06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BB67CB4-A4CB-46FF-BA16-B7017A16BE2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E619B8C-8DE2-4323-9CA3-DA9AEF500E8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D02C424-4FBC-4AEC-82F7-8CF6D2BE954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E0AE9CB-4960-4DFE-B579-00FCEF57FB6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628E1-7B3B-4A3C-BD0D-7F0FDFD83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212AD59-495F-43F9-93EA-222590F6D3E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4F9C741-5DBA-4D49-A0B4-B75AE9CD51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A607F9-30EA-4F32-BCAC-B33F6E2FA08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C013FC-3420-434E-9299-C609EBC444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2524D35-B757-4553-AEA7-BDC4547B062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603339A-1925-4F2F-B72D-1F5D92738DC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8352F4B-C6A0-4179-AE8C-86CA46CE7DA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32FCD3A-DB44-41AF-B3CF-9BD6E5CE72F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8A2BCC8-97B6-4728-82DD-4598FD8FBBB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917B02D-233B-4C4D-8107-E1D641E631B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677F0-FE92-431C-A44B-A440466F0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E6E2315-19D8-4EA1-9B9D-D1A4AE66B14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8229E7D-02E3-4610-8715-253BEB0D011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A5BFA0C-5876-4E8A-939E-2777DA56B78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FBDA0C7-5802-49E1-81A1-1948045682E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6477EEA-FD00-4704-8732-D5B80FDF7A9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6C2E486-EB43-4909-97B4-0469E782371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C4B3974-93C8-4F6E-923D-5AC7B6E4CC4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FC06363-0285-4428-9049-0A53A6AFEB9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E837950-6A63-464E-A700-A68EA5F929D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649033B-00D7-4AD5-A95B-2E9AC788234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94A2C-3D21-420E-A075-48F586E95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AE64F7C-D766-41A1-8C21-3DCEEBC446A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032C30B-52D5-4D62-928E-30AD51F8514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44BF767-9F97-4FFC-890A-638283F1816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5E62A35-55FF-4B3A-983E-26DA8624144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1B74385-394D-4B38-9C67-E2AEF7C1B32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5FD3E7-AA6C-4BF3-BF9B-9C225DDBB6C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0B178D-1B28-420E-BA39-531019EA60D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258D47-3183-4FE8-A3CB-B331445F5F9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94478A4-07CC-42CF-861A-1426E4D4EAC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5D47229-0152-4A43-9D8D-01964A30799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F23BB-9847-49E3-9003-403262724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F689563-A18E-4596-A788-894CC3DE2A6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208FA6D-6CC2-4715-B15E-B326FCE724D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3EA30FD-27D9-4535-BA15-B84A6960273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027A240-898B-45CF-9448-A5BE5A40890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8A156CD-7D48-472C-BF8F-9E7C056F680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9DF5B43-F1A9-4968-A8D6-A23D72AC09D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FAF56CC-38E9-484F-9245-9C19AA5A752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8031EF3-1578-4C6F-8DC3-23E1D40AEF1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6AE717A-4456-448A-8417-E16CF37F89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C6570DD-A4DE-40E7-9650-118833CEC46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36125F-E14B-45CB-AFEA-87030DFF09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E71BDE6-53A8-45D7-B829-33CD9E9DB6B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4CDBB3C-403C-4F9F-BA41-3A5E013A3D0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60140B8-B604-4291-98D8-5A4FAA593CE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4A6700B-8531-4DFD-864F-9A53D636DD9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3767647-A66E-4465-BB7D-3FF42EE180C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64A3443-FD35-4326-9664-45A09B31ED2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1409D53-DF60-49FF-BBA2-9DD9FE631A2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9E4B061-9DFE-4FA1-A369-2370766694E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4E2C811-7A3B-43BF-82C3-461F8A6ED1F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6008A7C-5223-4CAC-9394-4C43443F656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1AC63F-995D-4D55-9AF4-0C92DCB8A0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56F24E0-4AB2-4F12-A5FA-7BD045C538E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B371CE6-4C22-4C97-86D8-54F44BAFD13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846EE44-1BEF-4731-BB95-4DF5DBD2B8C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20CF9D5-8FD3-4398-923C-1B68160FFED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82C8E80-F043-4F47-97CA-8B5C9852E32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3A00C7F-121E-4E24-8792-152C3E29193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13F9BCB-FB4F-4A64-A036-B6C6F08C00D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3A6F1BA-8458-4D5C-B097-E9A0FCA3793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6E1B5CD-B472-4664-928E-02C4F8C44A1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4162335-285A-47D1-A27F-89E7A19FBD3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21EB1F-15B8-452A-8901-52C27177E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FC60576-DD19-433A-83A9-2D3291C3F99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08E6059-7911-4F4C-959B-F9DDC665E68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8E8D22A-FB05-4534-BCB1-6E3D0065A06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87D3569-B50A-4255-9168-3D567C3F9EB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09A730E-9830-4573-8FD5-329448A1970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CD083AB-C5A0-434F-86C1-E31E01337FB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3A4F140-53C2-4AEB-971D-3D0843B4458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B766E52-C7B8-4E86-9FFE-18290788953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30590D7-CEAA-4C72-AC19-177C157F4EB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17B8997-4911-49E2-9D12-CD13555C9E8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461CA2-0D9C-4775-967A-4726C00495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066369F-8199-45F5-A3B9-48BB5AE9578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4A2D7F0-8AE9-4DE8-A145-54AE686A644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424FAE9-8C97-41DD-8BA2-8D7B43F2E4C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4C5030A-BAE5-4585-B309-D0BFA685DD7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DA0F5D1-86DC-456D-BDD0-D4A13419CA8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1AAC31C-EEA4-483C-9911-BB7E62C7645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C40F410-943B-4F2D-9910-DBEB9BE021D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14B5673-8955-49FC-9F14-050AAC42F98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808AC1A-A030-4CA6-A69A-33F4D1AE603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BED4126-33A9-44CA-A3F5-71166BA38AC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C218C2-6AC1-4161-A976-DF7723C71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85E4EE7-AE6F-4128-99AA-80C8E401F46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5EB648D-AF5C-4669-8686-B11A57C40E2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AE3C4F1-213D-43E8-AF10-62A10D4E6FB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0DC21A3-8E86-4319-B4E6-1DF30E76A7B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54A80D5-D08B-4AE8-BD77-1521678A421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82F7587-6398-4CEF-9B66-BABA876AF15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1C658A0-B0F1-4BD9-B387-340D4F774D0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91C82D7-A2C8-4DA3-A98D-EF11100A2A9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856E653-E8D7-4263-A36A-4C2B55D6F79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F3EA579-0D3C-47EE-BA29-2B18A2656B8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DC5C0-463F-4AA3-8CD5-0436A76B0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B9936-05DC-4251-A993-83E255E17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80BBAE5-0135-445E-A8B5-4FCD4FC3662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4705B35-9342-4703-B50E-F402C63F011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8D04643-18B2-43A6-A962-41686352CCC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02B9BBB-478C-4CC8-8740-C86F1189566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071B18E-0940-4C6F-ACA3-8F4BE0173C8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0A4765E-7932-48F2-B50F-1FF48B9F2E3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426B573-45A3-4373-9088-2657DB20EF8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9AAFADC-2ED1-42E2-BB73-6BAAB60DB65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03A950D-E738-4068-8744-72E15ADE9EB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DA35DE0-9EED-423B-A23B-A7F58AE4373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E8CFC-16CD-4147-A726-81F60BA48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D4F3088-460C-44D4-BA21-81BB95D1AF9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C00CC82-8C80-4B8F-BCB4-8CD899A1983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120320E-8197-4FCD-B92A-676CE1A7204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05F9130-96E5-4EEF-9E49-6457FF987AE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87CDB8E-603D-4269-BA7D-D1EAAB9E9AD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7BB0487-BA20-495D-8BE6-8C3A95CFC5D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876700A-E3AB-45D2-B206-A474E70EA46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ABBDD1D-F007-413C-A300-63E46769F70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8C555CF-ACEE-4D27-B9A1-805B32AAA3A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796F434-79FD-4ECD-A17F-9B820083CC1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897DC-25CD-49FB-B0B1-2FB21DB078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3CD06B7-D929-4DBA-9047-70DFCA213F6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0FAE107-6DF8-4FF3-A0AC-D7D3AEC3107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3BC58DF-F265-47C0-B468-DDB6CB7F618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B8249C7-D362-4FC7-B154-0A900DC4858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E928779-76CC-42EF-9AAE-3C8F23D1936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FA8E732-60ED-432B-A644-B751000FD72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DC89358-314C-405C-A184-4519A470B01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B5DC9B6-39EA-441E-A43D-8B15614D38E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B7A6193-C46B-4602-95BB-C2A8D7241BA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6327476-E694-48B8-AC4A-67629DE9977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0378D-196E-4DBC-BFAB-C6EB042FD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6636398-C9A0-4BBA-9465-AB5637F1BD7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F156C2E-9F8B-4762-A932-172DD64CFBA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7E85FB4-F23A-4BFF-A4CC-D15172E906D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D578277-459F-4B6A-842C-C08D833100C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F02A4BD-06B3-4600-AFF2-A8EC8DE3E48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DA96A6A-8D2A-4304-9266-36078F6E16D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100086B-BE6F-4295-8E40-F29D535C5A6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F0F2AF0-E8FC-4286-8585-B94D9272478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B112039-3A25-47A0-99B4-F2CD8DB0FA7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F47FCF8-D9DD-4827-8E59-6C82CD51F82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90FFBE-AFFE-4DF3-96EC-C25BDA0AD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C7BBA61-E019-46F5-8F39-DF0A8AFD7A1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3A0A32E-EC7A-4155-BDD6-5B8A043D9C7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825A9C8-55A4-4394-BFA9-9D9C4B21E59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49055E3-074B-438A-8F8C-57358DC8A45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588B989-C002-4409-BE8F-0F8D2AB38E7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7078193-4111-4109-AEC3-96E23411400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2E42280-D5BC-46A1-A490-CE8C71A6F86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789B8597-A5C5-43C2-B3BF-931C000F40B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751884E-852F-4CB9-9E0A-949578C4AE1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4E0E62-5827-4E89-8A80-B76E209C6C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A1DC79-A1BC-4A4F-9173-43F57508B2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02C109-B9DC-4BE6-9089-66A9C9739C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F0D23-0045-4369-8378-A04F100064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B60D7-E5D0-4AF2-865A-81555C0347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7161C-1CA4-4B88-ACAF-3F08C1DAE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20728-F96D-4454-84E9-6E5772821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7D2A3-261F-4D93-9D7F-65CDEFF529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40B369-44FB-467E-8B5C-A92AC1654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B5C9B-F309-4AF5-8799-A97E2FC99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D01A2-492E-4450-85C4-86E87D8A6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11C8E-56A1-4DBB-9BED-7659589F2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F1049-ACA7-4A14-AB14-5BB8504301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2B53D8-5883-426C-8BAA-8679C735D4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F169A-2352-4280-B7D6-1A4A3FCCBB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F52829-37AA-45E1-9EF3-F7A32085AC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EC9D7-948E-4F36-A7AA-5459532B6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A83007-7FEC-49B6-A95C-67D7D123B0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85F90-9D43-410D-9A64-082FEB4304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3DEAD0-34A6-4DAF-B64C-722BCFCC56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98C46A-92EC-498C-B021-3CCB327BA9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44137-B124-4100-BAC7-787A7FF6D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DB71C-F43F-441C-8B3E-0A5DD7F8D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C96D7-9998-4333-B3A2-2003CCEC6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06D34-B21A-48A9-AB68-A83485F6A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86C4B2-0A20-4B75-AC9E-2EF92FDC01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5579AD-0476-48A9-8941-8F056CAA1F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FE032-7CA8-4986-ADB0-C231BBDF0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2A92D7-33A6-4544-8ED2-A576F42F32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12C3FA-36C9-4988-9B29-88212B1BB2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1FFE29-AE7F-4D75-87A2-8155243518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C72254-1CF3-4981-8BE1-BB18922954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515D0D-9632-45FD-A0BE-5C9A34D671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1C5876-E942-48B9-812A-5AD3A1576F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C5DFF8-F245-466F-864E-D06D442F16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A20BE4-E1F6-4971-9DF8-D747581B4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D2678-0D79-46C3-A77D-FDB7EDEDC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96944-3B64-4D60-901F-3C93FFCEC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76641-12A8-492C-993D-66A319BA5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3F636E-162C-4F9B-B289-21CE6876FC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00411E-7E67-4C0B-B93A-754FDEA79E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15DB39-024F-42D8-BEDE-7066F169C4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6B504F-9BE4-4E8A-8117-99143E4D5A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B9B19-2C80-4D1C-9881-B63BA8CA75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41F333-1881-48C9-A42C-C6FE77C282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3948FB-9CE6-4499-9913-52C4D64E4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22163E-2E88-4E48-B6AC-ADF29A7ACB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CDF395-F4F8-4F69-8073-0430041882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8E9A3-78FF-44C9-B77E-6EC292584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3EFA-939F-44B2-9A2C-458D3A238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F2A872-69D7-418D-AE37-0658E5F94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AE16E2-5B58-4751-B36F-1885CB9E5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9F0389-C06F-4BEF-B857-BE319E9CF1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C983BC-1D9B-4C96-A0BE-A04886E740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2A2223-EF03-4A72-8651-9BCA0481E7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A6926A-C600-4B0B-AEFD-666BA6D97D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717900-88FE-4DAC-AD7C-42C0242922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4C6689-3987-4F8E-8CB7-7CDEAD80C8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3B49B1-A042-4358-BC18-E4531C6279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DC08C6-171C-4397-B4DB-8A6292ED1C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0CA96-C471-4B8C-AC3D-3C561C317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EFBE0A-0C0B-4363-B0E7-1A70AF960C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A63918-5F0D-4696-89A3-DB9CE25E6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9AE7E-D2C5-498B-B6DB-7B60AA8DBA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84EEEF-18D1-486C-B16D-EC9ED88E6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6B1C31-C46C-4FF4-938E-A6445FBB32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0E82A2-3A27-4F8C-8CB4-E3FC1E2734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5C0038-68C7-46F1-B866-9EA8709416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689C99-5F51-43B3-A9DF-D37116F652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CE5ACF-CCC5-4DE3-B61F-7096B0241B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109C02-CD18-450A-9558-3C1F99EF59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9339-144E-41F6-BF1E-A4D07C6EEA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2572-A570-45FF-9DC7-33A2451F0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175F-33C5-41CC-B6FA-80E06D981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4381-6F79-434A-899A-400E6C04D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8736-6AAD-4ADD-9CE8-5A93125B6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7209-7D59-4EE4-8BC4-5C90628D4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2B74-505B-4EBB-9C05-08D406F8D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8528-8280-49B7-A14E-C70398AE3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2891-1624-4A00-A480-ED9EA3595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7A52-AAB4-48BB-AF35-3E0F29BA7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BA13-CC89-4CAF-BAE6-8DED84C4C9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B097-D193-4467-BD22-C4499A6DB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473C-6756-46E6-ABE1-D156EB65A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CE2F-7955-4110-905E-E7F47EB54C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B2A3-965C-4878-A20D-947DA738D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1030-A1EB-4A9D-9DB5-E8E30B8A1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057E-740B-4001-9DA1-ABAF598470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A5FB-7C3B-4CD1-942F-59A4ADC314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7" name="PlaceHolder 3"/>
          <p:cNvSpPr>
            <a:spLocks noGrp="1"/>
          </p:cNvSpPr>
          <p:nvPr>
            <p:ph type="dt" idx="7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PlaceHolder 5"/>
          <p:cNvSpPr>
            <a:spLocks noGrp="1"/>
          </p:cNvSpPr>
          <p:nvPr>
            <p:ph type="sldNum" idx="7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B996-9D1E-467E-A01D-F7407A40AF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8" name="PlaceHolder 3"/>
          <p:cNvSpPr>
            <a:spLocks noGrp="1"/>
          </p:cNvSpPr>
          <p:nvPr>
            <p:ph type="dt" idx="7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PlaceHolder 5"/>
          <p:cNvSpPr>
            <a:spLocks noGrp="1"/>
          </p:cNvSpPr>
          <p:nvPr>
            <p:ph type="sldNum" idx="8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7C92-221A-4D32-B20B-82AF147FD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09" name="PlaceHolder 3"/>
          <p:cNvSpPr>
            <a:spLocks noGrp="1"/>
          </p:cNvSpPr>
          <p:nvPr>
            <p:ph type="dt" idx="8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PlaceHolder 4"/>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PlaceHolder 5"/>
          <p:cNvSpPr>
            <a:spLocks noGrp="1"/>
          </p:cNvSpPr>
          <p:nvPr>
            <p:ph type="sldNum" idx="8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18F2-B5C3-49CC-972C-D885C6AA1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0" name="PlaceHolder 3"/>
          <p:cNvSpPr>
            <a:spLocks noGrp="1"/>
          </p:cNvSpPr>
          <p:nvPr>
            <p:ph type="dt" idx="8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PlaceHolder 4"/>
          <p:cNvSpPr>
            <a:spLocks noGrp="1"/>
          </p:cNvSpPr>
          <p:nvPr>
            <p:ph type="ftr" idx="8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PlaceHolder 5"/>
          <p:cNvSpPr>
            <a:spLocks noGrp="1"/>
          </p:cNvSpPr>
          <p:nvPr>
            <p:ph type="sldNum" idx="8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0314-A35D-42F7-BCA5-C050F79AA0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4D89-1212-4FF0-AFCA-D49423970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1B63-1876-4414-B7C0-5D49BC02B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B931-E2F9-4663-99AE-B6592D63B6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E551-E188-42F6-A9F1-A3D0CAD94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5E87-619B-46CC-B0A7-B2EA8DAA5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4C99-29CB-4127-BD4C-E9F9BC6CC5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5A6B-16A1-4A2F-AA5D-CCE5309EB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37.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1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37.xml"/>
</Relationships>
</file>

<file path=ppt/slides/_rels/slide7.xml.rels><?xml version="1.0" encoding="UTF-8"?>
<Relationships xmlns="http://schemas.openxmlformats.org/package/2006/relationships"><Relationship Id="rId1" Type="http://schemas.openxmlformats.org/officeDocument/2006/relationships/hyperlink" Target="http://epp.noaa.gov/" TargetMode="External"/><Relationship Id="rId2" Type="http://schemas.openxmlformats.org/officeDocument/2006/relationships/image" Target="../media/image5.jpeg"/><Relationship Id="rId3" Type="http://schemas.openxmlformats.org/officeDocument/2006/relationships/slideLayout" Target="../slideLayouts/slideLayout3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6" name="Freeform 2"/>
          <p:cNvSpPr/>
          <p:nvPr/>
        </p:nvSpPr>
        <p:spPr>
          <a:xfrm>
            <a:off x="0" y="4888080"/>
            <a:ext cx="9144000" cy="1969920"/>
          </a:xfrm>
          <a:custGeom>
            <a:avLst/>
            <a:gdLst/>
            <a:ahLst/>
            <a:rect l="l" t="t" r="r" b="b"/>
            <a:pathLst>
              <a:path w="10000" h="10000">
                <a:moveTo>
                  <a:pt x="0" y="0"/>
                </a:moveTo>
                <a:lnTo>
                  <a:pt x="10000" y="0"/>
                </a:lnTo>
                <a:lnTo>
                  <a:pt x="10000" y="10000"/>
                </a:lnTo>
                <a:lnTo>
                  <a:pt x="0" y="10000"/>
                </a:lnTo>
                <a:lnTo>
                  <a:pt x="0" y="0"/>
                </a:lnTo>
                <a:close/>
                <a:moveTo>
                  <a:pt x="0" y="0"/>
                </a:move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Freeform 3"/>
          <p:cNvSpPr/>
          <p:nvPr/>
        </p:nvSpPr>
        <p:spPr>
          <a:xfrm>
            <a:off x="0" y="0"/>
            <a:ext cx="9144000" cy="2409840"/>
          </a:xfrm>
          <a:custGeom>
            <a:avLst/>
            <a:gdLst/>
            <a:ahLst/>
            <a:rect l="l" t="t" r="r" b="b"/>
            <a:pathLst>
              <a:path w="10000" h="10000">
                <a:moveTo>
                  <a:pt x="0" y="0"/>
                </a:moveTo>
                <a:lnTo>
                  <a:pt x="10000" y="0"/>
                </a:lnTo>
                <a:lnTo>
                  <a:pt x="10000" y="10000"/>
                </a:lnTo>
                <a:lnTo>
                  <a:pt x="0" y="10000"/>
                </a:lnTo>
                <a:lnTo>
                  <a:pt x="0" y="0"/>
                </a:lnTo>
                <a:close/>
                <a:moveTo>
                  <a:pt x="0" y="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8" name="PlaceHolder 1"/>
          <p:cNvSpPr>
            <a:spLocks noGrp="1"/>
          </p:cNvSpPr>
          <p:nvPr>
            <p:ph type="title"/>
          </p:nvPr>
        </p:nvSpPr>
        <p:spPr>
          <a:xfrm>
            <a:off x="1890360" y="728280"/>
            <a:ext cx="6799320" cy="1119240"/>
          </a:xfrm>
          <a:prstGeom prst="rect">
            <a:avLst/>
          </a:prstGeom>
          <a:noFill/>
          <a:ln w="0">
            <a:noFill/>
          </a:ln>
        </p:spPr>
        <p:txBody>
          <a:bodyPr anchor="t">
            <a:noAutofit/>
          </a:bodyPr>
          <a:p>
            <a:pPr indent="0" algn="ctr">
              <a:lnSpc>
                <a:spcPts val="6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Educational Opportunities</a:t>
            </a:r>
            <a:endParaRPr b="0" lang="en-US" sz="3500" spc="-1" strike="noStrike">
              <a:solidFill>
                <a:srgbClr val="000000"/>
              </a:solidFill>
              <a:latin typeface="Times New Roman"/>
            </a:endParaRPr>
          </a:p>
        </p:txBody>
      </p:sp>
      <p:pic>
        <p:nvPicPr>
          <p:cNvPr id="1199" name="Picture 5" descr=""/>
          <p:cNvPicPr/>
          <p:nvPr/>
        </p:nvPicPr>
        <p:blipFill>
          <a:blip r:embed="rId2"/>
          <a:stretch/>
        </p:blipFill>
        <p:spPr>
          <a:xfrm>
            <a:off x="304920" y="380880"/>
            <a:ext cx="1411200" cy="1411560"/>
          </a:xfrm>
          <a:prstGeom prst="rect">
            <a:avLst/>
          </a:prstGeom>
          <a:ln w="0">
            <a:noFill/>
          </a:ln>
        </p:spPr>
      </p:pic>
      <p:sp>
        <p:nvSpPr>
          <p:cNvPr id="1200" name="Line 6"/>
          <p:cNvSpPr/>
          <p:nvPr/>
        </p:nvSpPr>
        <p:spPr>
          <a:xfrm>
            <a:off x="0" y="4888080"/>
            <a:ext cx="9144000" cy="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1" name="Line 7"/>
          <p:cNvSpPr/>
          <p:nvPr/>
        </p:nvSpPr>
        <p:spPr>
          <a:xfrm>
            <a:off x="-14400" y="2409840"/>
            <a:ext cx="9144000" cy="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Text Box 8"/>
          <p:cNvSpPr/>
          <p:nvPr/>
        </p:nvSpPr>
        <p:spPr>
          <a:xfrm>
            <a:off x="4230720" y="5235480"/>
            <a:ext cx="4675320" cy="79344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1375"/>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200" spc="-1" strike="noStrike">
                <a:solidFill>
                  <a:srgbClr val="ffffff"/>
                </a:solidFill>
                <a:latin typeface="Arial"/>
              </a:rPr>
              <a:t>Shirley Murillo</a:t>
            </a:r>
            <a:endParaRPr b="0" lang="en-US" sz="2200" spc="-1" strike="noStrike">
              <a:solidFill>
                <a:srgbClr val="000000"/>
              </a:solidFill>
              <a:latin typeface="Arial"/>
            </a:endParaRPr>
          </a:p>
          <a:p>
            <a:pPr>
              <a:lnSpc>
                <a:spcPct val="80000"/>
              </a:lnSpc>
              <a:spcBef>
                <a:spcPts val="1375"/>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200" spc="-1" strike="noStrike">
                <a:solidFill>
                  <a:srgbClr val="ffffff"/>
                </a:solidFill>
                <a:latin typeface="Arial"/>
              </a:rPr>
              <a:t>AOML/Hurricane Research Division</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ff8"/>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1087560" y="833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Meteorological Society</a:t>
            </a:r>
            <a:br>
              <a:rPr sz="3200"/>
            </a:br>
            <a:r>
              <a:rPr b="0" lang="en-US" sz="2400" spc="-1" strike="noStrike">
                <a:solidFill>
                  <a:srgbClr val="000000"/>
                </a:solidFill>
                <a:latin typeface="Times New Roman"/>
              </a:rPr>
              <a:t>http://www.atmetsoc.org</a:t>
            </a:r>
            <a:endParaRPr b="0" lang="en-US" sz="2400" spc="-1" strike="noStrike">
              <a:solidFill>
                <a:srgbClr val="000000"/>
              </a:solidFill>
              <a:latin typeface="Times New Roman"/>
            </a:endParaRPr>
          </a:p>
        </p:txBody>
      </p:sp>
      <p:sp>
        <p:nvSpPr>
          <p:cNvPr id="1226" name="PlaceHolder 2"/>
          <p:cNvSpPr>
            <a:spLocks noGrp="1"/>
          </p:cNvSpPr>
          <p:nvPr>
            <p:ph/>
          </p:nvPr>
        </p:nvSpPr>
        <p:spPr>
          <a:xfrm>
            <a:off x="998640" y="2572920"/>
            <a:ext cx="7813440" cy="280044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graduate and Graduate Scholarshi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ospheric Science Policy Summer Colloquiu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Weather Studies Progr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travel gra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us teaching tools for teacher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7" name="Picture 8" descr="amsseal"/>
          <p:cNvPicPr/>
          <p:nvPr/>
        </p:nvPicPr>
        <p:blipFill>
          <a:blip r:embed="rId1"/>
          <a:stretch/>
        </p:blipFill>
        <p:spPr>
          <a:xfrm>
            <a:off x="228600" y="469800"/>
            <a:ext cx="1509840" cy="150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fc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1544400" y="906120"/>
            <a:ext cx="584964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Keys to Success</a:t>
            </a:r>
            <a:endParaRPr b="0" lang="en-US" sz="3200" spc="-1" strike="noStrike">
              <a:solidFill>
                <a:srgbClr val="000000"/>
              </a:solidFill>
              <a:latin typeface="Times New Roman"/>
            </a:endParaRPr>
          </a:p>
        </p:txBody>
      </p:sp>
      <p:sp>
        <p:nvSpPr>
          <p:cNvPr id="1229" name="PlaceHolder 2"/>
          <p:cNvSpPr>
            <a:spLocks noGrp="1"/>
          </p:cNvSpPr>
          <p:nvPr>
            <p:ph/>
          </p:nvPr>
        </p:nvSpPr>
        <p:spPr>
          <a:xfrm>
            <a:off x="685800" y="1980720"/>
            <a:ext cx="7051680" cy="33721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mentor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ce, community and schoo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supporter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ers, family, friends, co-workers, etc.</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a:t>
            </a:r>
            <a:endParaRPr b="0" lang="en-US" sz="2800" spc="-1" strike="noStrike">
              <a:solidFill>
                <a:srgbClr val="000000"/>
              </a:solidFill>
              <a:latin typeface="Times New Roman"/>
            </a:endParaRPr>
          </a:p>
        </p:txBody>
      </p:sp>
      <p:pic>
        <p:nvPicPr>
          <p:cNvPr id="1230" name="Picture 4" descr=""/>
          <p:cNvPicPr/>
          <p:nvPr/>
        </p:nvPicPr>
        <p:blipFill>
          <a:blip r:embed="rId1"/>
          <a:stretch/>
        </p:blipFill>
        <p:spPr>
          <a:xfrm>
            <a:off x="6122880" y="4243320"/>
            <a:ext cx="229896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1" name="Freeform 2"/>
          <p:cNvSpPr/>
          <p:nvPr/>
        </p:nvSpPr>
        <p:spPr>
          <a:xfrm>
            <a:off x="0" y="4888080"/>
            <a:ext cx="9144000" cy="1969920"/>
          </a:xfrm>
          <a:custGeom>
            <a:avLst/>
            <a:gdLst/>
            <a:ahLst/>
            <a:rect l="l" t="t" r="r" b="b"/>
            <a:pathLst>
              <a:path w="10000" h="10000">
                <a:moveTo>
                  <a:pt x="0" y="0"/>
                </a:moveTo>
                <a:lnTo>
                  <a:pt x="10000" y="0"/>
                </a:lnTo>
                <a:lnTo>
                  <a:pt x="10000" y="10000"/>
                </a:lnTo>
                <a:lnTo>
                  <a:pt x="0" y="10000"/>
                </a:lnTo>
                <a:lnTo>
                  <a:pt x="0" y="0"/>
                </a:lnTo>
                <a:close/>
                <a:moveTo>
                  <a:pt x="0" y="0"/>
                </a:move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2" name="Freeform 3"/>
          <p:cNvSpPr/>
          <p:nvPr/>
        </p:nvSpPr>
        <p:spPr>
          <a:xfrm>
            <a:off x="0" y="0"/>
            <a:ext cx="9144000" cy="2409840"/>
          </a:xfrm>
          <a:custGeom>
            <a:avLst/>
            <a:gdLst/>
            <a:ahLst/>
            <a:rect l="l" t="t" r="r" b="b"/>
            <a:pathLst>
              <a:path w="10000" h="10000">
                <a:moveTo>
                  <a:pt x="0" y="0"/>
                </a:moveTo>
                <a:lnTo>
                  <a:pt x="10000" y="0"/>
                </a:lnTo>
                <a:lnTo>
                  <a:pt x="10000" y="10000"/>
                </a:lnTo>
                <a:lnTo>
                  <a:pt x="0" y="10000"/>
                </a:lnTo>
                <a:lnTo>
                  <a:pt x="0" y="0"/>
                </a:lnTo>
                <a:close/>
                <a:moveTo>
                  <a:pt x="0" y="0"/>
                </a:move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3" name="PlaceHolder 1"/>
          <p:cNvSpPr>
            <a:spLocks noGrp="1"/>
          </p:cNvSpPr>
          <p:nvPr>
            <p:ph type="title"/>
          </p:nvPr>
        </p:nvSpPr>
        <p:spPr>
          <a:xfrm>
            <a:off x="1890360" y="728280"/>
            <a:ext cx="6799320" cy="1119240"/>
          </a:xfrm>
          <a:prstGeom prst="rect">
            <a:avLst/>
          </a:prstGeom>
          <a:noFill/>
          <a:ln w="0">
            <a:noFill/>
          </a:ln>
        </p:spPr>
        <p:txBody>
          <a:bodyPr anchor="t">
            <a:noAutofit/>
          </a:bodyPr>
          <a:p>
            <a:pPr indent="0" algn="ctr">
              <a:lnSpc>
                <a:spcPts val="6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Educational Opportunities</a:t>
            </a:r>
            <a:endParaRPr b="0" lang="en-US" sz="3500" spc="-1" strike="noStrike">
              <a:solidFill>
                <a:srgbClr val="000000"/>
              </a:solidFill>
              <a:latin typeface="Times New Roman"/>
            </a:endParaRPr>
          </a:p>
        </p:txBody>
      </p:sp>
      <p:pic>
        <p:nvPicPr>
          <p:cNvPr id="1234" name="Picture 5" descr=""/>
          <p:cNvPicPr/>
          <p:nvPr/>
        </p:nvPicPr>
        <p:blipFill>
          <a:blip r:embed="rId2"/>
          <a:stretch/>
        </p:blipFill>
        <p:spPr>
          <a:xfrm>
            <a:off x="304920" y="380880"/>
            <a:ext cx="1411200" cy="1411560"/>
          </a:xfrm>
          <a:prstGeom prst="rect">
            <a:avLst/>
          </a:prstGeom>
          <a:ln w="0">
            <a:noFill/>
          </a:ln>
        </p:spPr>
      </p:pic>
      <p:sp>
        <p:nvSpPr>
          <p:cNvPr id="1235" name="Line 6"/>
          <p:cNvSpPr/>
          <p:nvPr/>
        </p:nvSpPr>
        <p:spPr>
          <a:xfrm>
            <a:off x="0" y="4888080"/>
            <a:ext cx="9144000" cy="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6" name="Line 7"/>
          <p:cNvSpPr/>
          <p:nvPr/>
        </p:nvSpPr>
        <p:spPr>
          <a:xfrm>
            <a:off x="-14400" y="2409840"/>
            <a:ext cx="9144000" cy="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7" name="Text Box 8"/>
          <p:cNvSpPr/>
          <p:nvPr/>
        </p:nvSpPr>
        <p:spPr>
          <a:xfrm>
            <a:off x="4230720" y="5235480"/>
            <a:ext cx="4675320" cy="79344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1375"/>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200" spc="-1" strike="noStrike">
                <a:solidFill>
                  <a:srgbClr val="ffffff"/>
                </a:solidFill>
                <a:latin typeface="Arial"/>
              </a:rPr>
              <a:t>Shirley Murillo</a:t>
            </a:r>
            <a:endParaRPr b="0" lang="en-US" sz="2200" spc="-1" strike="noStrike">
              <a:solidFill>
                <a:srgbClr val="000000"/>
              </a:solidFill>
              <a:latin typeface="Arial"/>
            </a:endParaRPr>
          </a:p>
          <a:p>
            <a:pPr>
              <a:lnSpc>
                <a:spcPct val="80000"/>
              </a:lnSpc>
              <a:spcBef>
                <a:spcPts val="1375"/>
              </a:spcBef>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200" spc="-1" strike="noStrike">
                <a:solidFill>
                  <a:srgbClr val="ffffff"/>
                </a:solidFill>
                <a:latin typeface="Arial"/>
              </a:rPr>
              <a:t>AOML/Hurricane Research Division</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203" name="TextBox 1"/>
          <p:cNvSpPr/>
          <p:nvPr/>
        </p:nvSpPr>
        <p:spPr>
          <a:xfrm>
            <a:off x="1529280" y="880920"/>
            <a:ext cx="593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 President’s STEM initiative </a:t>
            </a:r>
            <a:endParaRPr b="0" lang="en-US" sz="3200" spc="-1" strike="noStrike">
              <a:solidFill>
                <a:srgbClr val="000000"/>
              </a:solidFill>
              <a:latin typeface="Arial"/>
            </a:endParaRPr>
          </a:p>
        </p:txBody>
      </p:sp>
      <p:sp>
        <p:nvSpPr>
          <p:cNvPr id="1204" name="TextBox 3"/>
          <p:cNvSpPr/>
          <p:nvPr/>
        </p:nvSpPr>
        <p:spPr>
          <a:xfrm>
            <a:off x="1047240" y="1963800"/>
            <a:ext cx="49266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e to Innovate campaig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STEM career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oring </a:t>
            </a:r>
            <a:endParaRPr b="0" lang="en-US" sz="2400" spc="-1" strike="noStrike">
              <a:solidFill>
                <a:srgbClr val="000000"/>
              </a:solidFill>
              <a:latin typeface="Arial"/>
            </a:endParaRPr>
          </a:p>
        </p:txBody>
      </p:sp>
      <p:pic>
        <p:nvPicPr>
          <p:cNvPr id="1205" name="Picture 1" descr="935133_300.jpg"/>
          <p:cNvPicPr/>
          <p:nvPr/>
        </p:nvPicPr>
        <p:blipFill>
          <a:blip r:embed="rId1"/>
          <a:srcRect l="0" t="15317" r="0" b="19824"/>
          <a:stretch/>
        </p:blipFill>
        <p:spPr>
          <a:xfrm>
            <a:off x="5630760" y="4402080"/>
            <a:ext cx="28195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839880" y="609120"/>
            <a:ext cx="722448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areers in Meteorology</a:t>
            </a:r>
            <a:endParaRPr b="0" lang="en-US" sz="3800" spc="-1" strike="noStrike">
              <a:solidFill>
                <a:srgbClr val="000000"/>
              </a:solidFill>
              <a:latin typeface="Times New Roman"/>
            </a:endParaRPr>
          </a:p>
        </p:txBody>
      </p:sp>
      <p:sp>
        <p:nvSpPr>
          <p:cNvPr id="1207" name="PlaceHolder 2"/>
          <p:cNvSpPr>
            <a:spLocks noGrp="1"/>
          </p:cNvSpPr>
          <p:nvPr>
            <p:ph/>
          </p:nvPr>
        </p:nvSpPr>
        <p:spPr>
          <a:xfrm>
            <a:off x="784080" y="1411200"/>
            <a:ext cx="7661520" cy="444816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cast Meteorologist</a:t>
            </a:r>
            <a:endParaRPr b="0" lang="en-US" sz="2400" spc="-1" strike="noStrike">
              <a:solidFill>
                <a:srgbClr val="000000"/>
              </a:solidFill>
              <a:latin typeface="Times New Roman"/>
            </a:endParaRPr>
          </a:p>
          <a:p>
            <a:pPr lvl="1" marL="743040" indent="-28584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dia (TV, radio, internet, print)</a:t>
            </a:r>
            <a:endParaRPr b="0" lang="en-US" sz="22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ther Forecaster</a:t>
            </a:r>
            <a:endParaRPr b="0" lang="en-US" sz="2400" spc="-1" strike="noStrike">
              <a:solidFill>
                <a:srgbClr val="000000"/>
              </a:solidFill>
              <a:latin typeface="Times New Roman"/>
            </a:endParaRPr>
          </a:p>
          <a:p>
            <a:pPr lvl="1" marL="743040" indent="-28584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tional Weather Service, Private industry –consultant, commodity traders, FAA</a:t>
            </a:r>
            <a:endParaRPr b="0" lang="en-US" sz="22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Meteorologist</a:t>
            </a:r>
            <a:endParaRPr b="0" lang="en-US" sz="2400" spc="-1" strike="noStrike">
              <a:solidFill>
                <a:srgbClr val="000000"/>
              </a:solidFill>
              <a:latin typeface="Times New Roman"/>
            </a:endParaRPr>
          </a:p>
          <a:p>
            <a:pPr lvl="1" marL="743040" indent="-28584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ov</a:t>
            </a:r>
            <a:r>
              <a:rPr b="0" lang="ja-JP" sz="2200" spc="-1" strike="noStrike">
                <a:solidFill>
                  <a:srgbClr val="000000"/>
                </a:solidFill>
                <a:latin typeface="Arial"/>
              </a:rPr>
              <a:t>’</a:t>
            </a:r>
            <a:r>
              <a:rPr b="0" lang="en-US" sz="2200" spc="-1" strike="noStrike">
                <a:solidFill>
                  <a:srgbClr val="000000"/>
                </a:solidFill>
                <a:latin typeface="Times New Roman"/>
              </a:rPr>
              <a:t>t –NOAA, Military, Academia, Private –forensics –court cases, electric co.</a:t>
            </a:r>
            <a:endParaRPr b="0" lang="en-US" sz="22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s of Meteorology</a:t>
            </a:r>
            <a:endParaRPr b="0" lang="en-US" sz="3200" spc="-1" strike="noStrike">
              <a:solidFill>
                <a:srgbClr val="000000"/>
              </a:solidFill>
              <a:latin typeface="Times New Roman"/>
            </a:endParaRPr>
          </a:p>
        </p:txBody>
      </p:sp>
      <p:sp>
        <p:nvSpPr>
          <p:cNvPr id="1209" name="PlaceHolder 2"/>
          <p:cNvSpPr>
            <a:spLocks noGrp="1"/>
          </p:cNvSpPr>
          <p:nvPr>
            <p:ph/>
          </p:nvPr>
        </p:nvSpPr>
        <p:spPr>
          <a:xfrm>
            <a:off x="1348920" y="1755720"/>
            <a:ext cx="317196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str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etar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leo-climat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ical</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i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PlaceHolder 3"/>
          <p:cNvSpPr>
            <a:spLocks noGrp="1"/>
          </p:cNvSpPr>
          <p:nvPr>
            <p:ph/>
          </p:nvPr>
        </p:nvSpPr>
        <p:spPr>
          <a:xfrm>
            <a:off x="4797360" y="1743120"/>
            <a:ext cx="3810240" cy="326376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cales –meso-mirco</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ar</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te Sensi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ba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untai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Sea interac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573120" y="509760"/>
            <a:ext cx="77724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3300"/>
                </a:solidFill>
                <a:latin typeface="Times New Roman"/>
              </a:rPr>
              <a:t>Other careers in meteorology</a:t>
            </a:r>
            <a:endParaRPr b="0" lang="en-US" sz="3800" spc="-1" strike="noStrike">
              <a:solidFill>
                <a:srgbClr val="000000"/>
              </a:solidFill>
              <a:latin typeface="Times New Roman"/>
            </a:endParaRPr>
          </a:p>
        </p:txBody>
      </p:sp>
      <p:sp>
        <p:nvSpPr>
          <p:cNvPr id="1212" name="PlaceHolder 2"/>
          <p:cNvSpPr>
            <a:spLocks noGrp="1"/>
          </p:cNvSpPr>
          <p:nvPr>
            <p:ph/>
          </p:nvPr>
        </p:nvSpPr>
        <p:spPr>
          <a:xfrm>
            <a:off x="762120" y="1579680"/>
            <a:ext cx="7772400" cy="4114800"/>
          </a:xfrm>
          <a:prstGeom prst="rect">
            <a:avLst/>
          </a:prstGeom>
          <a:noFill/>
          <a:ln w="0">
            <a:noFill/>
          </a:ln>
        </p:spPr>
        <p:txBody>
          <a:bodyPr anchor="t">
            <a:normAutofit/>
          </a:bodyPr>
          <a:p>
            <a:pPr marL="343080" indent="-343080">
              <a:spcBef>
                <a:spcPts val="700"/>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Computer programmers</a:t>
            </a:r>
            <a:endParaRPr b="0" lang="en-US" sz="2800" spc="-1" strike="noStrike">
              <a:solidFill>
                <a:srgbClr val="000000"/>
              </a:solidFill>
              <a:latin typeface="Times New Roman"/>
            </a:endParaRPr>
          </a:p>
          <a:p>
            <a:pPr lvl="1" marL="743040" indent="-285840">
              <a:spcBef>
                <a:spcPts val="60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Software design</a:t>
            </a:r>
            <a:endParaRPr b="0" lang="en-US" sz="2400" spc="-1" strike="noStrike">
              <a:solidFill>
                <a:srgbClr val="000000"/>
              </a:solidFill>
              <a:latin typeface="Times New Roman"/>
            </a:endParaRPr>
          </a:p>
          <a:p>
            <a:pPr marL="343080" indent="-343080">
              <a:spcBef>
                <a:spcPts val="700"/>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Societal impacts</a:t>
            </a:r>
            <a:endParaRPr b="0" lang="en-US" sz="2800" spc="-1" strike="noStrike">
              <a:solidFill>
                <a:srgbClr val="000000"/>
              </a:solidFill>
              <a:latin typeface="Times New Roman"/>
            </a:endParaRPr>
          </a:p>
          <a:p>
            <a:pPr lvl="1" marL="743040" indent="-285840">
              <a:spcBef>
                <a:spcPts val="60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Health, Damage and disaster mitigation</a:t>
            </a:r>
            <a:endParaRPr b="0" lang="en-US" sz="2400" spc="-1" strike="noStrike">
              <a:solidFill>
                <a:srgbClr val="000000"/>
              </a:solidFill>
              <a:latin typeface="Times New Roman"/>
            </a:endParaRPr>
          </a:p>
          <a:p>
            <a:pPr marL="343080" indent="-343080">
              <a:spcBef>
                <a:spcPts val="700"/>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Engineering</a:t>
            </a:r>
            <a:endParaRPr b="0" lang="en-US" sz="2800" spc="-1" strike="noStrike">
              <a:solidFill>
                <a:srgbClr val="000000"/>
              </a:solidFill>
              <a:latin typeface="Times New Roman"/>
            </a:endParaRPr>
          </a:p>
          <a:p>
            <a:pPr lvl="1" marL="743040" indent="-285840">
              <a:spcBef>
                <a:spcPts val="60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Instrument design and placement</a:t>
            </a:r>
            <a:endParaRPr b="0" lang="en-US" sz="2400" spc="-1" strike="noStrike">
              <a:solidFill>
                <a:srgbClr val="000000"/>
              </a:solidFill>
              <a:latin typeface="Times New Roman"/>
            </a:endParaRPr>
          </a:p>
          <a:p>
            <a:pPr marL="343080" indent="-343080">
              <a:spcBef>
                <a:spcPts val="700"/>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Science Polic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tting an Education</a:t>
            </a:r>
            <a:endParaRPr b="0" lang="en-US" sz="3600" spc="-1" strike="noStrike">
              <a:solidFill>
                <a:srgbClr val="000000"/>
              </a:solidFill>
              <a:latin typeface="Times New Roman"/>
            </a:endParaRPr>
          </a:p>
        </p:txBody>
      </p:sp>
      <p:sp>
        <p:nvSpPr>
          <p:cNvPr id="1214" name="PlaceHolder 2"/>
          <p:cNvSpPr>
            <a:spLocks noGrp="1"/>
          </p:cNvSpPr>
          <p:nvPr>
            <p:ph/>
          </p:nvPr>
        </p:nvSpPr>
        <p:spPr>
          <a:xfrm>
            <a:off x="685800" y="1981080"/>
            <a:ext cx="741672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helors of Science –Meteorology</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focus in physics and math</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ters of Science –Meteorology</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zed area</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D –Meteorology</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your own research</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or, Directo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staff</a:t>
            </a:r>
            <a:endParaRPr b="0" lang="en-US" sz="2400" spc="-1" strike="noStrike">
              <a:solidFill>
                <a:srgbClr val="000000"/>
              </a:solidFill>
              <a:latin typeface="Times New Roman"/>
            </a:endParaRPr>
          </a:p>
        </p:txBody>
      </p:sp>
      <p:pic>
        <p:nvPicPr>
          <p:cNvPr id="1215" name="Picture 1" descr="school_books_sml.jpg"/>
          <p:cNvPicPr/>
          <p:nvPr/>
        </p:nvPicPr>
        <p:blipFill>
          <a:blip r:embed="rId1"/>
          <a:stretch/>
        </p:blipFill>
        <p:spPr>
          <a:xfrm>
            <a:off x="6881760" y="4832280"/>
            <a:ext cx="1646280" cy="164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0c1"/>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757080" y="1290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OAA Programs and Educational Resources</a:t>
            </a:r>
            <a:br>
              <a:rPr sz="3000"/>
            </a:br>
            <a:r>
              <a:rPr b="0" lang="en-US" sz="3000" spc="-1" strike="noStrike">
                <a:solidFill>
                  <a:srgbClr val="000000"/>
                </a:solidFill>
                <a:latin typeface="Times New Roman"/>
              </a:rPr>
              <a:t>www.education.noaa.gov</a:t>
            </a:r>
            <a:endParaRPr b="0" lang="en-US" sz="3000" spc="-1" strike="noStrike">
              <a:solidFill>
                <a:srgbClr val="000000"/>
              </a:solidFill>
              <a:latin typeface="Times New Roman"/>
            </a:endParaRPr>
          </a:p>
        </p:txBody>
      </p:sp>
      <p:sp>
        <p:nvSpPr>
          <p:cNvPr id="1217" name="PlaceHolder 2"/>
          <p:cNvSpPr>
            <a:spLocks noGrp="1"/>
          </p:cNvSpPr>
          <p:nvPr>
            <p:ph/>
          </p:nvPr>
        </p:nvSpPr>
        <p:spPr>
          <a:xfrm>
            <a:off x="808200" y="2574720"/>
            <a:ext cx="8099280" cy="363996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tudents</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nest Hollings Undergraduate Scholarship Program</a:t>
            </a:r>
            <a:endParaRPr b="0" lang="en-US" sz="2000" spc="-1" strike="noStrike">
              <a:solidFill>
                <a:srgbClr val="000000"/>
              </a:solidFill>
              <a:latin typeface="Times New Roman"/>
            </a:endParaRPr>
          </a:p>
          <a:p>
            <a:pPr lvl="2" marL="114300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week internship, academic assistance during the year</a:t>
            </a:r>
            <a:endParaRPr b="0" lang="en-US" sz="1600" spc="-1" strike="noStrike">
              <a:solidFill>
                <a:srgbClr val="000000"/>
              </a:solidFill>
              <a:latin typeface="Times New Roman"/>
            </a:endParaRPr>
          </a:p>
          <a:p>
            <a:pPr lvl="2" marL="114300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Jan: Application period</a:t>
            </a:r>
            <a:endParaRPr b="0" lang="en-US" sz="16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oesd.noaa.gov/Hollings_info.html </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ucational Partnership Program</a:t>
            </a:r>
            <a:endParaRPr b="0" lang="en-US" sz="2000" spc="-1" strike="noStrike">
              <a:solidFill>
                <a:srgbClr val="000000"/>
              </a:solidFill>
              <a:latin typeface="Times New Roman"/>
            </a:endParaRPr>
          </a:p>
          <a:p>
            <a:pPr lvl="2" marL="114300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week internship, academic assistance. serving Minority Serving Institutions  </a:t>
            </a:r>
            <a:endParaRPr b="0" lang="en-US" sz="16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
              </a:rPr>
              <a:t>http://epp.noaa.gov</a:t>
            </a:r>
            <a:endParaRPr b="0" lang="en-US" sz="2000" spc="-1" strike="noStrike">
              <a:solidFill>
                <a:srgbClr val="000000"/>
              </a:solidFill>
              <a:latin typeface="Times New Roman"/>
            </a:endParaRPr>
          </a:p>
        </p:txBody>
      </p:sp>
      <p:pic>
        <p:nvPicPr>
          <p:cNvPr id="1218" name="Picture 7" descr="index_clip_image002"/>
          <p:cNvPicPr/>
          <p:nvPr/>
        </p:nvPicPr>
        <p:blipFill>
          <a:blip r:embed="rId2"/>
          <a:stretch/>
        </p:blipFill>
        <p:spPr>
          <a:xfrm>
            <a:off x="1819440" y="264960"/>
            <a:ext cx="4967280" cy="1001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e3b9"/>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35040" y="1201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Center for Atmospheric Research </a:t>
            </a:r>
            <a:endParaRPr b="0" lang="en-US" sz="3200" spc="-1" strike="noStrike">
              <a:solidFill>
                <a:srgbClr val="000000"/>
              </a:solidFill>
              <a:latin typeface="Times New Roman"/>
            </a:endParaRPr>
          </a:p>
        </p:txBody>
      </p:sp>
      <p:sp>
        <p:nvSpPr>
          <p:cNvPr id="1220" name="PlaceHolder 2"/>
          <p:cNvSpPr>
            <a:spLocks noGrp="1"/>
          </p:cNvSpPr>
          <p:nvPr>
            <p:ph/>
          </p:nvPr>
        </p:nvSpPr>
        <p:spPr>
          <a:xfrm>
            <a:off x="635040" y="2293560"/>
            <a:ext cx="7772400" cy="3616200"/>
          </a:xfrm>
          <a:prstGeom prst="rect">
            <a:avLst/>
          </a:prstGeom>
          <a:noFill/>
          <a:ln w="9360">
            <a:solidFill>
              <a:srgbClr val="000000"/>
            </a:solidFill>
            <a:miter/>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AR/Significant Opportunities in Atmospheric and  Related Sciences (SOARS) summer program</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week internship program at NCAR located Boulder, Colorado.</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r academic assistance </a:t>
            </a: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graduate Leadership Workshop</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day workshop in Boulder, CO</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 about atmos research topic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 opportunities within UCAR</a:t>
            </a:r>
            <a:endParaRPr b="0" lang="en-US" sz="2000" spc="-1" strike="noStrike">
              <a:solidFill>
                <a:srgbClr val="000000"/>
              </a:solidFill>
              <a:latin typeface="Times New Roman"/>
            </a:endParaRPr>
          </a:p>
        </p:txBody>
      </p:sp>
      <p:pic>
        <p:nvPicPr>
          <p:cNvPr id="1221" name="Picture 1" descr="spark.jpeg"/>
          <p:cNvPicPr/>
          <p:nvPr/>
        </p:nvPicPr>
        <p:blipFill>
          <a:blip r:embed="rId1"/>
          <a:stretch/>
        </p:blipFill>
        <p:spPr>
          <a:xfrm>
            <a:off x="2641680" y="376200"/>
            <a:ext cx="3251160" cy="104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99680" y="1701720"/>
            <a:ext cx="800100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ffice of Education</a:t>
            </a:r>
            <a:endParaRPr b="0" lang="en-US" sz="3800" spc="-1" strike="noStrike">
              <a:solidFill>
                <a:srgbClr val="000000"/>
              </a:solidFill>
              <a:latin typeface="Arial"/>
            </a:endParaRPr>
          </a:p>
        </p:txBody>
      </p:sp>
      <p:sp>
        <p:nvSpPr>
          <p:cNvPr id="1223" name="PlaceHolder 2"/>
          <p:cNvSpPr>
            <a:spLocks noGrp="1"/>
          </p:cNvSpPr>
          <p:nvPr>
            <p:ph/>
          </p:nvPr>
        </p:nvSpPr>
        <p:spPr>
          <a:xfrm>
            <a:off x="185400" y="2593800"/>
            <a:ext cx="8839080" cy="27403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ing 2014 internship application open</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ne 1-Oct. 11, 2013</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ships located throughout the US at NASA cent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ee sessions: Spring, Summer and Fall</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s://intern.nasa.gov/</a:t>
            </a:r>
            <a:endParaRPr b="0" lang="en-US" sz="2600" spc="-1" strike="noStrike">
              <a:solidFill>
                <a:srgbClr val="000000"/>
              </a:solidFill>
              <a:latin typeface="Arial"/>
            </a:endParaRPr>
          </a:p>
        </p:txBody>
      </p:sp>
      <p:pic>
        <p:nvPicPr>
          <p:cNvPr id="1224" name="Picture 1" descr="mast.png"/>
          <p:cNvPicPr/>
          <p:nvPr/>
        </p:nvPicPr>
        <p:blipFill>
          <a:blip r:embed="rId1"/>
          <a:stretch/>
        </p:blipFill>
        <p:spPr>
          <a:xfrm>
            <a:off x="0" y="669960"/>
            <a:ext cx="9144000" cy="7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9:05:21Z</dcterms:created>
  <dc:creator>Shirley Murillo</dc:creator>
  <dc:description/>
  <dc:language>en-US</dc:language>
  <cp:lastModifiedBy>Shirley Murillo</cp:lastModifiedBy>
  <dcterms:modified xsi:type="dcterms:W3CDTF">2013-08-22T17:46:24Z</dcterms:modified>
  <cp:revision>56</cp:revision>
  <dc:subject/>
  <dc:title>Slide 1</dc:title>
</cp:coreProperties>
</file>