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EBCE-249A-4BC5-974B-B5C5DE2BE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89E5-05BB-42AE-AE3E-060F5B5F7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6A9D-8614-4B16-91A8-4961C479E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25E3-FC75-4CEA-A233-1DB2694D4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D66-77D0-488D-AF13-F8999FAF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4B0-1861-4383-AB65-48F70E16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2FE-A797-43A2-87E9-F4074BA9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943-21FD-4FB8-A254-DA29AB47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281D-736A-45E5-915D-3F3942AD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8C3-DB06-47B6-AEE5-583A0769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D30-B222-4A55-82D4-A6229A3B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466-7718-415B-A2D6-2D12D541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92B9-7176-4B5C-A903-A5D37B3A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F5E-11F3-42F7-BEFA-C38B5976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203-2473-4A26-A7D0-769A5E22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947-EFF4-42F7-874E-152B56D8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2BAE-EB4D-4305-975E-4D3989F88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om vortex initialization to assimi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Sharan Majumd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RSMAS / University of Mi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CSDA/HFIP Workshop on Satellite DA in hurricanes, Dec 2-3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rcRect l="0" t="73476" r="0" b="0"/>
          <a:stretch/>
        </p:blipFill>
        <p:spPr>
          <a:xfrm>
            <a:off x="-38160" y="1004760"/>
            <a:ext cx="9182160" cy="3338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09480" y="44640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alibri"/>
              </a:rPr>
              <a:t>The use of TCDI produces a better initial intensity (in both SLP and winds) resulting in a better intensity forecast for Hurricane Bill (200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066680" y="395280"/>
            <a:ext cx="3505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504d"/>
                </a:solidFill>
                <a:uFillTx/>
                <a:latin typeface="Calibri"/>
              </a:rPr>
              <a:t>3DVAR + Synth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802560" y="395280"/>
            <a:ext cx="1274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504d"/>
                </a:solidFill>
                <a:uFillTx/>
                <a:latin typeface="Calibri"/>
              </a:rPr>
              <a:t>TC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0" y="7621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8077320" y="6324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R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Improved structure using TCDI in COAMPS-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300" spc="-1" strike="noStrike">
                <a:solidFill>
                  <a:srgbClr val="800000"/>
                </a:solidFill>
                <a:latin typeface="Arial Black"/>
              </a:rPr>
              <a:t>Example:  Choi-Wan (09W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rcRect l="4085" t="50578" r="3586" b="0"/>
          <a:stretch/>
        </p:blipFill>
        <p:spPr>
          <a:xfrm>
            <a:off x="304920" y="1981080"/>
            <a:ext cx="8610480" cy="27813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8077320" y="6324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R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tential community TC initialization code (RSM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Parameterized vortex profi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rtable code, model-independent, flex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ts as a ‘benchmark’ for initialization and DA methods to surpa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tho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ortex removal and relocation similar to GFDL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rect insertion of synthetic vortex in gradient + hydrostatic balance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t idealized profile to RMW, VMax, wind deca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tions for vertical wind profile and water vapor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d secondary circulation: mimic boundary layer convergence and upper-level outflow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7238880" y="6324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appin et 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61"/>
          <p:cNvGrpSpPr/>
          <p:nvPr/>
        </p:nvGrpSpPr>
        <p:grpSpPr>
          <a:xfrm>
            <a:off x="0" y="152280"/>
            <a:ext cx="9144000" cy="4148280"/>
            <a:chOff x="0" y="152280"/>
            <a:chExt cx="9144000" cy="4148280"/>
          </a:xfrm>
        </p:grpSpPr>
        <p:pic>
          <p:nvPicPr>
            <p:cNvPr id="140" name="Picture 40" descr="billbench2vtaninit.jpg"/>
            <p:cNvPicPr/>
            <p:nvPr/>
          </p:nvPicPr>
          <p:blipFill>
            <a:blip r:embed="rId1"/>
            <a:stretch/>
          </p:blipFill>
          <p:spPr>
            <a:xfrm>
              <a:off x="4495680" y="567000"/>
              <a:ext cx="2438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41" descr="billbogus2vtaninit.jpg"/>
            <p:cNvPicPr/>
            <p:nvPr/>
          </p:nvPicPr>
          <p:blipFill>
            <a:blip r:embed="rId2"/>
            <a:stretch/>
          </p:blipFill>
          <p:spPr>
            <a:xfrm>
              <a:off x="4495680" y="2471760"/>
              <a:ext cx="2438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4" descr="bill2bogusvplan.jpg"/>
            <p:cNvPicPr/>
            <p:nvPr/>
          </p:nvPicPr>
          <p:blipFill>
            <a:blip r:embed="rId3"/>
            <a:stretch/>
          </p:blipFill>
          <p:spPr>
            <a:xfrm>
              <a:off x="6705720" y="2471760"/>
              <a:ext cx="2438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5" descr="bill2benchvplan.jpg"/>
            <p:cNvPicPr/>
            <p:nvPr/>
          </p:nvPicPr>
          <p:blipFill>
            <a:blip r:embed="rId4"/>
            <a:stretch/>
          </p:blipFill>
          <p:spPr>
            <a:xfrm>
              <a:off x="6705720" y="567000"/>
              <a:ext cx="2438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36" descr="lilybenchvtaninit.jpg"/>
            <p:cNvPicPr/>
            <p:nvPr/>
          </p:nvPicPr>
          <p:blipFill>
            <a:blip r:embed="rId5"/>
            <a:stretch/>
          </p:blipFill>
          <p:spPr>
            <a:xfrm>
              <a:off x="0" y="567000"/>
              <a:ext cx="2438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7" descr="lilybogusvtaninit.jpg"/>
            <p:cNvPicPr/>
            <p:nvPr/>
          </p:nvPicPr>
          <p:blipFill>
            <a:blip r:embed="rId6"/>
            <a:stretch/>
          </p:blipFill>
          <p:spPr>
            <a:xfrm>
              <a:off x="0" y="2471760"/>
              <a:ext cx="2438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8" descr="lilybenchvplan.jpg"/>
            <p:cNvPicPr/>
            <p:nvPr/>
          </p:nvPicPr>
          <p:blipFill>
            <a:blip r:embed="rId7"/>
            <a:stretch/>
          </p:blipFill>
          <p:spPr>
            <a:xfrm>
              <a:off x="2209680" y="567000"/>
              <a:ext cx="2438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9" descr="lilybogusvplan.jpg"/>
            <p:cNvPicPr/>
            <p:nvPr/>
          </p:nvPicPr>
          <p:blipFill>
            <a:blip r:embed="rId8"/>
            <a:stretch/>
          </p:blipFill>
          <p:spPr>
            <a:xfrm>
              <a:off x="2209680" y="2471760"/>
              <a:ext cx="24382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43"/>
            <p:cNvSpPr/>
            <p:nvPr/>
          </p:nvSpPr>
          <p:spPr>
            <a:xfrm flipV="1" rot="10800000">
              <a:off x="380880" y="71892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NA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Box 47"/>
            <p:cNvSpPr/>
            <p:nvPr/>
          </p:nvSpPr>
          <p:spPr>
            <a:xfrm flipV="1" rot="10800000">
              <a:off x="2590560" y="718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NA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Box 48"/>
            <p:cNvSpPr/>
            <p:nvPr/>
          </p:nvSpPr>
          <p:spPr>
            <a:xfrm flipV="1" rot="10800000">
              <a:off x="4876920" y="71892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NA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Box 49"/>
            <p:cNvSpPr/>
            <p:nvPr/>
          </p:nvSpPr>
          <p:spPr>
            <a:xfrm flipV="1" rot="10800000">
              <a:off x="7086600" y="718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NA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50"/>
            <p:cNvSpPr/>
            <p:nvPr/>
          </p:nvSpPr>
          <p:spPr>
            <a:xfrm flipV="1" rot="10800000">
              <a:off x="380880" y="266652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OG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Box 51"/>
            <p:cNvSpPr/>
            <p:nvPr/>
          </p:nvSpPr>
          <p:spPr>
            <a:xfrm flipV="1" rot="10800000">
              <a:off x="2590560" y="26665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OG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52"/>
            <p:cNvSpPr/>
            <p:nvPr/>
          </p:nvSpPr>
          <p:spPr>
            <a:xfrm flipV="1" rot="10800000">
              <a:off x="4876920" y="2666520"/>
              <a:ext cx="9144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OG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53"/>
            <p:cNvSpPr/>
            <p:nvPr/>
          </p:nvSpPr>
          <p:spPr>
            <a:xfrm flipV="1" rot="10800000">
              <a:off x="7086600" y="26665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OG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TextBox 54"/>
            <p:cNvSpPr/>
            <p:nvPr/>
          </p:nvSpPr>
          <p:spPr>
            <a:xfrm flipV="1" rot="10800000">
              <a:off x="1752480" y="151920"/>
              <a:ext cx="16761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ropical Stor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55"/>
            <p:cNvSpPr/>
            <p:nvPr/>
          </p:nvSpPr>
          <p:spPr>
            <a:xfrm flipV="1" rot="10800000">
              <a:off x="5943600" y="151920"/>
              <a:ext cx="2209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ategory-4 typho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Straight Connector 56"/>
            <p:cNvSpPr/>
            <p:nvPr/>
          </p:nvSpPr>
          <p:spPr>
            <a:xfrm>
              <a:off x="4572000" y="185760"/>
              <a:ext cx="0" cy="40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TextBox 22"/>
          <p:cNvSpPr/>
          <p:nvPr/>
        </p:nvSpPr>
        <p:spPr>
          <a:xfrm>
            <a:off x="228600" y="419112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gus = parameterized profile that best fits corresponding parameters sampled from nature r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ynamics in initial conditions here are consistent with dynamics in model and our synthetic ‘nature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reality: initial conditions, model and nature are inconsis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23"/>
          <p:cNvSpPr/>
          <p:nvPr/>
        </p:nvSpPr>
        <p:spPr>
          <a:xfrm>
            <a:off x="7238880" y="6324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appin et 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2"/>
          <p:cNvGrpSpPr/>
          <p:nvPr/>
        </p:nvGrpSpPr>
        <p:grpSpPr>
          <a:xfrm>
            <a:off x="687240" y="76320"/>
            <a:ext cx="7736040" cy="6172200"/>
            <a:chOff x="687240" y="76320"/>
            <a:chExt cx="7736040" cy="6172200"/>
          </a:xfrm>
        </p:grpSpPr>
        <p:pic>
          <p:nvPicPr>
            <p:cNvPr id="162" name="Picture 3" descr="bill1track.jpg"/>
            <p:cNvPicPr/>
            <p:nvPr/>
          </p:nvPicPr>
          <p:blipFill>
            <a:blip r:embed="rId1"/>
            <a:stretch/>
          </p:blipFill>
          <p:spPr>
            <a:xfrm>
              <a:off x="891000" y="91800"/>
              <a:ext cx="3306240" cy="30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7" descr="lilytrack.jpg"/>
            <p:cNvPicPr/>
            <p:nvPr/>
          </p:nvPicPr>
          <p:blipFill>
            <a:blip r:embed="rId2"/>
            <a:stretch/>
          </p:blipFill>
          <p:spPr>
            <a:xfrm>
              <a:off x="4620960" y="76320"/>
              <a:ext cx="3729600" cy="30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8" descr="lilyv.jpg"/>
            <p:cNvPicPr/>
            <p:nvPr/>
          </p:nvPicPr>
          <p:blipFill>
            <a:blip r:embed="rId3"/>
            <a:stretch/>
          </p:blipFill>
          <p:spPr>
            <a:xfrm>
              <a:off x="4693680" y="3217320"/>
              <a:ext cx="3729600" cy="30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0" descr="bill1v.jpg"/>
            <p:cNvPicPr/>
            <p:nvPr/>
          </p:nvPicPr>
          <p:blipFill>
            <a:blip r:embed="rId4"/>
            <a:stretch/>
          </p:blipFill>
          <p:spPr>
            <a:xfrm>
              <a:off x="687240" y="3233160"/>
              <a:ext cx="3729600" cy="301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TextBox 21"/>
          <p:cNvSpPr/>
          <p:nvPr/>
        </p:nvSpPr>
        <p:spPr>
          <a:xfrm>
            <a:off x="7238880" y="6324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appin et 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otential use of satellite win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directly in initialization – e.g. fit of spun-up idealized vortex to satellite win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o initialize upper-level divergen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rive secondary circ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simply assimila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 DA provide adequate secondary circulation or would the increment be confined to upper leve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div_animate_compare.gif" descr="/Users/howardb/tparc/scripts/div_animate_compare.gif"/>
          <p:cNvPicPr/>
          <p:nvPr/>
        </p:nvPicPr>
        <p:blipFill>
          <a:blip r:embed="rId1"/>
          <a:stretch/>
        </p:blipFill>
        <p:spPr>
          <a:xfrm>
            <a:off x="0" y="0"/>
            <a:ext cx="9175680" cy="61167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5"/>
          <p:cNvSpPr/>
          <p:nvPr/>
        </p:nvSpPr>
        <p:spPr>
          <a:xfrm>
            <a:off x="1499400" y="471960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ional Hourly AMV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6283080" y="471960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apid-Scan AMV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250 hPa divergence and upper-level AMV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80010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IM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NOPP/HFIP project (PI: Velden, CIMSS, collaborators: U.Miami, NCAR, NRL, NESDIS, AOM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5235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Use multiple and integrated satellite data sets at their highest resolution (minimize thinning, maximize information content), in a high-resolution analysis/forecast system for tropical cycl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current satellite data spatial resolutions, a 27/9 km nested WRF framework may be adequ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lore first using EnKF within NCAR WRF/DART framework. Then explore Navy COAMPS-TC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k an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optimal assimilation strategy for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ea typeface="ＭＳ Ｐゴシック"/>
              </a:rPr>
              <a:t>integrated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 satellite 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not just one data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28680" y="76320"/>
            <a:ext cx="84866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A experiments in Year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” dataset prepared, all data excluding satellite radianc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data listed below processed at CIM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WRF/EnKF, examining impact of assimil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urly satellite cloud wi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-scan satellite cloud wi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S T and Q soun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7162920" y="6396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i Liu, NC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5" descr="track_ernesto_anl.png"/>
          <p:cNvPicPr/>
          <p:nvPr/>
        </p:nvPicPr>
        <p:blipFill>
          <a:blip r:embed="rId1"/>
          <a:srcRect l="48952" t="46095" r="0" b="0"/>
          <a:stretch/>
        </p:blipFill>
        <p:spPr>
          <a:xfrm>
            <a:off x="6172200" y="4154400"/>
            <a:ext cx="281952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o provide accurate initial cond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1494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tructure of vortex should be dynamically and thermodynamically consistent with mechanisms occurring in TC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pecified vortex should be compatible with resolution and physics of prediction mod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Need accurate representation of mesoscale structures, not always balanced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It has not yet been demonstrated quantitatively that assimilation is superior to initializ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ck of peer-reviewed publications 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cal review of initialization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nest appraisal of DA (Torn 2010 in pr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tive forecast sensitivity to initial conditions in the storm versus the 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quire 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improved understanding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f how initialization and DA project analysis onto mechanisms captured in forward mode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Need to understand how mechanisms in forward model project onto reality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plore </a:t>
            </a:r>
            <a:r>
              <a:rPr b="0" lang="en-US" sz="2700" spc="-1" strike="noStrike">
                <a:solidFill>
                  <a:srgbClr val="7030a0"/>
                </a:solidFill>
                <a:latin typeface="Calibri"/>
              </a:rPr>
              <a:t>combination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f initialization and DA – exploit their respective strengths in blended product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nitialization to Assimi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52280" y="239868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ure” Initi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2438280" y="2143080"/>
            <a:ext cx="198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Initialization plus assimi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934320" y="239868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ure”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Assimi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457200" y="359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GFD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2590920" y="3610080"/>
            <a:ext cx="1752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HWRF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NRL (COAMPS-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4572000" y="2143080"/>
            <a:ext cx="2057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Assimilation of synthetic / bogus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724280" y="3592440"/>
            <a:ext cx="198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UKMet, NOGAPS, JMA, operational COAMPS-TC,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6858000" y="3570120"/>
            <a:ext cx="228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GFS (after relocation), ECMWF, EnKF research (Torn, Zhang, AOML, NRL…), 4d-V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ight Arrow 12"/>
          <p:cNvSpPr/>
          <p:nvPr/>
        </p:nvSpPr>
        <p:spPr>
          <a:xfrm>
            <a:off x="304920" y="1066680"/>
            <a:ext cx="8686800" cy="11430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he case for assimi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240" y="15998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computation of initial fields based on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real d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m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theoretical ba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dvance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4d-Var and EnKF (and hybrid techniqu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Initialization requires assump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structure via parametric fits to observations or best track; in contrast, assimilation lets full model handle th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ization can be particularly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poor for INVESTs / TDs / sheared stor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he case for 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d-Var and EnKF at &lt;4 km resolution and high temporal frequency (at least every 3 hours?) are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very expensi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ation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lear about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dynamical consistenc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analyzed vortex in DA and actual 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increments violate theoretical assumpt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rrect balance constrai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Inaccurate covarianc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in 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Initialization is relatively chea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offers some level of dynamical consist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nitialization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FDL and HWR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RL COAMPS-TC Dynamic Initi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SMAS Direct Inser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ellite data: initialization or assimil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finalenv.png"/>
          <p:cNvPicPr/>
          <p:nvPr/>
        </p:nvPicPr>
        <p:blipFill>
          <a:blip r:embed="rId1"/>
          <a:srcRect l="16390" t="6666" r="0" b="0"/>
          <a:stretch/>
        </p:blipFill>
        <p:spPr>
          <a:xfrm>
            <a:off x="5715000" y="0"/>
            <a:ext cx="3352680" cy="6400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533520" y="1219320"/>
            <a:ext cx="4572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7030a0"/>
                </a:solidFill>
                <a:latin typeface="Calibri"/>
              </a:rPr>
              <a:t>ENVIRONENTAL FIELD  =  BASIC FIELD + DISTURBANCE FIELD   –   GLOBAL VORT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152280" y="76320"/>
            <a:ext cx="5639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e vortex from global analy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ute environmental fie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in-up axisymmetric integration of GFDL model, force tangential wind towards observed storm struc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ute storm asymmetries determined from vortex fields in previous forecast cy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ert symmetric and asymmetric vortex into environmental field at observed position; rebalance mass field in vort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8077320" y="6324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FD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8" descr="HWRF_high_level_initialization_overview_withGSI"/>
          <p:cNvPicPr/>
          <p:nvPr/>
        </p:nvPicPr>
        <p:blipFill>
          <a:blip r:embed="rId1"/>
          <a:stretch/>
        </p:blipFill>
        <p:spPr>
          <a:xfrm>
            <a:off x="863640" y="0"/>
            <a:ext cx="7331040" cy="6858000"/>
          </a:xfrm>
          <a:prstGeom prst="rect">
            <a:avLst/>
          </a:prstGeom>
          <a:ln w="0">
            <a:noFill/>
          </a:ln>
        </p:spPr>
      </p:pic>
      <p:cxnSp>
        <p:nvCxnSpPr>
          <p:cNvPr id="73" name="Elbow Connector 6"/>
          <p:cNvCxnSpPr/>
          <p:nvPr/>
        </p:nvCxnSpPr>
        <p:spPr>
          <a:xfrm>
            <a:off x="4723920" y="4038480"/>
            <a:ext cx="2972520" cy="53424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7"/>
          <p:cNvCxnSpPr/>
          <p:nvPr/>
        </p:nvCxnSpPr>
        <p:spPr>
          <a:xfrm flipV="1">
            <a:off x="7617240" y="3887280"/>
            <a:ext cx="3960" cy="766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TextBox 8"/>
          <p:cNvSpPr/>
          <p:nvPr/>
        </p:nvSpPr>
        <p:spPr>
          <a:xfrm>
            <a:off x="8077320" y="6324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M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4267080" y="1219320"/>
            <a:ext cx="4572000" cy="4586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*Vorte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5920" indent="-115920">
              <a:spcBef>
                <a:spcPts val="45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Currently created by hydrostatic version of TCM3 model (future plans will use ideal version of COAMPS-T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5920" indent="-115920">
              <a:spcBef>
                <a:spcPts val="45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Idealized sim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5920" indent="-115920">
              <a:spcBef>
                <a:spcPts val="45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SLP field nudged in over 48 h spin-up r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5920" indent="-115920">
              <a:spcBef>
                <a:spcPts val="45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TCM3 spin-up fields inserted into COAMPS-TC initial conditions within specified radius, followed by blending zone into the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5920" indent="-115920">
              <a:spcBef>
                <a:spcPts val="45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For automation and efficiency, master script chooses vortex closest to observed intensity </a:t>
            </a:r>
            <a:r>
              <a:rPr b="0" lang="en-US" sz="1800" spc="-1" strike="noStrike">
                <a:solidFill>
                  <a:srgbClr val="800000"/>
                </a:solidFill>
                <a:latin typeface="Calibri"/>
              </a:rPr>
              <a:t>(using pre-existing lookup table of vortices spun-up to different intensities from 900-1010 m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380880" y="1219320"/>
            <a:ext cx="3498840" cy="4572000"/>
            <a:chOff x="380880" y="1219320"/>
            <a:chExt cx="3498840" cy="4572000"/>
          </a:xfrm>
        </p:grpSpPr>
        <p:sp>
          <p:nvSpPr>
            <p:cNvPr id="78" name="Rectangle 7"/>
            <p:cNvSpPr/>
            <p:nvPr/>
          </p:nvSpPr>
          <p:spPr>
            <a:xfrm>
              <a:off x="1125360" y="1219320"/>
              <a:ext cx="2754360" cy="45720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NOGAPS/NCEP analy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8"/>
            <p:cNvSpPr/>
            <p:nvPr/>
          </p:nvSpPr>
          <p:spPr>
            <a:xfrm>
              <a:off x="1423800" y="2460600"/>
              <a:ext cx="2084400" cy="58752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DVA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ata assimil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9"/>
            <p:cNvSpPr/>
            <p:nvPr/>
          </p:nvSpPr>
          <p:spPr>
            <a:xfrm>
              <a:off x="1423800" y="3505320"/>
              <a:ext cx="2084400" cy="45720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emove TC vorte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tangle 10"/>
            <p:cNvSpPr/>
            <p:nvPr/>
          </p:nvSpPr>
          <p:spPr>
            <a:xfrm>
              <a:off x="1423800" y="4354560"/>
              <a:ext cx="2084400" cy="52236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nsert vortex*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11"/>
            <p:cNvSpPr/>
            <p:nvPr/>
          </p:nvSpPr>
          <p:spPr>
            <a:xfrm>
              <a:off x="1349280" y="5334120"/>
              <a:ext cx="2233800" cy="45720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un forecast 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12"/>
            <p:cNvSpPr/>
            <p:nvPr/>
          </p:nvSpPr>
          <p:spPr>
            <a:xfrm flipH="1">
              <a:off x="752400" y="5529240"/>
              <a:ext cx="596880" cy="1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13"/>
            <p:cNvSpPr/>
            <p:nvPr/>
          </p:nvSpPr>
          <p:spPr>
            <a:xfrm flipV="1">
              <a:off x="768240" y="2734920"/>
              <a:ext cx="0" cy="279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14"/>
            <p:cNvSpPr/>
            <p:nvPr/>
          </p:nvSpPr>
          <p:spPr>
            <a:xfrm>
              <a:off x="768240" y="2754360"/>
              <a:ext cx="65556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15"/>
            <p:cNvSpPr/>
            <p:nvPr/>
          </p:nvSpPr>
          <p:spPr>
            <a:xfrm>
              <a:off x="2465280" y="1676520"/>
              <a:ext cx="0" cy="78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16"/>
            <p:cNvSpPr/>
            <p:nvPr/>
          </p:nvSpPr>
          <p:spPr>
            <a:xfrm>
              <a:off x="380880" y="3886200"/>
              <a:ext cx="760680" cy="62712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alibri"/>
                </a:rPr>
                <a:t>War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alibri"/>
                </a:rPr>
                <a:t>Start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17"/>
            <p:cNvSpPr/>
            <p:nvPr/>
          </p:nvSpPr>
          <p:spPr>
            <a:xfrm>
              <a:off x="1795320" y="1938600"/>
              <a:ext cx="1414440" cy="26028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alibri"/>
                </a:rPr>
                <a:t>Cold Star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2465280" y="3048120"/>
              <a:ext cx="0" cy="49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19"/>
            <p:cNvSpPr/>
            <p:nvPr/>
          </p:nvSpPr>
          <p:spPr>
            <a:xfrm>
              <a:off x="2441520" y="4876920"/>
              <a:ext cx="0" cy="49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2465280" y="3962520"/>
              <a:ext cx="0" cy="4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21"/>
            <p:cNvSpPr/>
            <p:nvPr/>
          </p:nvSpPr>
          <p:spPr>
            <a:xfrm>
              <a:off x="1125360" y="1219320"/>
              <a:ext cx="2754360" cy="45720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NOGAPS/NCEP analy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22"/>
            <p:cNvSpPr/>
            <p:nvPr/>
          </p:nvSpPr>
          <p:spPr>
            <a:xfrm>
              <a:off x="1423800" y="2460600"/>
              <a:ext cx="2084400" cy="58752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DVA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ata assimil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23"/>
            <p:cNvSpPr/>
            <p:nvPr/>
          </p:nvSpPr>
          <p:spPr>
            <a:xfrm>
              <a:off x="1795320" y="1938600"/>
              <a:ext cx="1414440" cy="26028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alibri"/>
                </a:rPr>
                <a:t>Cold Star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24"/>
            <p:cNvSpPr/>
            <p:nvPr/>
          </p:nvSpPr>
          <p:spPr>
            <a:xfrm>
              <a:off x="1125360" y="1219320"/>
              <a:ext cx="2754360" cy="45720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NOGAPS/NCEP analy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25"/>
            <p:cNvSpPr/>
            <p:nvPr/>
          </p:nvSpPr>
          <p:spPr>
            <a:xfrm>
              <a:off x="1423800" y="2460600"/>
              <a:ext cx="2084400" cy="58752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DVA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ata assimil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26"/>
            <p:cNvSpPr/>
            <p:nvPr/>
          </p:nvSpPr>
          <p:spPr>
            <a:xfrm>
              <a:off x="1125360" y="1219320"/>
              <a:ext cx="2754360" cy="45720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NOGAPS/NCEP analy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27"/>
            <p:cNvSpPr/>
            <p:nvPr/>
          </p:nvSpPr>
          <p:spPr>
            <a:xfrm>
              <a:off x="1795320" y="1938600"/>
              <a:ext cx="1414440" cy="26028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alibri"/>
                </a:rPr>
                <a:t>Cold Star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28"/>
            <p:cNvSpPr/>
            <p:nvPr/>
          </p:nvSpPr>
          <p:spPr>
            <a:xfrm>
              <a:off x="1125360" y="1219320"/>
              <a:ext cx="2754360" cy="45720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NOGAPS/NCEP analy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29"/>
            <p:cNvSpPr/>
            <p:nvPr/>
          </p:nvSpPr>
          <p:spPr>
            <a:xfrm>
              <a:off x="1423800" y="2460600"/>
              <a:ext cx="2084400" cy="58752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DVA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ata assimil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30"/>
            <p:cNvSpPr/>
            <p:nvPr/>
          </p:nvSpPr>
          <p:spPr>
            <a:xfrm>
              <a:off x="1795320" y="1938600"/>
              <a:ext cx="1414440" cy="26028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alibri"/>
                </a:rPr>
                <a:t>Cold Star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1"/>
            <p:cNvSpPr/>
            <p:nvPr/>
          </p:nvSpPr>
          <p:spPr>
            <a:xfrm>
              <a:off x="1125360" y="1219320"/>
              <a:ext cx="2754360" cy="45720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NOGAPS/NCEP analy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2"/>
            <p:cNvSpPr/>
            <p:nvPr/>
          </p:nvSpPr>
          <p:spPr>
            <a:xfrm>
              <a:off x="1423800" y="3505320"/>
              <a:ext cx="2084400" cy="45720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emove TC vorte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3"/>
            <p:cNvSpPr/>
            <p:nvPr/>
          </p:nvSpPr>
          <p:spPr>
            <a:xfrm>
              <a:off x="1423800" y="2460600"/>
              <a:ext cx="2084400" cy="58752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DVA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ata assimil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4"/>
            <p:cNvSpPr/>
            <p:nvPr/>
          </p:nvSpPr>
          <p:spPr>
            <a:xfrm>
              <a:off x="1795320" y="1938600"/>
              <a:ext cx="1414440" cy="26028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alibri"/>
                </a:rPr>
                <a:t>Cold Star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5"/>
            <p:cNvSpPr/>
            <p:nvPr/>
          </p:nvSpPr>
          <p:spPr>
            <a:xfrm>
              <a:off x="1125360" y="1219320"/>
              <a:ext cx="2754360" cy="45720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NOGAPS/NCEP analy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6"/>
            <p:cNvSpPr/>
            <p:nvPr/>
          </p:nvSpPr>
          <p:spPr>
            <a:xfrm>
              <a:off x="1423800" y="4354560"/>
              <a:ext cx="2084400" cy="52236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nsert vortex*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37"/>
            <p:cNvSpPr/>
            <p:nvPr/>
          </p:nvSpPr>
          <p:spPr>
            <a:xfrm>
              <a:off x="1423800" y="3505320"/>
              <a:ext cx="2084400" cy="45720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emove TC vorte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38"/>
            <p:cNvSpPr/>
            <p:nvPr/>
          </p:nvSpPr>
          <p:spPr>
            <a:xfrm>
              <a:off x="1423800" y="2460600"/>
              <a:ext cx="2084400" cy="58752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DVA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ata assimil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39"/>
            <p:cNvSpPr/>
            <p:nvPr/>
          </p:nvSpPr>
          <p:spPr>
            <a:xfrm>
              <a:off x="1795320" y="1938600"/>
              <a:ext cx="1414440" cy="26028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alibri"/>
                </a:rPr>
                <a:t>Cold Star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40"/>
            <p:cNvSpPr/>
            <p:nvPr/>
          </p:nvSpPr>
          <p:spPr>
            <a:xfrm>
              <a:off x="1125360" y="1219320"/>
              <a:ext cx="2754360" cy="45720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NOGAPS/NCEP analy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41"/>
            <p:cNvSpPr/>
            <p:nvPr/>
          </p:nvSpPr>
          <p:spPr>
            <a:xfrm>
              <a:off x="1349280" y="5334120"/>
              <a:ext cx="2233800" cy="45720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un forecast 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1423800" y="4354560"/>
              <a:ext cx="2084400" cy="52236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nsert vortex*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43"/>
            <p:cNvSpPr/>
            <p:nvPr/>
          </p:nvSpPr>
          <p:spPr>
            <a:xfrm>
              <a:off x="1423800" y="3505320"/>
              <a:ext cx="2084400" cy="45720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emove TC vorte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44"/>
            <p:cNvSpPr/>
            <p:nvPr/>
          </p:nvSpPr>
          <p:spPr>
            <a:xfrm>
              <a:off x="1423800" y="2460600"/>
              <a:ext cx="2084400" cy="58752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DVA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ata assimil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45"/>
            <p:cNvSpPr/>
            <p:nvPr/>
          </p:nvSpPr>
          <p:spPr>
            <a:xfrm>
              <a:off x="1795320" y="1938600"/>
              <a:ext cx="1414440" cy="26028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alibri"/>
                </a:rPr>
                <a:t>Cold Star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46"/>
            <p:cNvSpPr/>
            <p:nvPr/>
          </p:nvSpPr>
          <p:spPr>
            <a:xfrm>
              <a:off x="1125360" y="1219320"/>
              <a:ext cx="2754360" cy="457200"/>
            </a:xfrm>
            <a:prstGeom prst="rect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NOGAPS/NCEP analy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47"/>
            <p:cNvSpPr/>
            <p:nvPr/>
          </p:nvSpPr>
          <p:spPr>
            <a:xfrm>
              <a:off x="380880" y="3886200"/>
              <a:ext cx="760680" cy="6271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alibri"/>
                </a:rPr>
                <a:t>War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alibri"/>
                </a:rPr>
                <a:t>Start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48"/>
            <p:cNvSpPr/>
            <p:nvPr/>
          </p:nvSpPr>
          <p:spPr>
            <a:xfrm>
              <a:off x="1349280" y="5334120"/>
              <a:ext cx="223380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Calibri"/>
                </a:rPr>
                <a:t>Run forecast 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49"/>
            <p:cNvSpPr/>
            <p:nvPr/>
          </p:nvSpPr>
          <p:spPr>
            <a:xfrm>
              <a:off x="1423800" y="4354560"/>
              <a:ext cx="2084400" cy="52236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3366"/>
                  </a:solidFill>
                  <a:latin typeface="Arial Black"/>
                </a:rPr>
                <a:t>Insert vortex*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50"/>
            <p:cNvSpPr/>
            <p:nvPr/>
          </p:nvSpPr>
          <p:spPr>
            <a:xfrm>
              <a:off x="1423800" y="3505320"/>
              <a:ext cx="208440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Calibri"/>
                </a:rPr>
                <a:t>Remove TC vorte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51"/>
            <p:cNvSpPr/>
            <p:nvPr/>
          </p:nvSpPr>
          <p:spPr>
            <a:xfrm>
              <a:off x="1423800" y="2460600"/>
              <a:ext cx="2084400" cy="5875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Calibri"/>
                </a:rPr>
                <a:t>3DVA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Calibri"/>
                </a:rPr>
                <a:t>data assimil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52"/>
            <p:cNvSpPr/>
            <p:nvPr/>
          </p:nvSpPr>
          <p:spPr>
            <a:xfrm>
              <a:off x="1795320" y="1938600"/>
              <a:ext cx="1414440" cy="2602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alibri"/>
                </a:rPr>
                <a:t>Cold Star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53"/>
            <p:cNvSpPr/>
            <p:nvPr/>
          </p:nvSpPr>
          <p:spPr>
            <a:xfrm>
              <a:off x="1125360" y="1219320"/>
              <a:ext cx="27543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Calibri"/>
                </a:rPr>
                <a:t>NOGAPS/NCEP analy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</a:rPr>
              <a:t>Tropical Cyclone Dynamic Initialization (TCD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51"/>
          <p:cNvSpPr/>
          <p:nvPr/>
        </p:nvSpPr>
        <p:spPr>
          <a:xfrm>
            <a:off x="8077320" y="6324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R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3:35:30Z</dcterms:created>
  <dc:creator>Sharan</dc:creator>
  <dc:description/>
  <dc:language>en-US</dc:language>
  <cp:lastModifiedBy>Sharan</cp:lastModifiedBy>
  <dcterms:modified xsi:type="dcterms:W3CDTF">2010-12-02T17:16:43Z</dcterms:modified>
  <cp:revision>317</cp:revision>
  <dc:subject/>
  <dc:title>Slide 1</dc:title>
</cp:coreProperties>
</file>