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ncep_80"/>
          <p:cNvPicPr/>
          <p:nvPr/>
        </p:nvPicPr>
        <p:blipFill>
          <a:blip r:embed="rId2"/>
          <a:stretch/>
        </p:blipFill>
        <p:spPr>
          <a:xfrm>
            <a:off x="3886200" y="152280"/>
            <a:ext cx="1066680" cy="623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28" descr="nwslogo5"/>
          <p:cNvPicPr/>
          <p:nvPr/>
        </p:nvPicPr>
        <p:blipFill>
          <a:blip r:embed="rId3"/>
          <a:stretch/>
        </p:blipFill>
        <p:spPr>
          <a:xfrm>
            <a:off x="685800" y="152280"/>
            <a:ext cx="6858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31" descr="noaalogo"/>
          <p:cNvPicPr/>
          <p:nvPr/>
        </p:nvPicPr>
        <p:blipFill>
          <a:blip r:embed="rId4"/>
          <a:stretch/>
        </p:blipFill>
        <p:spPr>
          <a:xfrm>
            <a:off x="7696080" y="152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769608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652E-7DB8-4B41-9CD3-DC6B779094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CEP data assimilation systems status and pla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C. Der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al Model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CEP/NWS/NO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input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ed Ba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suing multiple paths to improve balance in initial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processing (after relocation and/or after analy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sion of improved balance with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sion of TLNMI in regiona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through Hybrid assimil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roved use of current obser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ing CRTM – surface emissivity, non-LT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additional effects in Radiative transfer calculations, FOV size and shape, Clouds, trace gases, aerosol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suing more accurate observational data base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revised observational data base to allow improved quality control based on recent his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GPS-RO bending angles rather than refr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rricane Data Assim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sion of aircraft Doppler wi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storm relocation code (w/ MIT) to improve relocation of hurricane.  External to analysis code and requiring separate balancing 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diabatic effects into GSI Balance and further enhancements to balanc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capability to incorporate microwave cloudy radi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Hurricane hybrid ensemble/GSI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storm relocation code within GSI (to allow direct use of balance code and account for background error proper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bo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borations allow more straightforward inclusion of new develop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t ensure that collaborations don’t slow us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e management becomes much more difficu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groups must conform to Collaboration requi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funding agencies, multiple bosses, different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 of new data still slow and difficult because many new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handling system and quality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milation of clouds and precip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satellite radiances in regional systems (bias corr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 implement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Implementation Q1FY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of NOAA-19 AMSU-A/B, H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of RARS 1b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of NOAA-18 SBUV/2 and 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milate EUMETSAT-9 wind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Hurricane central pressure e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use of GPS RO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Dry mass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of 2 additional GPS RO satellites in Q2FY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for FY11 impleme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mplementations should be snapshots on tru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rt branches created when problem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enhancements completed (extracted from trac p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roved OMI Q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al of redundant SBUV/2 total oz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ne SBUV/2 ozone ob err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ax AMSU-A Channel 5 Q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version of CRTM 2.0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sion of Field of View Size/Shape/Power for Radiative trans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ve down weighting of collocated radia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 moisture to be &gt;= 1.e-10 in each outer iteration and at end of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ASCAT wi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rove location of Buoys in vertical (move from 20 to 10m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roved GSI code with optimization and additional o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for FY11 impleme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enhancements completed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Radar and Lightning data IO and cloud analysis for 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I Bundle to generalize code/analysi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brid use of ensembles for global (regional soon) system (Dual resol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analysis tools to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 background error covariance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grade quality control of MHS/AMSU-B water vapor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reading of Aerosol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ression tests for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for FY11 impleme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hancements underway (extracted from tr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D-Var system using perturb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Makefile for multiple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more tools into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assimilation of TMI rainrate using improved convection paramete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sion of moist physics in TLN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noise reduction in processing of SSM/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F16-F18 SSM/IS data in GSI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d radiance bias correction (preconditioning, updating channels not used and incorporate angle dependent part inside G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external estimates of trace gases in CR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pare for FY11 impleme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hancements underway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sion of addition (higher peaking) IASI/AIRS moisture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sion of AMSR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localization options for hybrid EnKF/G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sensitivity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T analysis within G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PS RO bending angle and use of compressibility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al strong constr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sion of aerosols in CR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code clean-up and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im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MC we do not have resources to develop and maintain Global, Regional, Mesoscale, RTMA, AQ, Analysis of Record systems of different structures and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system – GSI – GSI/ENKF hyb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ments meant for one application of the system should be applicable for other systems and should benefit other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certain uniformity across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assimilation group collabo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– 4dVar – Constituent and Aerosol assim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al/Mesoscale – Support Universities and other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al – Rapid Refr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bri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CAR/AF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al – Operational – A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CS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borative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2743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Code 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ous meetings with developme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management and oversight group beginning through D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Assimilation  - EnKF/vari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d-V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cloud/precipitatio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of cloudy rad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use of curren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m re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brid EnKF/GSI assimi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 of background error covariance defined by ensem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uation dependent background 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roved balance between variables (includes all variables including ozone and mois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ing beginning for global system (Whitaker based), but computational resources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gjing working on hurrican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regional/hurricane system use global ensembles? Being tested – substantial cost sav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-variable interactions may not always be good (e.g., influence of ozone observations on wind fie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run ensembles and high resolution system whenever changes to either system or the hybri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rther development work may be necessary to properly handle model b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D-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used to define trajectory of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perturbation model formulation for multipl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e, GSI structure enabled (GMAO) – perturbations model developed and being incorpo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antial increase in computational resources will be required for assimilation – lower resolution perturbation model forec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variable interactions may not always be good (e.g., influence of ozone observations on wind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aintenance of tangent linear and adjoi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roved Cloud/precipitation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TM cloud and precipitation cap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cloud/precipitation physics in analysi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work to include cloudy microwave radiances 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 radiances being included through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-variable covariances will be handled by ensemble co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ations for bias correction and qualit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ing for use of NPP/JPSS  and GOES-R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on including more IASI and AIRS moisture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ing to include SSM/IS F16-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AMSR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ing quality control for AMSU-A, AMSU-B and MHS resulting in use of mor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additional GPS-RO platfor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on inclusion of SEVIRI rad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sion of aircraft based doppler win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6:27:19Z</dcterms:created>
  <dc:creator>John Derber</dc:creator>
  <dc:description/>
  <dc:language>en-US</dc:language>
  <cp:lastModifiedBy> John Derber</cp:lastModifiedBy>
  <dcterms:modified xsi:type="dcterms:W3CDTF">2010-12-01T13:38:23Z</dcterms:modified>
  <cp:revision>155</cp:revision>
  <dc:subject/>
  <dc:title>Data Assimilation and the use of Satellite Observations</dc:title>
</cp:coreProperties>
</file>