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27"/>
          </p:nvPr>
        </p:nvSpPr>
        <p:spPr>
          <a:xfrm>
            <a:off x="3962160" y="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28"/>
          </p:nvPr>
        </p:nvSpPr>
        <p:spPr>
          <a:xfrm>
            <a:off x="-3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29"/>
          </p:nvPr>
        </p:nvSpPr>
        <p:spPr>
          <a:xfrm>
            <a:off x="396216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7B1395-16D6-496F-8E6E-679EA2147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7E78743-7254-4361-BA71-8AA2C405C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0D672F8-68B4-4030-83AE-5529EC2C9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3E97EAC-4E19-48F4-BB9D-8EA40571E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0EC12E-538B-4C05-B86C-E518EB29DF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AA3B01-E73D-4C68-92CB-B755CF10E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0200" y="4408560"/>
            <a:ext cx="559728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62520" y="8818560"/>
            <a:ext cx="3033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DFB3E4-F717-40A2-9515-1FB4F4D0D2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81E-8FE5-4119-9B1E-C255FB9F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12B-9135-4B1E-B5CD-2E2FC12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42CF0-7AF4-48BB-BB4C-118EE3A175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AD0B34-4A3C-46C2-9FF7-B4AB0E7730E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CCDE71-5DD0-4B91-8F16-26662464C26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F0D167-87C0-4649-A022-662A23C0B8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7E96DB-1795-4D23-99DA-96D4AFF3E8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738D0C-F6DE-4438-B817-C17FCC108BA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F18927-5760-4A11-BEAB-80A5275CE0C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38F0B8-7E6E-4F10-BCA2-BE52ADBC5C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18073F-100E-4616-A127-C4C0E24B7C4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0AC10-2014-47F6-A19F-A51787BA2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64D6-759E-4178-AB35-47D71F331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33964-20F2-4380-B484-4373F080F5D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C8F6-4A61-4EA6-A330-0C4D59FA709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1A20D-D725-4A55-BE36-D32BBAFF138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FAE4F-9B87-42D0-B2BB-CD8BD6CBB81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C8A33-ECB8-45DE-A9C9-E4E9CFF44C1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79DF-CE3A-4ECB-BE3F-49708560AB6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7D04D-4E45-4A33-8E2F-C861917684F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692FC-64B8-4811-931E-696E1B8034B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0915B-9C0F-4313-A5F3-EE7EB0A4CF2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46763-E323-464A-830E-AA9435AD3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CB8-267A-4425-9513-D8820A56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6838C-3392-464C-A53F-7940F6AEE38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FDEC9-AE14-48FD-9FDD-5133D2A12A1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17BD1A-5649-4295-90DA-28F221EB136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515B2B-F40C-4E18-9908-CA7692CA319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B0A1C0-359B-4761-BAF0-9C2BAC7C91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3DDAD0-43F4-4D15-A701-EE0D909EBD3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036F03-66D9-45FE-9F48-4FA07F50A8B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41B187-D17B-4B39-AD8C-DDEDF78C06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32C59E-7210-4083-85FD-F4BC3D964EB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35A392-1225-49A5-BF3F-ECE9A90C2A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8A1A-659C-4647-9C71-C9BA0BEA3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B8AF81-473A-41B5-BF1E-2A7AC180CD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B21BD0-3903-4AD7-B8BE-E97ADF0FEB5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F042C5-3845-438F-8CD4-77ABC817E4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9D57-1EA2-4313-9038-89A3B1B3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9FED-B7B2-49AB-91DB-8E32AFB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EF1-EB24-497A-BE8A-4CDABDB4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CA69-447F-4B6D-83AB-92AA84AB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8CE-E3AE-4390-907A-FE0CF65A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527E-CD53-418D-901C-E76A160E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820-1993-491F-90AB-315515D3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A1D1-1B4F-4F15-9284-47BE3D0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6053-1B57-4409-8DA2-B5415EA4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7C4D-503B-4AF7-AD59-6825AA96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0176-A1EF-44B5-8CB2-B21AF1F9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55ED-0872-41F1-A3DA-5E8E68CE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2F6F6-676D-4A66-BB3F-5C11A2A2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955E-9304-4FCA-9505-21C6E1DB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2E11-2F64-4110-8008-97A07332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7E603-89F9-4586-B1D7-3FCDB1BA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AE99-4871-4E06-8EFA-2376818F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DD2-7914-4BF6-AE7B-42196A57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2B5D1-80AD-4D16-9DEA-E7C2FA69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85A18-DB91-4D90-855B-D5E689EA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1222-AF7F-4C5F-ABDF-B5C122EC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DB0A-127F-4FEE-8493-8DE5E4A5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5777-EDBB-4FCF-B489-C86046A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D043-B0A4-4147-882F-D4518FB9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DD37-3465-49BB-984E-E4C6790E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B8452-86F2-4BF5-A40B-EA3929DD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46AC-4FCF-4CCA-8270-15C03C70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682A-E6E1-4ABD-971A-423B94AC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E75-C240-4DFD-8606-1D775233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3927D-BF9D-4C57-B478-6A2A00C2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A3EAD-AC8E-4AD0-868B-03C99BF7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ECF0-DDDE-4766-B3FD-B9412549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F0C63-E33F-4870-A4C8-9D78D151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13E1-3CBE-443C-8B54-BB115BF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48D6-73D4-4253-A4B2-BE22B35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319D6-32C9-4E30-9887-D3207184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96195-EE16-4D96-AAF5-8CE0F396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A6F2-0C32-4A8E-911E-8DBD87CA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C1D457-7EBF-46D1-BE72-9A006C362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156-B218-4332-97A6-96377A1E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CAC84-8CFA-48B1-B618-41AB04BAD9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CEE40-07EE-49A8-AB1E-486CB2D587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5B4B06-E8BE-4DA1-B4F4-5D730DF584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3AB15D-63C2-45C9-9F77-228100AF6A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26452-C5C0-4A6F-9AB8-CA2579FCD8B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64054-E5D6-4DBB-AF4B-B70EABBFAB4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8379F-B6A3-40B7-88FE-07B29D3C1DE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EC847-74FC-4B49-9C85-2022F99CF9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6CC5F3-9B63-47A2-A0EF-B41A86108A2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591F9-33BA-45E9-8CD8-6CC1ED260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ECB0-6B30-4AE6-A307-7B8AA141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96707-C7AD-4E24-BE2B-DB474B10EF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5AF1C5-15EF-4A44-9B23-A8A7DA83B74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2659B5-ACBB-447B-B8C7-68D79B54C68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1EC53-AA15-4EA7-B46D-89E69E22E7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0745F4-4B95-4CA5-A5E2-13F32E96952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DFB3F-47F9-4333-943F-DD3048E4E2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57632-312D-4114-9A23-DB3A8DBBA33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CC4012-268F-41DF-87D1-64D4F30008A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3B8C5A-054C-4273-8BFE-3DD36538D7C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30EABB-FC05-4E08-8BA0-95F60AD82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3800-B254-4004-9AD6-A8428ED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8A036D-D2EF-49D6-8B75-DE3D3F477BE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7ABB00-6E1F-438E-82E7-A5CFD924C6D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4049C3-0EB1-4D06-8597-CE5E20E8A0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7938A-1F94-49CC-8560-59763A3BD4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5560F-7635-4044-A171-96FB797C1EC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1F399-67BB-4D21-99E2-23B1131170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4F3B-9C6F-4195-86CD-1AA4C2A1E1A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3E71D-B755-4DD1-9788-C2DB51ED15A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244D-2B12-489B-8ED8-CC1F751423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00B77-CEB9-43E2-96D5-3AF8F4497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565-BDFD-432A-851D-A062D4D6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6341D-06D0-495D-B20E-90CCD4675B9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0B3B-4F3A-4CF8-A1BD-9604BB6B4D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F61E-819D-4BA4-8D82-E6D2F2E0643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D186C-CBFA-4AFC-8484-3F247AC7CBF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99391-2AF5-409B-ACE0-989886F8657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E61E6C-4C01-425A-BBEE-2652B9D44F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F8A49-374B-44DE-9D71-0C31BEE9B73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74BD40-B6A2-4B63-A7CF-742A3B4B9EA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DD3946-3B71-48D8-8534-F05280C9E36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F4759-9FF1-4EC4-A064-610D941F0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F56-2BED-4C19-A487-58BA511B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58839-579E-41FD-938C-56AA7F839A2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09CD4-B0E2-4F35-BDCA-5B4F196F4FE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567417-E688-496F-95BE-DD05C8300CB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567E5-E51A-42B6-B749-C17A729D969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0F6F34-CCF1-4F85-8D71-ACF6A5B0FE3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3B1EC-5B75-40CC-9735-244AA9C65F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F84B9-1BB7-4D6A-BB34-B6903B4163C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9B0D6A-9CB0-40B6-A858-7BBED9F2A1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3CBEAD-214B-4EC6-9664-B16DCA1F0B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8ADB90-D866-4A43-9862-3D90DBED4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97A2-38C5-4945-B3DA-1606D1315F3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12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F36-9BD7-41AD-94FD-C9C6836D60A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59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C72D-D643-49D5-B921-87735A5E08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878D-0EBB-4F35-AA01-99A8CCA950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C7B4-8F33-47FE-B0FB-0F915B3E914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1/11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1963-3BEC-4B16-9206-6A8115529F8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F2F5-8C04-4269-9228-5309AB1EA56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4B87-6772-466F-A3E4-BC0E0ED4F86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1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8EC-4400-4B1B-A60C-4641AD2F95D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18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F1FE-C748-41C0-AD21-83F4748150C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2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0376-F7BF-4347-A65A-987795AE03F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1F55-E177-43D5-A052-D8F5D2679A2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14400" y="2133720"/>
            <a:ext cx="8229600" cy="17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hort term plan to assist 2011 HWRF implemen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34920" y="27000"/>
            <a:ext cx="9067680" cy="682164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7"/>
          <p:cNvGraphicFramePr/>
          <p:nvPr/>
        </p:nvGraphicFramePr>
        <p:xfrm>
          <a:off x="392040" y="316080"/>
          <a:ext cx="708120" cy="70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316080"/>
                    <a:ext cx="708120" cy="70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8"/>
          <p:cNvGraphicFramePr/>
          <p:nvPr/>
        </p:nvGraphicFramePr>
        <p:xfrm>
          <a:off x="1386000" y="177840"/>
          <a:ext cx="2462040" cy="14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77840"/>
                    <a:ext cx="24620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9"/>
          <p:cNvGraphicFramePr/>
          <p:nvPr/>
        </p:nvGraphicFramePr>
        <p:xfrm>
          <a:off x="4240080" y="423720"/>
          <a:ext cx="70812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8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40080" y="423720"/>
                    <a:ext cx="7081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Line 10"/>
          <p:cNvSpPr/>
          <p:nvPr/>
        </p:nvSpPr>
        <p:spPr>
          <a:xfrm>
            <a:off x="0" y="4267080"/>
            <a:ext cx="9144000" cy="0"/>
          </a:xfrm>
          <a:prstGeom prst="line">
            <a:avLst/>
          </a:prstGeom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7"/>
          <a:stretch/>
        </p:blipFill>
        <p:spPr>
          <a:xfrm>
            <a:off x="5118120" y="200160"/>
            <a:ext cx="3771720" cy="1197000"/>
          </a:xfrm>
          <a:prstGeom prst="rect">
            <a:avLst/>
          </a:prstGeom>
          <a:ln w="0">
            <a:noFill/>
          </a:ln>
        </p:spPr>
      </p:pic>
      <p:sp>
        <p:nvSpPr>
          <p:cNvPr id="521" name="TextBox 12"/>
          <p:cNvSpPr/>
          <p:nvPr/>
        </p:nvSpPr>
        <p:spPr>
          <a:xfrm>
            <a:off x="91440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HFIP Stream 1 Regional Hurricane Model Diagnostics Planning Meeting, 11/08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791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2314"/>
                </a:solidFill>
                <a:latin typeface="Gill Sans MT"/>
              </a:rPr>
              <a:t>Proposed 2011 operational HWRF Configuration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142640" y="914040"/>
            <a:ext cx="7791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RF infrastructure upgrade to HWRFV3.2+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ified initialization to include post-balance, improved storm size correction and several bug fixes (major focus are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GFS Deep Convection (and possible shallow convection, PB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dified horizontal diff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upling to Hy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g fixes for radiation and microphys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frequency and high-precision output for several model variab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9D1E-8123-4AD6-BF8A-83C2C13CD29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urrent Stat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-21492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perational HWRFV2.0 developments merged with the community WRF NMM repository V3.2 comple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ition of operational vortex initialization, ocean coupling, post-processing, swath file generation and other utilities to V3.2 framework complete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seline testing of HWRFV3.2 (known as HWRF R2 with POM) completed.  Baseline testing with HyCOM (HWRF R3) is currently in progres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B72D-6C2D-4A2C-B51C-A9DCB55E86A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ngoing developmen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sting of new nest motion algorith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ossible high-resolution triple-nested HWRF 27/9/3 configuration for parallel tes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AH LS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rovements to surface physics, three-way coupling to wave model, inclusion of sea spray ef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ditional simulated microwave imag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AE55-7F50-4109-A3E8-02C3FEBCE43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hort Term Plans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142640" y="914400"/>
            <a:ext cx="7715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ost proc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ine 6-hrly output for majority of 3-D and surface variables (including derived variables, simulated satellite product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igh-frequency output for the nested domain (3-hr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urly output for max. winds and precip for the nested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-hrly POM output and hourly HyCOM output for ocean diagnostic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un time diagnos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-hrly ATCF track and intens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-hrly diagnostic tracker outpu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nd swaths and precip swath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itial vortex evaluation (Wallace Hogset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C Diagnostics for vortex structure (In-Hyuk Kwo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C Diagnostics file (Mark DeMaria and Brian McNold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HIPS Predictors (Mark DeMaria and Kate Musgrav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E1A1-11B9-4CA7-A00B-DFBB75DF54C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91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hort Term Plans for FY2011 implementation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1295280" y="13716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 test  s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8 ATL: Fay, Hanna, Gustav and Ik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09: All ATL and EPA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010: All ATL and EPA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RIB for post-processed produ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inary for ocean model outpu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scii data for diagnostic product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ison with observations (in situ, satellite)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-D gridded analysis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tellite and aircraft (P3) datas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v.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2010 through March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20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0E76-A4BE-432F-A850-EF5E3A820C29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Rapid Response Team for real-time sup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essons learnt from other regional hurricane modeling grou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ction i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rogress update and time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4:48Z</dcterms:created>
  <dc:creator>admin</dc:creator>
  <dc:description/>
  <dc:language>en-US</dc:language>
  <cp:lastModifiedBy>vijay.tallapragada</cp:lastModifiedBy>
  <dcterms:modified xsi:type="dcterms:W3CDTF">2010-11-08T11:54:26Z</dcterms:modified>
  <cp:revision>940</cp:revision>
  <dc:subject/>
  <dc:title>Slide 1</dc:title>
</cp:coreProperties>
</file>