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dt" idx="24"/>
          </p:nvPr>
        </p:nvSpPr>
        <p:spPr>
          <a:xfrm>
            <a:off x="39621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body"/>
          </p:nvPr>
        </p:nvSpPr>
        <p:spPr>
          <a:xfrm>
            <a:off x="700200" y="4408560"/>
            <a:ext cx="5597280" cy="4178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ftr" idx="25"/>
          </p:nvPr>
        </p:nvSpPr>
        <p:spPr>
          <a:xfrm>
            <a:off x="-36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 type="sldNum" idx="26"/>
          </p:nvPr>
        </p:nvSpPr>
        <p:spPr>
          <a:xfrm>
            <a:off x="396216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2CEAD94-20F4-42D4-9C2B-B2D671EC63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00200" y="4408560"/>
            <a:ext cx="5597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634FB64-A990-4252-88C4-D9B7306183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69243E1-C526-409B-A6A4-BCB6C324B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38CC7D7-9229-45FA-A295-A8D586090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378080" y="930240"/>
            <a:ext cx="4240080" cy="317988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1066320" y="4419360"/>
            <a:ext cx="486756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B10E608-8206-40AF-A6AF-2C345E855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8080" y="930240"/>
            <a:ext cx="4240080" cy="317988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1066320" y="4419360"/>
            <a:ext cx="4867560" cy="35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A878-5B5D-40C3-820F-B57B23997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E7D5-0F8E-4F0A-88E7-26DE5E88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CA83F-8B84-478F-A44F-C839F9D3779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FD147-C18F-4894-80F2-E323B44ED85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EB8A5-8EA7-4D74-B545-C113216024F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47F68-561F-440D-92B7-391DBA3ED8A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89A6E-D275-41A2-AB7C-5CA41FB1686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B8A1B-DE8A-429A-A35D-A86F27E49FA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ED4DC-5939-4404-BF2E-C6EFB0E7FA1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EEEA6-AC8C-4326-8F35-A8373617F3F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C101C-657B-426A-BD4B-2AEB48E649D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C07ED8-588F-4009-9DF1-B8E47795D6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5E48-D25D-482F-A581-4E4C8855F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D18A65-CB63-482E-9BC8-87612F401FD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A7D409-1475-4554-B2C7-01929D4A9C3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0D3277-CD04-404D-BA0F-BAE55D944A6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314723-AF8E-4681-B48A-469D4C8700B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8FC420-8091-4117-AE89-10063AB8232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D8A4CE-6CBD-40DF-B251-6A206A9B403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A1BD69-C8A6-42E8-9660-74524F6FBD5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366E9E-5842-445E-8258-8A1758AD169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E4385C-9119-4BB3-A2D2-EB8CE4CB28F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4AC52F-5B06-444E-8FF8-EE41F03FE8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814F-EC97-495D-A255-AF7BD6083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074BAC-E6F2-4C58-BA44-5988D5FE6D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F9C7-14DD-475D-B77B-6A4AD0DB7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7FB7-1A82-4099-A910-E24B8110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4189-A38E-4576-80E3-A1606EA5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F4FD-7068-4E67-B742-56BDB21C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F37F-0401-42F9-947C-2F11B1B0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D4ADC-D3CD-4800-B337-CEB980FB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B9ED-0ED2-404C-9A39-BCAE3BD6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A5B7-B1AB-4276-B4D2-E6FC3C12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5ACC-9E01-4A40-9BE7-8F8AA18F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F3F5-9386-46F3-A919-A13C8F4F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69ED-82DC-4E17-997C-BE74E30A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C536-9039-483C-9AB5-417D920B9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D59D-A012-4ED9-A0F5-6D8094E27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3DA1E-EC9E-4D4C-88B9-A13EE7C70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CF759-EBC0-4DD3-B082-BC806585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30EEF-F94B-46DD-8FB5-51411B14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0EEB6-F166-4622-8331-AA5B1DEE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A9E79-9216-4F31-B7D4-10DAA231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73E9-7C0D-43F9-82F5-5AD56F7D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BF71B-E6B1-4B94-BD79-3674E973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F39CC-9CBA-47B2-B418-3228BEE0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685ED-60D9-435A-974A-958EB0D0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6364D-1B3A-4F89-B96B-4CCDABD8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C6686-8166-4510-B32A-968FEA5F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65EA4-C441-4A66-A09F-1B6C67930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66B35-417C-4D69-AA1B-68A831471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5D4A27-68A8-4107-A89E-D9AE0CC5CEF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98E5E8-9F42-409D-BA48-0DC83342549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A7148F-0A40-45F5-8A91-08E019C6C8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33E3-7E36-4BD1-9D65-19A39F4A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F9E641-FF76-4643-93EC-6E25F21B202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A1CDC8-3AAA-45CA-9717-99077DCE41A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F18038-6E87-4292-918A-76525450E28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BAC510-2281-4D49-940F-1EFF4655BAA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440F49-508F-48AA-919A-F0DEF53FADB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41FF0D-30B2-43B8-9D84-9BA26AB2B22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A86BCF-8D0E-46F6-82BA-F4A9E4F59D2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39DC39-025F-47C3-987B-4E165BB7586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865A6E-27E9-4DA5-BFD2-54507AEAC60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402259-F599-4A5E-A17F-848F0CAFF2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B232-78FB-4266-8F5A-D8C10A18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317D1C-A5EC-44F6-AFD8-3F2EC78BF46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1248B2-343D-4E85-A84D-6523C37ECCA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800389-C768-413C-ABB4-C7DA515A406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866FD5-6C3A-4697-B9FC-CCD5ED3322A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6D3511-E992-462D-A1B6-FA17AADF4DA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E9B9A1-719E-498F-BDE2-DD2F1793468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052FA3-9DCB-4669-BD9C-1D1BF1DE6CA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FEAD67-C49B-49DB-A1F3-000DD407892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8462C3-52A9-475C-8D9E-C6F2F8DF999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AD8ABA-6F78-4342-8E4B-C79CA7DDF6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E574-D417-49D3-B694-2C13D3E5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F544BA-0668-4ED4-B40E-A533CFA4AE0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40A72-7BDB-4949-9790-44B7F6B422B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65BE4-EC8C-4B04-B8E4-D845484E4B3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AA24B-0589-4A44-960E-AFC1176ABF7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E862F-573B-49CA-8570-67920245235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BD48D-1D26-41F2-ABF1-8E077F75C96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606D1-75DC-4A37-8CE6-A80C37862D7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8DB9F-4091-4E17-964C-9D864F1E618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19AD1-48E9-43D2-8234-2A3C3DD910B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2288C-68EC-4494-BF82-377F5EBB19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8F73-CE1E-45B7-9F93-AFB01C06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AD3AF-EB1D-4FF4-B8D1-AB9D509C02A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F6E79-FE3A-4006-80C2-4C8036E4E25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9A8A28-7DFA-4246-9700-39E7B66217D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A3C89A-3BBC-4335-B05D-F6984F10E2B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8D595B-722F-47A1-A7FC-3E96D6BBF25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889AA7-219F-48EE-A82A-1382C0EF727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7CB287-1933-4966-98F2-6A9478570D3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58DE3F-F7F4-4A69-8F57-8C00D049523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8ECE68-F6B0-4014-9D69-C172FDFF4A4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5F07F5-0588-43A5-A0A4-44F8D8ECB5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B6C0-EDFE-4C71-9084-5332E7F4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3E09B7-AFCB-446C-BB61-DF27025F9B2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580917-E9A8-4E34-A574-3A34681E76A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7EF680-22CA-4D2C-AB2C-6B57F13BC03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104F6D-576C-4807-B747-9C44281B9D6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AB8E44-1334-4542-AE17-96A14B2426B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AE8CA5-A4FD-4E93-B421-6DBE06511CB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0D79C2-8290-42D8-A3C8-39C6D1AC781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1CD103-ABEA-43B8-B520-53416D5553D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0C4CA5-75BA-48E3-9D15-4AB8AB648FC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476950-8018-42FE-A8DE-EB634D4ED8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BCDA-234E-4948-A034-325877C2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8EAA1D-8522-4C08-9E84-B65BDDD596E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9BB16E-749F-4FC2-8C49-927A0CBB361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4D6F43-3FFA-4CE6-90DD-A27642DD204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4E4728-0056-4293-A758-F7A0827C166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19F61A-4B05-40B9-AF7C-96EED3AEB5C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2F1B61-EA86-4032-B64B-A00650181FB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A7F288-2127-4DC6-87F7-9E8FE189D5D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BB730-06D7-46D8-A28F-7E6B9D486A7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AB3F8-096E-4C48-9BE7-0B38DCA1F63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76216-AB2E-45A7-9207-5FA4FE25F3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8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1/11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F5C7-574B-4A3D-B57C-02C053195A1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1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ftr" idx="2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502F-8028-4D78-8B03-F196075FA81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55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1/11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7AC5-7BA4-4B96-8F1B-62F05F761D2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1/11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5796-A56C-4964-BA34-1E1CE4C32F1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1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1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C8CB-905B-4B43-BB02-248A75FF07E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ftr" idx="1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1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19E3-4D8E-4685-87E6-31028054596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2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501A-E01F-4A97-AB98-49E760D0EEE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70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ftr" idx="1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1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2B1D-FAF6-4505-AC21-B6775CD69CA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17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ftr" idx="1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1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4380-416A-437C-A73E-D2215BD6E20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64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6ED4-BC39-4188-A066-2A158BCCA2F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Slide Number Placeholder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B611-053C-47A6-9381-D69AC9A30AFC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2"/>
          <p:cNvSpPr/>
          <p:nvPr/>
        </p:nvSpPr>
        <p:spPr>
          <a:xfrm>
            <a:off x="914400" y="2133720"/>
            <a:ext cx="8229600" cy="17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Long Term plans for hurricane model diagnostic suppor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4"/>
          <p:cNvSpPr/>
          <p:nvPr/>
        </p:nvSpPr>
        <p:spPr>
          <a:xfrm>
            <a:off x="34920" y="27000"/>
            <a:ext cx="9067680" cy="682164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0"/>
          <p:cNvSpPr/>
          <p:nvPr/>
        </p:nvSpPr>
        <p:spPr>
          <a:xfrm>
            <a:off x="0" y="4267080"/>
            <a:ext cx="9144000" cy="0"/>
          </a:xfrm>
          <a:prstGeom prst="line">
            <a:avLst/>
          </a:prstGeom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12"/>
          <p:cNvSpPr/>
          <p:nvPr/>
        </p:nvSpPr>
        <p:spPr>
          <a:xfrm>
            <a:off x="914400" y="60958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7030a0"/>
                </a:solidFill>
                <a:latin typeface="Arial"/>
              </a:rPr>
              <a:t>HFIP Stream 1 Regional Hurricane Model Diagnostics Planning Meeting, 11/08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FF09-39DE-4B8E-8ECE-6CD664F1E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Gill Sans MT"/>
              </a:rPr>
              <a:t>Advanced Diagnostics Framework</a:t>
            </a:r>
            <a:endParaRPr b="0" lang="en-US" sz="3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stablish a tri-agency core group for hurricane model diagnostic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MC/NCEP (Operational HWRF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RL/Navy    (COAMPS-TC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MM/NCAR (AHW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mplement the HFIP Diagnostics efforts led by Mark DeMari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ke use of preliminary diagnostic products generated by HFIP Diagnostics team to identify specific model behavi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ovide more in-depth analysis of important model deficiencies and methods to improve model physics/dynamics/initializ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sted by DT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acilitation and coordination of activiti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raining and education on hurricane model diagnostic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velop advanced diagnostics too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E842-5893-4D21-A87C-F4790EC46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ff"/>
                </a:solidFill>
                <a:latin typeface="Gill Sans MT"/>
              </a:rPr>
              <a:t>Objectives and Goals</a:t>
            </a:r>
            <a:endParaRPr b="0" lang="en-US" sz="3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405720" indent="-304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ystematic comparison of model to observations and model inter-comparison studies will be carried out for both initial state/analyses and foreca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05720" indent="-304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dentifying and analyzing various issues ranging from large-scale (synoptic scale) circulation features to mesoscale (vortex scale) featur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. 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Note:  deficiency in observation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05720" indent="-304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dentify various tools (e.g., graphics, model data sets, hurricane analysis/observational datasets, and methodology for various diagnostic measures) required to undertake this project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05720" indent="-304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dentify areas of model deficiencie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in different environment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and make recommendations for possible areas of model improvement.   (v. important task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05720" indent="0">
              <a:spcBef>
                <a:spcPts val="60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eb80a"/>
                </a:solidFill>
                <a:latin typeface="Gill Sans MT"/>
              </a:rPr>
              <a:t>Diagnostics “Core” Group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sist of tropical/hurricane scientists with demonstrated experti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n devote ~75% to diagnostics activi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n assist HWRF model developer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e:  implications of new flux schem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n accommodate operational implementation schedules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03B5-BB85-43F6-978C-A4CD9D06D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B707-8B87-4D5D-A29D-5051B8AA3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400" spc="-1" strike="noStrike">
                <a:solidFill>
                  <a:srgbClr val="0000ff"/>
                </a:solidFill>
                <a:latin typeface="Gill Sans MT"/>
              </a:rPr>
              <a:t>Role of DTC</a:t>
            </a:r>
            <a:endParaRPr b="0" lang="en-US" sz="3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 an overarching infrastructure in support of the advanced hurricane model diagnostics effor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31640" indent="-3236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acilitate coordination between the scientists, the modeling groups and the ADD team lead as necessary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31640" indent="-3236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 a computational infrastructure on the HFIP computer at Boulder to supplement needed model experiment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31640" indent="-3236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ake the responsibility in providing training to the academic researchers and by experts in the field through periodic tutorials and special workshop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31640" indent="-3236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Develop a “</a:t>
            </a:r>
            <a:r>
              <a:rPr b="0" i="1" lang="en-GB" sz="2400" spc="-1" strike="noStrike">
                <a:solidFill>
                  <a:srgbClr val="000000"/>
                </a:solidFill>
                <a:latin typeface="Gill Sans MT"/>
              </a:rPr>
              <a:t>diagnostics toolbox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” as a common framework for model developers (simliliar to the MET toolbox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eb80a"/>
                </a:solidFill>
                <a:latin typeface="Gill Sans MT"/>
              </a:rPr>
              <a:t>Deficiency in Obs – vortex scale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bs that describe details of vortex evolution (3-D structure)  in different environments (thermodynamic/kinematic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articularly in development stages  &lt; CAT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is hurricane scale circulation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o we have comprehensive data sets that  describe the intensity change process?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icrophysics – missing data above melting level, e.g. hydrometeor fields – nucleation is not well understoo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6590-FACA-4D34-813E-947C399A9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2314"/>
                </a:solidFill>
                <a:latin typeface="Gill Sans MT"/>
              </a:rPr>
              <a:t>(continued)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br>
              <a:rPr sz="4300"/>
            </a:b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  </a:t>
            </a:r>
            <a:r>
              <a:rPr b="0" lang="en-US" sz="4300" spc="-1" strike="noStrike">
                <a:solidFill>
                  <a:srgbClr val="feb80a"/>
                </a:solidFill>
                <a:latin typeface="Gill Sans MT"/>
              </a:rPr>
              <a:t>Hurricane/TC OBS deficienc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urricane /TC Observations Repository?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NCAR, JPL, NOAA, NASA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Insitu data, satellite, atmosphere/ocea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929A-5ACA-4D1D-A967-C93604AD8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ction items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eadership: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ersonne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genci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FIP suppor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ordinatio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ime li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3:14:48Z</dcterms:created>
  <dc:creator>admin</dc:creator>
  <dc:description/>
  <dc:language>en-US</dc:language>
  <cp:lastModifiedBy>vijay.tallapragada</cp:lastModifiedBy>
  <dcterms:modified xsi:type="dcterms:W3CDTF">2010-11-08T11:52:31Z</dcterms:modified>
  <cp:revision>941</cp:revision>
  <dc:subject/>
  <dc:title>Slide 1</dc:title>
</cp:coreProperties>
</file>