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media/image14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FC99-C320-435A-841D-19055001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5AC-EAEF-464C-A625-6EA8333F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9FC-ABE9-4181-9158-2D2534A4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3516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90080"/>
            <a:ext cx="264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124-E5B0-4E61-A783-3EF5A15B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63B9-DF40-4468-AD06-3AB79D6A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6EF-3D04-4A11-98BC-3FA01EB6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7D0-70B9-4833-BD1D-EFF6D42B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5F0-31EF-4D99-8345-DB882460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05C-B929-4423-AA50-132BF2C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C69-2D94-4B51-8F81-CE0D1BED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9008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020-FA95-4B08-A40B-4E1F49E0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81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35160"/>
            <a:ext cx="40158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90080"/>
            <a:ext cx="8229600" cy="233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FBA2-73DC-470C-B79E-8862BF3F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BB169-FFA0-49BB-8E10-D6F6ADEBE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91645-419D-4559-A907-DCF696E904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dvanced AHW Diagno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09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an D. Torn, Univ. Albany SU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 Davis, NC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371600" y="4762440"/>
            <a:ext cx="6400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W Assimilation System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W Forecas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y-to-go HWRF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WRF Hist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37600" y="5181480"/>
            <a:ext cx="86886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 ATCF to netc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gram constructed via 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ting either via Matlab or N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HWRF_f048_mwnd.png"/>
          <p:cNvPicPr/>
          <p:nvPr/>
        </p:nvPicPr>
        <p:blipFill>
          <a:blip r:embed="rId1"/>
          <a:stretch/>
        </p:blipFill>
        <p:spPr>
          <a:xfrm>
            <a:off x="92160" y="1279440"/>
            <a:ext cx="4387680" cy="3841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HWRF_f048_wrad34.png"/>
          <p:cNvPicPr/>
          <p:nvPr/>
        </p:nvPicPr>
        <p:blipFill>
          <a:blip r:embed="rId2"/>
          <a:stretch/>
        </p:blipFill>
        <p:spPr>
          <a:xfrm>
            <a:off x="4664160" y="1279440"/>
            <a:ext cx="4387680" cy="38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WRF Histo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7600" y="5181480"/>
            <a:ext cx="8688600" cy="11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t ATCF to netc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gram constructed via Mat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ting either via Matlab or N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HWRF_f048_wrad34_mwde.png"/>
          <p:cNvPicPr/>
          <p:nvPr/>
        </p:nvPicPr>
        <p:blipFill>
          <a:blip r:embed="rId1"/>
          <a:stretch/>
        </p:blipFill>
        <p:spPr>
          <a:xfrm>
            <a:off x="92160" y="1279440"/>
            <a:ext cx="4387680" cy="38102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WRF_f048_wrad34_btwd.png"/>
          <p:cNvPicPr/>
          <p:nvPr/>
        </p:nvPicPr>
        <p:blipFill>
          <a:blip r:embed="rId2"/>
          <a:stretch/>
        </p:blipFill>
        <p:spPr>
          <a:xfrm>
            <a:off x="4664160" y="1279440"/>
            <a:ext cx="4387680" cy="3810240"/>
          </a:xfrm>
          <a:prstGeom prst="rect">
            <a:avLst/>
          </a:prstGeom>
          <a:ln w="0">
            <a:noFill/>
          </a:ln>
        </p:spPr>
      </p:pic>
      <p:sp>
        <p:nvSpPr>
          <p:cNvPr id="102" name="Straight Connector 9"/>
          <p:cNvSpPr/>
          <p:nvPr/>
        </p:nvSpPr>
        <p:spPr>
          <a:xfrm flipV="1">
            <a:off x="2023200" y="1484280"/>
            <a:ext cx="1800" cy="327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1"/>
          <p:cNvSpPr/>
          <p:nvPr/>
        </p:nvSpPr>
        <p:spPr>
          <a:xfrm>
            <a:off x="495360" y="3281400"/>
            <a:ext cx="329076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>
            <a:off x="5060880" y="3294000"/>
            <a:ext cx="32911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Diagno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3516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*WIND comparisons (either RMS difference or quadrant-by-quadrant fraction coverage, similar to Marchok calcul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sure Tenden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939920" y="1131480"/>
            <a:ext cx="374652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of the imbalance in initial cond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d using high-frequency model output.  Files processed using short fortran program that writes netcdf tendency f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tted via N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6" descr="2010091106_IGOR_ptend.gif"/>
          <p:cNvPicPr/>
          <p:nvPr/>
        </p:nvPicPr>
        <p:blipFill>
          <a:blip r:embed="rId1"/>
          <a:stretch/>
        </p:blipFill>
        <p:spPr>
          <a:xfrm>
            <a:off x="228600" y="1131840"/>
            <a:ext cx="4549680" cy="2714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2010102900_SHARY_ptend.gif"/>
          <p:cNvPicPr/>
          <p:nvPr/>
        </p:nvPicPr>
        <p:blipFill>
          <a:blip r:embed="rId2"/>
          <a:stretch/>
        </p:blipFill>
        <p:spPr>
          <a:xfrm>
            <a:off x="228600" y="3911760"/>
            <a:ext cx="45496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ation Ver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205240" y="1235160"/>
            <a:ext cx="3672000" cy="53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-scale model errors and bi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ing by region can demonstrate more detailed model bias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d within AHW assimilation system, could extend to HWRF if grids are mad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CL or Matlab plo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temperature1.png"/>
          <p:cNvPicPr/>
          <p:nvPr/>
        </p:nvPicPr>
        <p:blipFill>
          <a:blip r:embed="rId1"/>
          <a:stretch/>
        </p:blipFill>
        <p:spPr>
          <a:xfrm>
            <a:off x="457200" y="1069920"/>
            <a:ext cx="44737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ar-TC Ver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81600" y="1235160"/>
            <a:ext cx="410832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errors relative to obs. near TC.  Primarily for diagnosing near-storm environmental err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e from fortran program that windows observations based on distance to T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gregation using fortra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dt.png"/>
          <p:cNvPicPr/>
          <p:nvPr/>
        </p:nvPicPr>
        <p:blipFill>
          <a:blip r:embed="rId1"/>
          <a:stretch/>
        </p:blipFill>
        <p:spPr>
          <a:xfrm>
            <a:off x="446040" y="1058760"/>
            <a:ext cx="413532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ner-Core Ver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8640" y="4992480"/>
            <a:ext cx="873756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ison against aircraft and dropsonde obs. in vortex-relative space.  Eliminates position-related err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d via fortran program that reads WRF files and obs. from DA system and writes model estimates at observation lo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otting with Matlab, with transition to N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5" descr="wspd.png"/>
          <p:cNvPicPr/>
          <p:nvPr/>
        </p:nvPicPr>
        <p:blipFill>
          <a:blip r:embed="rId1"/>
          <a:stretch/>
        </p:blipFill>
        <p:spPr>
          <a:xfrm>
            <a:off x="376200" y="1057320"/>
            <a:ext cx="4707000" cy="1968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tmpk.png"/>
          <p:cNvPicPr/>
          <p:nvPr/>
        </p:nvPicPr>
        <p:blipFill>
          <a:blip r:embed="rId2"/>
          <a:stretch/>
        </p:blipFill>
        <p:spPr>
          <a:xfrm>
            <a:off x="376200" y="3025800"/>
            <a:ext cx="4707000" cy="1968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2010083112_EARL_obs.gif"/>
          <p:cNvPicPr/>
          <p:nvPr/>
        </p:nvPicPr>
        <p:blipFill>
          <a:blip r:embed="rId3"/>
          <a:stretch/>
        </p:blipFill>
        <p:spPr>
          <a:xfrm>
            <a:off x="5235480" y="1057320"/>
            <a:ext cx="3691080" cy="3898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8"/>
          <p:cNvSpPr/>
          <p:nvPr/>
        </p:nvSpPr>
        <p:spPr>
          <a:xfrm>
            <a:off x="712800" y="3025800"/>
            <a:ext cx="14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712800" y="105732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1555920" y="4146480"/>
            <a:ext cx="32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i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grangian Diagno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933880" y="1234800"/>
            <a:ext cx="30286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extensively during PREDICT to evaluate processes that lead to gen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Lagrangian metric is computed using a separate fortran program, could be merged into single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ting via N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2010091212_INVEST92_genesis_metrics.gif"/>
          <p:cNvPicPr/>
          <p:nvPr/>
        </p:nvPicPr>
        <p:blipFill>
          <a:blip r:embed="rId1"/>
          <a:stretch/>
        </p:blipFill>
        <p:spPr>
          <a:xfrm>
            <a:off x="100080" y="1322280"/>
            <a:ext cx="5819760" cy="424836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100080" y="5726160"/>
            <a:ext cx="58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trics:  circulation, thickness, humidity, vertical shear, divergence, precipitation, average wi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gram Ver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839840" y="1109520"/>
            <a:ext cx="4049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conditional bi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ssimilation system, computed via separate fortran program, aggregated via Matlab script, output as netcd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HW forecasts have all-in-one fortran pr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ions can include equitable threat sc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otting accomplished via Matlab with transition to N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wr_histo_gray"/>
          <p:cNvPicPr/>
          <p:nvPr/>
        </p:nvPicPr>
        <p:blipFill>
          <a:blip r:embed="rId1"/>
          <a:stretch/>
        </p:blipFill>
        <p:spPr>
          <a:xfrm>
            <a:off x="357120" y="1109520"/>
            <a:ext cx="425772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627440" y="6375240"/>
            <a:ext cx="32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s et al. 2010, W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matology Comparis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14480" y="1122480"/>
            <a:ext cx="407196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whether the model can replicate the observed distribution of a quantity, shows systematic bi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y to compute once you have quant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wr_histo_34-64-none_new"/>
          <p:cNvPicPr/>
          <p:nvPr/>
        </p:nvPicPr>
        <p:blipFill>
          <a:blip r:embed="rId1"/>
          <a:stretch/>
        </p:blipFill>
        <p:spPr>
          <a:xfrm>
            <a:off x="457200" y="1122480"/>
            <a:ext cx="3503520" cy="5610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4141800" y="6375240"/>
            <a:ext cx="32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vis et al. 2010, W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18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vironment She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380880" y="105264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effect of storm from estimate of vertical shear between two levels (subscripts 1 and 2) by removing vertical difference of storm-related vorticity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and divergence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"/>
          <p:cNvGraphicFramePr/>
          <p:nvPr/>
        </p:nvGraphicFramePr>
        <p:xfrm>
          <a:off x="1371600" y="1774800"/>
          <a:ext cx="6195960" cy="67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4800"/>
                    <a:ext cx="61959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1371600" y="2475000"/>
          <a:ext cx="610380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475000"/>
                    <a:ext cx="610380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5"/>
          <p:cNvGraphicFramePr/>
          <p:nvPr/>
        </p:nvGraphicFramePr>
        <p:xfrm>
          <a:off x="1295280" y="3313080"/>
          <a:ext cx="3407040" cy="36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313080"/>
                    <a:ext cx="34070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7"/>
          <p:cNvGraphicFramePr/>
          <p:nvPr/>
        </p:nvGraphicFramePr>
        <p:xfrm>
          <a:off x="5181480" y="3389400"/>
          <a:ext cx="2210040" cy="328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3389400"/>
                    <a:ext cx="221004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4" name="Group 15"/>
          <p:cNvGrpSpPr/>
          <p:nvPr/>
        </p:nvGrpSpPr>
        <p:grpSpPr>
          <a:xfrm>
            <a:off x="1828800" y="3835440"/>
            <a:ext cx="4975200" cy="2857320"/>
            <a:chOff x="1828800" y="3835440"/>
            <a:chExt cx="4975200" cy="2857320"/>
          </a:xfrm>
        </p:grpSpPr>
        <p:pic>
          <p:nvPicPr>
            <p:cNvPr id="85" name="Picture 9" descr="vor_shear_dev_ndb12_new"/>
            <p:cNvPicPr/>
            <p:nvPr/>
          </p:nvPicPr>
          <p:blipFill>
            <a:blip r:embed="rId9"/>
            <a:srcRect l="0" t="46811" r="0" b="0"/>
            <a:stretch/>
          </p:blipFill>
          <p:spPr>
            <a:xfrm>
              <a:off x="1828800" y="3835440"/>
              <a:ext cx="4975200" cy="28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9" descr="vor_shear_dev_ndb12_new"/>
            <p:cNvPicPr/>
            <p:nvPr/>
          </p:nvPicPr>
          <p:blipFill>
            <a:blip r:embed="rId10"/>
            <a:srcRect l="49457" t="42558" r="41353" b="52914"/>
            <a:stretch/>
          </p:blipFill>
          <p:spPr>
            <a:xfrm>
              <a:off x="5508720" y="6350040"/>
              <a:ext cx="457200" cy="24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Rectangle 11"/>
          <p:cNvSpPr/>
          <p:nvPr/>
        </p:nvSpPr>
        <p:spPr>
          <a:xfrm>
            <a:off x="5029200" y="3236760"/>
            <a:ext cx="2514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228600" y="4368960"/>
            <a:ext cx="160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00 mb – 900 mb wind difference (and 900 mb relative vorticity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EPAC developing compo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6477120" y="3313080"/>
            <a:ext cx="990360" cy="457200"/>
          </a:xfrm>
          <a:prstGeom prst="ellipse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Straight Arrow Connector 14"/>
          <p:cNvCxnSpPr>
            <a:stCxn id="89" idx="6"/>
          </p:cNvCxnSpPr>
          <p:nvPr/>
        </p:nvCxnSpPr>
        <p:spPr>
          <a:xfrm>
            <a:off x="7467120" y="3541320"/>
            <a:ext cx="381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xtBox 21"/>
          <p:cNvSpPr/>
          <p:nvPr/>
        </p:nvSpPr>
        <p:spPr>
          <a:xfrm>
            <a:off x="7848720" y="323676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e to st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6934320" y="4292640"/>
            <a:ext cx="160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200 mb – 900 mb wind difference with storm remov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EPAC developing compo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3"/>
          <p:cNvSpPr/>
          <p:nvPr/>
        </p:nvSpPr>
        <p:spPr>
          <a:xfrm>
            <a:off x="6934320" y="61214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avis et al., 2008: M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3:41:14Z</dcterms:created>
  <dc:creator>Ryan Torn</dc:creator>
  <dc:description/>
  <dc:language>en-US</dc:language>
  <cp:lastModifiedBy>Ryan Torn</cp:lastModifiedBy>
  <dcterms:modified xsi:type="dcterms:W3CDTF">2010-11-05T14:37:05Z</dcterms:modified>
  <cp:revision>10</cp:revision>
  <dc:subject/>
  <dc:title>AHW Diagnostics</dc:title>
</cp:coreProperties>
</file>