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7008813" cy="9374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7009200" cy="937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38400" cy="4683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7"/>
          </p:nvPr>
        </p:nvSpPr>
        <p:spPr>
          <a:xfrm>
            <a:off x="3970440" y="-360"/>
            <a:ext cx="3038400" cy="4683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1161720" y="703080"/>
            <a:ext cx="4686120" cy="351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701280" y="4451400"/>
            <a:ext cx="5607000" cy="42177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8"/>
          </p:nvPr>
        </p:nvSpPr>
        <p:spPr>
          <a:xfrm>
            <a:off x="0" y="8902440"/>
            <a:ext cx="3038400" cy="4683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9"/>
          </p:nvPr>
        </p:nvSpPr>
        <p:spPr>
          <a:xfrm>
            <a:off x="3970440" y="8902440"/>
            <a:ext cx="3038400" cy="4683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A18A126C-C856-4F67-B142-40E3BBC1EA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970440" y="8902800"/>
            <a:ext cx="30384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85A9BE44-E089-4DEF-8624-CADDAA4F5B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3970440" y="8899560"/>
            <a:ext cx="30384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65B718C3-C877-4CFD-8F5A-1518944995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3970440" y="8902800"/>
            <a:ext cx="30384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F5066900-531A-4DFB-AB9C-A8B660896D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71440" y="708120"/>
            <a:ext cx="4668840" cy="350208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64800" y="4451040"/>
            <a:ext cx="5079960" cy="421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6208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701280" y="4451400"/>
            <a:ext cx="560700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970440" y="8902800"/>
            <a:ext cx="30384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B6505734-63DA-4652-86C8-10B735509E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A0A0-B567-4328-8DF3-C40C650FD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5707-C35C-4209-8E3F-B5B95F2BB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6708-4946-40ED-A106-3F230A85D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7F30-5A50-4364-B711-0CDC9BAD9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3DA10-2EA6-41DD-A62C-0F32FADD7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45178-F3E2-452F-8DA1-455822959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A43A3-898F-4214-981D-F395771D8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DCAF5-736E-496F-9120-378DA3528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B256F-F5DE-4C1A-8C3E-F86624492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765A4-D8CA-4917-871E-1E10C4D26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AEC84-C61D-496A-A923-A2EE62EB1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239D-1D8D-4D56-A13F-F1B1FB0B4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AD31A-AF90-4634-8AC1-A75331943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BC676-32F4-460C-9EE8-D6FEB0C46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0665D-F05A-40CD-BEC8-326D57A65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C8CD5-298E-4EFF-93D6-5445B0ACC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4C74C-7C31-4A6D-8DAB-CF02B415F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DBAB-A9EC-4ACA-B88B-5C4EBB73C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FE68-E0F3-4CC8-86D0-2E69D9443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EFDF-25A7-42A4-B932-3B2797E25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369B-9E07-4EE4-B06D-12ADF00ED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C758-0284-4118-83E4-4ED2B588A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0559-EE9A-435C-8E77-75316991A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2BF8-AB52-4EF4-B63F-D4CC5E48D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1F8A7-4F17-484D-8A5A-82B7E44A731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289BD-0599-4F8A-AB7F-4AA84FCE353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2133720"/>
            <a:ext cx="8229600" cy="174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33"/>
                </a:solidFill>
                <a:latin typeface="Times New Roman"/>
              </a:rPr>
              <a:t>Group discussion on FY11 Stream 1 Needs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257040" y="181080"/>
            <a:ext cx="8629920" cy="6419880"/>
          </a:xfrm>
          <a:prstGeom prst="rect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Object 7" descr=""/>
          <p:cNvPicPr/>
          <p:nvPr/>
        </p:nvPicPr>
        <p:blipFill>
          <a:blip r:embed="rId1"/>
          <a:stretch/>
        </p:blipFill>
        <p:spPr>
          <a:xfrm>
            <a:off x="392040" y="316080"/>
            <a:ext cx="708120" cy="707760"/>
          </a:xfrm>
          <a:prstGeom prst="rect">
            <a:avLst/>
          </a:prstGeom>
          <a:ln w="0">
            <a:noFill/>
          </a:ln>
        </p:spPr>
      </p:pic>
      <p:pic>
        <p:nvPicPr>
          <p:cNvPr id="106" name="Object 8" descr=""/>
          <p:cNvPicPr/>
          <p:nvPr/>
        </p:nvPicPr>
        <p:blipFill>
          <a:blip r:embed="rId2"/>
          <a:stretch/>
        </p:blipFill>
        <p:spPr>
          <a:xfrm>
            <a:off x="3124080" y="228600"/>
            <a:ext cx="2462400" cy="1433520"/>
          </a:xfrm>
          <a:prstGeom prst="rect">
            <a:avLst/>
          </a:prstGeom>
          <a:ln w="0">
            <a:noFill/>
          </a:ln>
        </p:spPr>
      </p:pic>
      <p:pic>
        <p:nvPicPr>
          <p:cNvPr id="107" name="Object 9" descr=""/>
          <p:cNvPicPr/>
          <p:nvPr/>
        </p:nvPicPr>
        <p:blipFill>
          <a:blip r:embed="rId3"/>
          <a:stretch/>
        </p:blipFill>
        <p:spPr>
          <a:xfrm>
            <a:off x="7924680" y="304920"/>
            <a:ext cx="708120" cy="669960"/>
          </a:xfrm>
          <a:prstGeom prst="rect">
            <a:avLst/>
          </a:prstGeom>
          <a:ln w="0">
            <a:noFill/>
          </a:ln>
        </p:spPr>
      </p:pic>
      <p:sp>
        <p:nvSpPr>
          <p:cNvPr id="108" name="Line 10"/>
          <p:cNvSpPr/>
          <p:nvPr/>
        </p:nvSpPr>
        <p:spPr>
          <a:xfrm>
            <a:off x="228600" y="3962520"/>
            <a:ext cx="8686800" cy="0"/>
          </a:xfrm>
          <a:prstGeom prst="line">
            <a:avLst/>
          </a:prstGeom>
          <a:ln w="414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2"/>
          <p:cNvSpPr/>
          <p:nvPr/>
        </p:nvSpPr>
        <p:spPr>
          <a:xfrm>
            <a:off x="1219320" y="4419720"/>
            <a:ext cx="67816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Vijay Tallapragada and Bob Gall (Moderato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HFIP Annual Review Meeting, Miami, FL, November 9,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BA35-B73E-4F1C-BE3B-4B73F93023A1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78487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99"/>
                </a:solidFill>
                <a:latin typeface="Times New Roman"/>
              </a:rPr>
              <a:t>HFIP Stream 1 Needs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ach consensus on process/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tential for re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termine members initial interest/ commitmen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13D7-AD44-4595-A83C-6C70BA04CE2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HWRF FY2011 Plan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924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ments to HWRF Vortex Initializ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mental efforts at EMC and Collaborative efforts with HRD (Kevin Ye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WRFV3.2+ as baseline for 2011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hanced pathways for community to directly work on the operational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ned tutorial and workshop in April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WRF coupled to HyCOM ocean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ationally feasible within existing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line skill of HWRFV3.2+HyCOM is well in agreement with HWRFV3.2+P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nefits from RTOFS data assimilation and in-house model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5A75-87C0-40C9-9C9D-07FE1BD57E6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HWRF FY2011 Plans …. Contd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924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oved physics for hurricane problem (and for high resolu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the new GFS Deep Conv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le inclusion of Shallow Convection and PB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ified formulation for convection-radiation-microphysics inter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vancements to HWRF model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oved nest motion algorithm suitable for high-re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ress nest feed-back and terrain interaction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of coupler and initialization for third ne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le Stream 1.5 demo experiments using triple nested 27/9/3 HWR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hanced operational HWRF produ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frequency (3-hrly) and high-precision output from real-time HWR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ulated microwave products (37 GHz and 85 GH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rections to simulated GOES imagery to account for satellite ang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DC6D-7F9C-468E-B1C1-422FA95F5D9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14479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 Diagnostics to assist HWRF pre-implementation T&amp;E and model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ecial diagnostics planning meeting held at HRD on Nov. 8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pid response team with representation from multiple organiz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hanced use of available observations to assess systematic biases in HWRF analysis and forecas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agnostics tailored to provide input to help improve HWRF model formulation and meet the operational timelin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utomated diagnostics modules to be linked to pre-implementation test phases as well as real-time ru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FIP ADD team to continue with Stream 2 diagnostics that would lead to provide feedback to Stream 1 effor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HWRF FY2011 Plans …. Contd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5422-3E5A-4A58-B5D3-D4CD8ACEC06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New Stream 1 Management Proces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eam structure to organization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sight committee to determine the prior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olvement of GFDL/NRL/NCAR in the Stream-1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eam 1.5 demo analysis – how it feeds into Stream 1.0 (FY11 tasks and beyon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FIP announcement of opportunity for FY11 academic particip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8A0D-7D89-47E3-8030-16EB6295CF4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0T14:28:07Z</dcterms:created>
  <dc:creator>wd20vxt</dc:creator>
  <dc:description/>
  <dc:language>en-US</dc:language>
  <cp:lastModifiedBy>vijay.tallapragada</cp:lastModifiedBy>
  <dcterms:modified xsi:type="dcterms:W3CDTF">2010-11-09T12:55:31Z</dcterms:modified>
  <cp:revision>30</cp:revision>
  <dc:subject/>
  <dc:title>NCEP/EMC Hurricane Weather Research and Forecast (HWRF) Modeling System</dc:title>
</cp:coreProperties>
</file>