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4E5-0DC7-427C-82A7-AAE4F42C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1FE-3916-40E2-90AD-29A2A2C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F5D-15F0-4D19-BC47-7535A35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043-82F6-41B0-9B18-FA97D6F7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B52-A074-43B2-8F49-0A77F5F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F1A-CC49-4417-8196-FFBD048D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FA-D314-4DCD-8328-54262C3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F6E-B5BB-45B4-ACD6-740C89E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A65-7225-40A2-9725-89CE32F6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E75-7098-4571-AA17-E9157A5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D8B-C1F0-4615-B0E5-CBB8931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8B5-6962-400F-814B-64065AC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465-5B59-406D-98E0-8EF5F55D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Hurricane Regional Model (OHMD) Development/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89548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G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IP Annual Review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9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Management Change of Stream 1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the HFIP emphasis for the last two years was on Stream 2.0 and more recently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 1.0, the operational model at NCEP, will be about half of the HFIP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 want more emphasis on improving the operational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 want the operational model development to be managed by a small committee made up of members of the organizations contributing directly to th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we view Stream 2 as basically a component of Stream 1 but where the impact is a year or two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tructure will be referred to a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perational Hurricane Regional Model Development/Implementation (OHM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will apply only to Stream 1.  Stream 2.0 will be managed by the teams and Stream 1.5 by NHC/DTC/TCM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e will consist of members fro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MC, AOML, GFDL, DTC, NRL, NHC, NCAR/MMM, JCSDA, pl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 university representativ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ntral Repository similar to WRF will be maintained by the D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esearch and operational codes will be drawn from the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configuration of the operational system will remain unchanged but will use extensive input from the OHM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MD participating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al Modeling Center EMC/NWS/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Hurricane Center NHC/NWS/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lantic Oceanic and meteorological Laboratory AOML/OAR/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physical Fluid Dynamics laboratory GFDL/OAR/NO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oscale Microscale meteorology Division MMM/N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al Testbed Center DTC/(NCAR and ESRL/OAR/NO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pical Cyclone Modeling Testbed TCMT/N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val Research Laboratory-Monterey NRL/M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enter for Satellite Data Assimilation (JCS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MD Management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s Priorities for the development and implementation of the operational regional hurricane mode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ly monitoring progress toward achieving annual HFIP regional model milestones and deliverables in the operation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rterly reports to HFIP management on annual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ing a process in which the participating HFIP stream 1 organizations respond to Oversight Committee recommendations for annual operational model development, testing and implem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process will require each organization to submit a work plan prior to assigning funding for a particular fiscal year.  The Committee will evaluate these work plans and report their evaluation to the HFIP 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MD Repos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urrent HWRF repository has many of the attributes that will be necessary for overall OHMD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 vers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eement for both operations and research to draw from the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sonabl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ly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FIP will not require that every component of the repository have tutorials and help desks associated with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MD Repos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urrent HWR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F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MPS-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of the above should be full systems including initialization, physics packages, and post processing where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components will run interchangeably under NEMS or E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45:33Z</dcterms:created>
  <dc:creator>gallr</dc:creator>
  <dc:description/>
  <dc:language>en-US</dc:language>
  <cp:lastModifiedBy>gall</cp:lastModifiedBy>
  <dcterms:modified xsi:type="dcterms:W3CDTF">2010-11-09T01:57:01Z</dcterms:modified>
  <cp:revision>4</cp:revision>
  <dc:subject/>
  <dc:title>Operational Hurricane Regional Model (OHMD) Development/Implementation</dc:title>
</cp:coreProperties>
</file>