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.png" ContentType="image/png"/>
  <Override PartName="/ppt/media/image2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dt" idx="19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Img"/>
          </p:nvPr>
        </p:nvSpPr>
        <p:spPr>
          <a:xfrm>
            <a:off x="1181160" y="699840"/>
            <a:ext cx="4648320" cy="34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ftr" idx="20"/>
          </p:nvPr>
        </p:nvSpPr>
        <p:spPr>
          <a:xfrm>
            <a:off x="0" y="883404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 type="sldNum" idx="21"/>
          </p:nvPr>
        </p:nvSpPr>
        <p:spPr>
          <a:xfrm>
            <a:off x="3971880" y="883404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F89AE8-5785-422B-986F-29433B8B2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971880" y="883440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100D79-AC4A-46D3-A943-B14073F4A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31840" indent="-2318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zoomed-out part, the analysis program will underestimate maximum wind by using OPS version synthetic OBS, since the maximum wind in the data is 55kt at 2-degree radius; while with higher resolution of the new version the maximum wind in the data is 80kt at 0.5-deg 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S is wind too strong in the outer radius at 1Q (using environmental wind twice), too broadly spread out, height/wind not balanced well (Z is symmetric, but not wind due to ENV-w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ynthetic OBS fits Vmax, R35, R50 much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971880" y="883440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5C36DE-829F-47C1-B666-A7056DC2D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811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AB9-352D-4AAE-B886-D216F582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93A-3B79-4576-9F74-F951D00E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675B-9BEA-4C43-BA0E-592B2C6D372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27CFC-75DB-4775-B906-61B1CE26E71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3928-F134-4122-9E6C-749F869196B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04E5-E02D-4ECF-ABA6-87F833D06F0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88B93-E3AE-450B-99E3-1B729C3E0A2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6FD6-9AFF-41A5-9B07-C22C58B3DF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31F5-0D69-437F-8BDE-AEF6DDC6D3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8EF9C-7222-4B69-A5C1-B798EE9220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41FD1-2322-4DC4-9BEA-1E365F353AB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62641E-D67D-4740-9A3C-49D42A33A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964-4CBA-4C0B-824C-BBC37A78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564D2E-AAF2-4B30-BFC4-9DEB7096F5C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CC03FC-B803-47A5-9E2B-7980C08BF30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5BF539-E20B-433B-A8EA-694F99338A2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12E9DF-7907-41A7-A7DD-E839A70752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77968C-20BF-4E0A-9B52-66871861521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8F39BB-015C-43A9-8627-FC3332A92EB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C2E2E3-629B-48F1-A70C-E4D7DE87544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336DDB-5EC1-40B1-ADC5-BEF323AC497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B2ABAE-0116-454B-8060-C5A4770229B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D91BE7-336C-42CF-9A2C-2E392D614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64E-3138-456B-BA37-B65C6B3A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FD138C-5DD3-4AD0-8563-94BBA49381C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2F813-B31A-4DEE-B7D0-727674E966C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FFD4F-7360-4D1F-AE83-3AA8777DC4A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F898B-85FE-4D6D-98D6-98227737CC3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A2DBA-B82B-407A-9A9B-4A4EE658BC3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93E8A-24BA-4309-B237-11734A21EB3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F302C-01F7-4E11-9DB0-77B402CD818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8D911-A091-4B12-8820-27F5461BF0C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4B3C2-D996-4EC8-8B6C-05A1380B9E2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CC503-1CF0-4FC1-8121-C213ED0FB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7F5F9-C616-4A24-8E0F-717273BB1E6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E7B73-7274-4FB2-A800-C3B21616316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A209B-B1A2-4CF8-80A3-917CC8B8D69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65A07-0921-400F-BFD2-C4ACAD5F631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FD9A-E2B7-40C0-82A5-43024A84C8C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6F1D5-735E-4419-AE3C-8B0CA14B83A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88BC-C249-4998-A66A-0D8DFAC2B38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2A2DB-36FA-4304-B305-341CF45215C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9531F-5AB1-4006-8C13-D003233186A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DA510-BA98-48A8-94BF-C6B4FD8371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598B5-862A-415D-B73F-0E0E3C20BA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64A88-381F-48E4-A441-2043431077E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5097D-7D04-461C-AC33-64DC55B084D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D587-7293-4B76-B82A-D763C6841EF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53B34-7089-4050-9309-9FC018DF17C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A8B97-23F0-42D7-8406-2E5DB751260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48B66-8136-4BAB-90A1-6945EC78CC5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B5DF75-E796-4D37-BA4B-713596AF2CB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20F58F-5103-4A2D-8327-48E1FA78D05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46CAC2-5DA5-4B3C-A440-92115491C07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49FC70-5CE9-41B5-A8D9-BAE8D79EDAE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BB964A-83EE-44A6-B59F-38733054D9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452CC-0F1A-46BD-AE5B-53E61F5EEF1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1391AC-292E-4B2E-BE5E-93B85CEC42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0CA810-50DF-4A8F-9E00-C90504597C1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747AA9-233A-43DC-95DD-B9A26A2D577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CC3887-F508-4807-AA62-9EFA28D53B9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6E5F26-070E-46B3-815B-0A75808B0F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E69EB6-F70F-434F-A7F8-49134EB7263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C0D6F3-34C4-489E-A8F2-C336701A7ED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4F54E-55A0-45BE-B339-FB51C9517E9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49518-92BF-4284-99A8-17C34599A5D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C5A2A3-91DF-4275-A274-12925D6947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42400-3FDE-441E-B85F-AC4C7C21A99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EB434-34B5-4A51-85D7-E2BC6ECFB33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D8F56-698B-4E39-9C2A-D2F50D03237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B2852-7AFE-43B9-9630-0F2E27D7419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0984A-1C76-4F0C-B135-3A39BE7FD43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877ED-ABED-4249-B8B8-E088046A5E1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E70E2-0223-4B5F-A233-A6457C155FA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86E79-B869-43E3-8EF3-9B6AA7F3A13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42EBE-8F8F-4F0F-A76D-B922ADD6166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AC438-2EDF-4184-B97A-689BAD65D84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97A87-A5A0-4B05-9199-683BF6F1CA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BC831-4CC0-4E4B-894C-0316D76C7AD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30F92-EFC9-4677-98DC-04B9CE7116A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D695E-5A35-49DA-B8A2-6E4D6FDBD35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664A4-B6CD-4399-8703-D05D16469D3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91A67-0B23-4BB3-A3E2-557DDF04415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61D12-338C-4435-B78D-61F4BE9A49F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630D5-4C12-48D6-B722-BE094D52120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5A1CD-C426-434D-A0E2-584003C7FAE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FD0DE-26D7-42CE-A786-AC3AFBD851F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DFF6-87BB-40D4-8D57-1BCE6E33FD1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AA86-D77D-4C24-9664-AC5AB42BB7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E3534-0946-4B4B-937D-94BEE6061FB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E3A65-26F7-437B-87C9-FAEC3DA553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1BB1A-22D2-4256-9CDA-CEAB7C08A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A0D-68BE-45AE-9B16-73D3827F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20AF2-2555-4CF3-8D36-2F6A8D15E1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B1DCD-C388-443F-834F-C5121AE334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F7AC4-7BCB-45B2-9095-A2B244C8D5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9F9C4-7AC0-450C-8DDA-CC517A4689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583DA-D429-49DE-9971-444C2BED7C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B3422A-0609-441D-B27B-532ABCB1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180DD-5A0F-48B2-8374-20FAE10F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7A93BC-4824-4563-A177-4AD077D8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B0C6B-1CBF-49D2-B9D6-A5C37B1C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DA8B08-845F-4474-8DB4-24B0F72D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CF2-F121-4A86-9380-F7CEF6F6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9A2BB-307D-4FA6-9429-A2C3B3C4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1BEF5-914D-4ADA-9916-7F43F42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F94CF-F2E2-4B9C-8E61-FE7220D5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509A20-D751-47E3-95ED-6D52DA11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B50934-64AC-4998-BB24-5CD86F55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2A3BB-DD07-4E42-BF20-6B21B0EF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AF46D-2987-4AE4-8F9C-8FD8A43B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F03-CE4A-44A2-B90C-50DE3352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EF3F0-DA0E-4273-A419-4701B92C5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0A6-D5C7-4435-982C-33E26F20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953C4-D6A3-4C6A-8CBF-D0F337691E0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7EB63-6D37-4DD9-9E20-56307637242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D9424-9910-4645-95E5-2E91A846956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E5519-3D06-4187-A326-2892B8BCEEB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AB180-8A0F-4053-B7E1-0AD165247F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56962-9C4B-4C71-A5C9-201BD998DF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CF817-73E2-4ECB-A360-006CBCFBF8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53D4C-EF9A-4CA0-A35F-395C6C45E5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A2B84-E70C-4B6C-9575-AB80D4CFB4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E3F96-51FE-4182-92C9-2B8EA5B87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593-7BF6-4FDB-BB92-8C23F9DA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CCC1E-E057-4CC1-9238-74E5B79EFD2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B087-91D3-4AD6-AA9A-0785085395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CD0A-4843-4FB5-80F9-309355229E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C92E-62E9-4F8C-884B-D83500F477F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7E49-6E26-4C77-869D-A2C387DDFB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51BB-E786-4932-B836-721E51E9A0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1FA4-AC7A-46D9-8F3F-C2E2BEE207D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3745-4896-4F52-A3F5-F512B9D664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204D-B298-4938-9B99-2F91452E07F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6619-0CF8-45BA-BAC9-B22F0F072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CBA-8C9A-4014-B251-A4FBA99B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D24B-6521-4BB9-8FB4-1C167EF9CF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8299-FD04-419E-A9BD-4B9DF0E7A9E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5E093-1E8D-4C40-8C14-8007FB72C0C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1AFBA-FF91-4EF2-84AD-297EDB5ED7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032CE-CDA7-493C-800D-F3DDEBC93C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F0499-AACE-421D-8A04-E69B104152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03336F-1C1F-42B0-BBDB-956F8C558AF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04A4F-10D4-4622-80E4-4B103FEDA8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3FC7A-958A-4338-B96E-BA7B26186A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05C89-F3D2-4A90-A804-35E464BD3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F9C-8BBB-498B-B697-D6CDEE14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22F47-071D-44B2-9EEE-0E3372C0AB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10893-64C6-461D-AD2F-E69CEEFC13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5953AC-CF4D-436E-A667-B616708539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FAAC35-91F9-43CB-A715-5088A11D4A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D34D9-F2E4-4247-98C8-8F40CEAE47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11151-97C8-464C-8F33-6C4D4B6AEB5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28ACD-9627-4FF3-8587-D7725066F96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B154AD-A99E-40FF-A10C-05F035D67DA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89A49-CD7A-4F7B-A185-55502671D99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9E953-5F5A-4669-B6D9-AB4AB9C24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A2E-EF26-4977-A817-69DC2B8F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84305-6BFB-4607-A315-73562AA7EE7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38F33-0150-4614-9290-6BB5998F00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56141-D92D-4AD1-BB82-319D695D23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5B08C-7CC0-4999-AA1A-F8D0B876771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6FF1B4-64FD-4988-9644-0E9B347566E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0E52E-F49F-4B1E-8714-7508EBB77A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79D27-768B-4FBB-8CB6-231AF3535AA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56A5-9DFD-4697-8ADB-C76CA3F539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B664F-FDC6-490E-9557-C906A440040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7FD8D-4DC3-4724-8594-D16ED86B5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D1A2-2DAE-4B22-8FDE-B05CB8D09A1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202A-F13B-433E-B3D0-846824D645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1371600"/>
            <a:ext cx="86868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76320" y="181080"/>
            <a:ext cx="836640" cy="838080"/>
          </a:xfrm>
          <a:prstGeom prst="rect">
            <a:avLst/>
          </a:prstGeom>
          <a:ln w="0">
            <a:noFill/>
          </a:ln>
        </p:spPr>
      </p:pic>
      <p:sp>
        <p:nvSpPr>
          <p:cNvPr id="7" name="Text Box 10"/>
          <p:cNvSpPr/>
          <p:nvPr/>
        </p:nvSpPr>
        <p:spPr>
          <a:xfrm rot="18900000">
            <a:off x="6248880" y="51051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" descr="Dept of Commerce Seal"/>
          <p:cNvPicPr/>
          <p:nvPr/>
        </p:nvPicPr>
        <p:blipFill>
          <a:blip r:embed="rId3"/>
          <a:stretch/>
        </p:blipFill>
        <p:spPr>
          <a:xfrm>
            <a:off x="8242200" y="190440"/>
            <a:ext cx="825480" cy="82080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" name="Picture 4" descr=""/>
          <p:cNvPicPr/>
          <p:nvPr/>
        </p:nvPicPr>
        <p:blipFill>
          <a:blip r:embed="rId4"/>
          <a:stretch/>
        </p:blipFill>
        <p:spPr>
          <a:xfrm>
            <a:off x="2563920" y="6248520"/>
            <a:ext cx="4065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3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FBC1-574E-46B6-8604-ED173C69CBE8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14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E0E6-FCB1-4AAE-9E9E-88B64733DE77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15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1BAA-80E0-4AC9-B065-093D91C811CF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16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45B0-9D7B-4233-B087-3481B617DA9D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7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1488-2DF9-4216-BFE9-404209C377FF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Num" idx="18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95B3-65A0-4931-920F-5E1966F7A324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C90A-37C4-45AD-9F3E-10CF2FB85394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C158-0CD3-494E-9CAD-9B28C05E86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B32B-9A55-4DB6-B3A6-5A3EC1748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4"/>
          <p:cNvSpPr/>
          <p:nvPr/>
        </p:nvSpPr>
        <p:spPr>
          <a:xfrm>
            <a:off x="8444160" y="654516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8C44-5DEC-4171-B4F1-413F29064D97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165240" y="123840"/>
            <a:ext cx="945720" cy="851040"/>
            <a:chOff x="165240" y="123840"/>
            <a:chExt cx="945720" cy="851040"/>
          </a:xfrm>
        </p:grpSpPr>
        <p:grpSp>
          <p:nvGrpSpPr>
            <p:cNvPr id="128" name="Group 4"/>
            <p:cNvGrpSpPr/>
            <p:nvPr/>
          </p:nvGrpSpPr>
          <p:grpSpPr>
            <a:xfrm>
              <a:off x="165240" y="123840"/>
              <a:ext cx="892800" cy="851040"/>
              <a:chOff x="165240" y="123840"/>
              <a:chExt cx="892800" cy="851040"/>
            </a:xfrm>
          </p:grpSpPr>
          <p:sp>
            <p:nvSpPr>
              <p:cNvPr id="129" name="Oval 5"/>
              <p:cNvSpPr/>
              <p:nvPr/>
            </p:nvSpPr>
            <p:spPr>
              <a:xfrm>
                <a:off x="292680" y="252720"/>
                <a:ext cx="639000" cy="64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0" name="Picture 6" descr="DON Seal"/>
              <p:cNvPicPr/>
              <p:nvPr/>
            </p:nvPicPr>
            <p:blipFill>
              <a:blip r:embed="rId2"/>
              <a:stretch/>
            </p:blipFill>
            <p:spPr>
              <a:xfrm>
                <a:off x="165240" y="123840"/>
                <a:ext cx="892800" cy="85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Oval 7"/>
            <p:cNvSpPr/>
            <p:nvPr/>
          </p:nvSpPr>
          <p:spPr>
            <a:xfrm>
              <a:off x="271080" y="193320"/>
              <a:ext cx="666000" cy="699120"/>
            </a:xfrm>
            <a:prstGeom prst="ellipse">
              <a:avLst/>
            </a:prstGeom>
            <a:solidFill>
              <a:srgbClr val="00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Picture 8" descr="white on Dark"/>
            <p:cNvPicPr/>
            <p:nvPr/>
          </p:nvPicPr>
          <p:blipFill>
            <a:blip r:embed="rId3"/>
            <a:stretch/>
          </p:blipFill>
          <p:spPr>
            <a:xfrm>
              <a:off x="175680" y="123840"/>
              <a:ext cx="93528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8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3E9B-4DD0-42D3-BA6C-A595EF6687F7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9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F2B5-E944-4BAF-A119-2B014CEBCAD2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0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251-B2B7-475A-9040-B7380C4E53FB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1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B6CC-34BC-4FF6-8522-747FF9083A13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9B81-495C-488E-8645-8BC9077B4154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FIP Research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76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B17F-6160-4878-8F73-663C640FA6F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B0F8-8568-402B-ACED-780C886C2B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8" descr="2010_models.png"/>
          <p:cNvPicPr/>
          <p:nvPr/>
        </p:nvPicPr>
        <p:blipFill>
          <a:blip r:embed="rId1"/>
          <a:stretch/>
        </p:blipFill>
        <p:spPr>
          <a:xfrm>
            <a:off x="4121280" y="1752480"/>
            <a:ext cx="47941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12"/>
          <p:cNvGrpSpPr/>
          <p:nvPr/>
        </p:nvGrpSpPr>
        <p:grpSpPr>
          <a:xfrm>
            <a:off x="3657600" y="1911240"/>
            <a:ext cx="5405400" cy="3803760"/>
            <a:chOff x="3657600" y="1911240"/>
            <a:chExt cx="5405400" cy="3803760"/>
          </a:xfrm>
        </p:grpSpPr>
        <p:pic>
          <p:nvPicPr>
            <p:cNvPr id="612" name="Picture 2" descr=""/>
            <p:cNvPicPr/>
            <p:nvPr/>
          </p:nvPicPr>
          <p:blipFill>
            <a:blip r:embed="rId2"/>
            <a:srcRect l="0" t="0" r="3340" b="0"/>
            <a:stretch/>
          </p:blipFill>
          <p:spPr>
            <a:xfrm>
              <a:off x="3657600" y="1911240"/>
              <a:ext cx="5405400" cy="38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8"/>
            <p:cNvSpPr/>
            <p:nvPr/>
          </p:nvSpPr>
          <p:spPr>
            <a:xfrm>
              <a:off x="5435640" y="4319640"/>
              <a:ext cx="2396880" cy="5648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sitive bias for weaker storms, negative for stronger storms (spinup/spindow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TextBox 9"/>
          <p:cNvSpPr/>
          <p:nvPr/>
        </p:nvSpPr>
        <p:spPr>
          <a:xfrm>
            <a:off x="228600" y="1447920"/>
            <a:ext cx="35812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eed focused research effort to reduce intensity error growth in firs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24-36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eed understanding of model behavior in response to initial conditions and/or physics changes (time scale?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fferences in model behavior for simulations with weak/strong initialized v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6172200" y="5715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rom Morris Bender &amp;Vijay Tallapra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240" y="169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Calibri"/>
                <a:ea typeface="Calibri"/>
              </a:rPr>
              <a:t>ARW and HWRF: Sensitivity to Convective Parameterization  (Work Done at ESRL) </a:t>
            </a:r>
            <a:br>
              <a:rPr sz="2300"/>
            </a:br>
            <a:endParaRPr b="0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Text Box 93"/>
          <p:cNvSpPr/>
          <p:nvPr/>
        </p:nvSpPr>
        <p:spPr>
          <a:xfrm>
            <a:off x="1587600" y="5246640"/>
            <a:ext cx="572436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8240" rIns="408240" tIns="204120" bIns="20412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083120"/>
                <a:tab algn="l" pos="8166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agenta Triangles: ARW 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083120"/>
                <a:tab algn="l" pos="8166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Brown Triangles : ARW BM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083120"/>
                <a:tab algn="l" pos="8166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Black Triangles : ARW 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083120"/>
                <a:tab algn="l" pos="816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ed Circles: HWRF 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083120"/>
                <a:tab algn="l" pos="8166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ellow Circles: HWRF BM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083120"/>
                <a:tab algn="l" pos="8166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Gray Circles: HWRF 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083120"/>
                <a:tab algn="l" pos="8166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"/>
          <p:cNvPicPr/>
          <p:nvPr/>
        </p:nvPicPr>
        <p:blipFill>
          <a:blip r:embed="rId1"/>
          <a:srcRect l="0" t="0" r="21992" b="1300"/>
          <a:stretch/>
        </p:blipFill>
        <p:spPr>
          <a:xfrm>
            <a:off x="4648320" y="1447920"/>
            <a:ext cx="4057560" cy="37224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"/>
          <p:cNvPicPr/>
          <p:nvPr/>
        </p:nvPicPr>
        <p:blipFill>
          <a:blip r:embed="rId2"/>
          <a:srcRect l="0" t="0" r="20892" b="1300"/>
          <a:stretch/>
        </p:blipFill>
        <p:spPr>
          <a:xfrm>
            <a:off x="0" y="1447920"/>
            <a:ext cx="4114800" cy="372240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76"/>
          <p:cNvSpPr/>
          <p:nvPr/>
        </p:nvSpPr>
        <p:spPr>
          <a:xfrm>
            <a:off x="228600" y="990720"/>
            <a:ext cx="38862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2004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x. Surface Wind Speed (m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76"/>
          <p:cNvSpPr/>
          <p:nvPr/>
        </p:nvSpPr>
        <p:spPr>
          <a:xfrm>
            <a:off x="4800600" y="990720"/>
            <a:ext cx="3807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2004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in. Sea-level Pressure (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Box 7"/>
          <p:cNvSpPr/>
          <p:nvPr/>
        </p:nvSpPr>
        <p:spPr>
          <a:xfrm>
            <a:off x="2379600" y="4114800"/>
            <a:ext cx="432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Calibri"/>
              </a:rPr>
              <a:t>HWRF spins up faster than AR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7220520" y="639612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.-W. B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all_intensityerror"/>
          <p:cNvPicPr/>
          <p:nvPr/>
        </p:nvPicPr>
        <p:blipFill>
          <a:blip r:embed="rId1"/>
          <a:srcRect l="3166" t="3416" r="6502" b="0"/>
          <a:stretch/>
        </p:blipFill>
        <p:spPr>
          <a:xfrm>
            <a:off x="4724280" y="1523880"/>
            <a:ext cx="4343400" cy="431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" descr="all_intensityerror_MAEonly"/>
          <p:cNvPicPr/>
          <p:nvPr/>
        </p:nvPicPr>
        <p:blipFill>
          <a:blip r:embed="rId2"/>
          <a:srcRect l="0" t="0" r="6502" b="0"/>
          <a:stretch/>
        </p:blipFill>
        <p:spPr>
          <a:xfrm>
            <a:off x="76320" y="1371600"/>
            <a:ext cx="4495680" cy="446580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4"/>
          <p:cNvSpPr/>
          <p:nvPr/>
        </p:nvSpPr>
        <p:spPr>
          <a:xfrm>
            <a:off x="30492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OAMPS-TC </a:t>
            </a:r>
            <a:br>
              <a:rPr sz="3200"/>
            </a:br>
            <a:r>
              <a:rPr b="0" lang="en-US" sz="2300" spc="-1" strike="noStrike">
                <a:solidFill>
                  <a:srgbClr val="800000"/>
                </a:solidFill>
                <a:latin typeface="Arial Black"/>
              </a:rPr>
              <a:t>2008/2009 HFIP Retrospective Forecas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1672920" y="1158840"/>
            <a:ext cx="16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Wind Forecast Error (kts) vs. O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"/>
          <p:cNvSpPr/>
          <p:nvPr/>
        </p:nvSpPr>
        <p:spPr>
          <a:xfrm>
            <a:off x="3064320" y="762120"/>
            <a:ext cx="305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W. Atlantic and E. Pacific Homogeneous Intensity Forecast Err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103320" y="2743200"/>
            <a:ext cx="201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4572000" y="2819520"/>
            <a:ext cx="201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9"/>
          <p:cNvSpPr/>
          <p:nvPr/>
        </p:nvSpPr>
        <p:spPr>
          <a:xfrm rot="16200000">
            <a:off x="-1274760" y="295128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n Absolute Error (kno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0"/>
          <p:cNvSpPr/>
          <p:nvPr/>
        </p:nvSpPr>
        <p:spPr>
          <a:xfrm rot="16200000">
            <a:off x="3296160" y="2928240"/>
            <a:ext cx="28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n Absolute Error (kno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3125520" y="472428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umber of Ca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2"/>
          <p:cNvSpPr/>
          <p:nvPr/>
        </p:nvSpPr>
        <p:spPr>
          <a:xfrm>
            <a:off x="380880" y="5689440"/>
            <a:ext cx="8610840" cy="824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buClr>
                <a:srgbClr val="800000"/>
              </a:buClr>
              <a:buFont typeface="Times New Roman"/>
              <a:buChar char="•"/>
              <a:tabLst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COAMPS-TC Retro Intensity Ski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- Better than the Operational HWRF, GFDN, GFDL for the 30-84h forecasts (lef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- Better than the Retro GFDL and AHW Tests for the 24-90h forecasts (righ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13"/>
          <p:cNvSpPr/>
          <p:nvPr/>
        </p:nvSpPr>
        <p:spPr>
          <a:xfrm>
            <a:off x="6061320" y="1158840"/>
            <a:ext cx="175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Wind Forecast Error (kts) vs. Ret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4"/>
          <p:cNvSpPr/>
          <p:nvPr/>
        </p:nvSpPr>
        <p:spPr>
          <a:xfrm>
            <a:off x="7994160" y="4038480"/>
            <a:ext cx="111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as (dash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an error (soli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Freeform 16"/>
          <p:cNvSpPr/>
          <p:nvPr/>
        </p:nvSpPr>
        <p:spPr>
          <a:xfrm>
            <a:off x="523800" y="2647800"/>
            <a:ext cx="3934080" cy="15051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7"/>
          <p:cNvSpPr/>
          <p:nvPr/>
        </p:nvSpPr>
        <p:spPr>
          <a:xfrm>
            <a:off x="561600" y="399240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FIP Bas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8"/>
          <p:cNvSpPr/>
          <p:nvPr/>
        </p:nvSpPr>
        <p:spPr>
          <a:xfrm>
            <a:off x="5029200" y="2209680"/>
            <a:ext cx="3933720" cy="12956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19"/>
          <p:cNvSpPr/>
          <p:nvPr/>
        </p:nvSpPr>
        <p:spPr>
          <a:xfrm>
            <a:off x="6822720" y="24382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FIP Bas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5400" y="63961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im Do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1289160" y="855720"/>
            <a:ext cx="6967440" cy="532296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3"/>
          <p:cNvSpPr/>
          <p:nvPr/>
        </p:nvSpPr>
        <p:spPr>
          <a:xfrm>
            <a:off x="30492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  <a:ea typeface="Arial"/>
              </a:rPr>
              <a:t>COAMPS-TC: New Capabilities </a:t>
            </a:r>
            <a:br>
              <a:rPr sz="2800"/>
            </a:br>
            <a:r>
              <a:rPr b="0" lang="en-US" sz="2300" spc="-1" strike="noStrike">
                <a:solidFill>
                  <a:srgbClr val="800000"/>
                </a:solidFill>
                <a:latin typeface="Arial Black"/>
                <a:ea typeface="Arial"/>
              </a:rPr>
              <a:t>Tropical Cyclone Dynamic Initializ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Picture 4" descr=""/>
          <p:cNvPicPr/>
          <p:nvPr/>
        </p:nvPicPr>
        <p:blipFill>
          <a:blip r:embed="rId2"/>
          <a:stretch/>
        </p:blipFill>
        <p:spPr>
          <a:xfrm>
            <a:off x="122400" y="1324080"/>
            <a:ext cx="1028520" cy="162216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5"/>
          <p:cNvSpPr/>
          <p:nvPr/>
        </p:nvSpPr>
        <p:spPr>
          <a:xfrm>
            <a:off x="866880" y="6235560"/>
            <a:ext cx="74293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libri"/>
                <a:ea typeface="Arial"/>
              </a:rPr>
              <a:t>TCDI improves the intensity forecasts, track forecasts simi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-222480" y="579132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im Doyle/Yi J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184320" y="1332000"/>
            <a:ext cx="3921120" cy="20707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95000"/>
              </a:lnSpc>
              <a:spcBef>
                <a:spcPts val="2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Arial"/>
              </a:rPr>
              <a:t>Synthetic Observa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-65160">
              <a:lnSpc>
                <a:spcPct val="95000"/>
              </a:lnSpc>
              <a:spcBef>
                <a:spcPts val="2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Arial"/>
              </a:rPr>
              <a:t>Modified Rankine Vort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-65160">
              <a:lnSpc>
                <a:spcPct val="95000"/>
              </a:lnSpc>
              <a:spcBef>
                <a:spcPts val="2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Arial"/>
              </a:rPr>
              <a:t>JTWC Warning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-6516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Arial"/>
              </a:rPr>
              <a:t>(position, structure (34,50 kt radii in quadrants), intens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-65160">
              <a:lnSpc>
                <a:spcPct val="95000"/>
              </a:lnSpc>
              <a:spcBef>
                <a:spcPts val="2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Arial"/>
              </a:rPr>
              <a:t>NOGAPS truncated 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440" indent="-55440">
              <a:lnSpc>
                <a:spcPct val="95000"/>
              </a:lnSpc>
              <a:spcBef>
                <a:spcPts val="2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Arial"/>
              </a:rPr>
              <a:t>Blend Synthetics w/all other observations in 3D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4289400" y="1320840"/>
            <a:ext cx="4703760" cy="2829600"/>
            <a:chOff x="4289400" y="1320840"/>
            <a:chExt cx="4703760" cy="2829600"/>
          </a:xfrm>
        </p:grpSpPr>
        <p:grpSp>
          <p:nvGrpSpPr>
            <p:cNvPr id="726" name="Group 4"/>
            <p:cNvGrpSpPr/>
            <p:nvPr/>
          </p:nvGrpSpPr>
          <p:grpSpPr>
            <a:xfrm>
              <a:off x="4289400" y="1320840"/>
              <a:ext cx="2812320" cy="2829600"/>
              <a:chOff x="4289400" y="1320840"/>
              <a:chExt cx="2812320" cy="2829600"/>
            </a:xfrm>
          </p:grpSpPr>
          <p:grpSp>
            <p:nvGrpSpPr>
              <p:cNvPr id="727" name="Group 5"/>
              <p:cNvGrpSpPr/>
              <p:nvPr/>
            </p:nvGrpSpPr>
            <p:grpSpPr>
              <a:xfrm>
                <a:off x="4289400" y="1320840"/>
                <a:ext cx="2812320" cy="2829600"/>
                <a:chOff x="4289400" y="1320840"/>
                <a:chExt cx="2812320" cy="2829600"/>
              </a:xfrm>
            </p:grpSpPr>
            <p:pic>
              <p:nvPicPr>
                <p:cNvPr id="728" name="Picture 6" descr="synthetics"/>
                <p:cNvPicPr/>
                <p:nvPr/>
              </p:nvPicPr>
              <p:blipFill>
                <a:blip r:embed="rId1"/>
                <a:srcRect l="9146" t="16105" r="9274" b="2419"/>
                <a:stretch/>
              </p:blipFill>
              <p:spPr>
                <a:xfrm>
                  <a:off x="4289400" y="1320840"/>
                  <a:ext cx="2812320" cy="282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9" name="Rectangle 7"/>
                <p:cNvSpPr/>
                <p:nvPr/>
              </p:nvSpPr>
              <p:spPr>
                <a:xfrm>
                  <a:off x="4293360" y="1327320"/>
                  <a:ext cx="2799360" cy="2819160"/>
                </a:xfrm>
                <a:prstGeom prst="rect">
                  <a:avLst/>
                </a:prstGeom>
                <a:noFill/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" name="Text Box 8"/>
              <p:cNvSpPr/>
              <p:nvPr/>
            </p:nvSpPr>
            <p:spPr>
              <a:xfrm>
                <a:off x="4328640" y="1373760"/>
                <a:ext cx="273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50021"/>
                    </a:solidFill>
                    <a:latin typeface="Arial Black"/>
                    <a:ea typeface="Arial"/>
                  </a:rPr>
                  <a:t>COAMPS Syntheti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Text Box 9"/>
            <p:cNvSpPr/>
            <p:nvPr/>
          </p:nvSpPr>
          <p:spPr>
            <a:xfrm>
              <a:off x="7386480" y="1846440"/>
              <a:ext cx="1606680" cy="13107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Synthetics (49 total) to represent TC circulation (~400 m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AutoShape 10"/>
            <p:cNvSpPr/>
            <p:nvPr/>
          </p:nvSpPr>
          <p:spPr>
            <a:xfrm rot="10800000">
              <a:off x="6910200" y="2416320"/>
              <a:ext cx="580680" cy="3189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Group 11"/>
          <p:cNvGrpSpPr/>
          <p:nvPr/>
        </p:nvGrpSpPr>
        <p:grpSpPr>
          <a:xfrm>
            <a:off x="696960" y="3825720"/>
            <a:ext cx="7889760" cy="2831400"/>
            <a:chOff x="696960" y="3825720"/>
            <a:chExt cx="7889760" cy="2831400"/>
          </a:xfrm>
        </p:grpSpPr>
        <p:sp>
          <p:nvSpPr>
            <p:cNvPr id="734" name="Text Box 12"/>
            <p:cNvSpPr/>
            <p:nvPr/>
          </p:nvSpPr>
          <p:spPr>
            <a:xfrm>
              <a:off x="3849840" y="4457880"/>
              <a:ext cx="4736880" cy="95112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2680" indent="-1126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Relocation of first guess (warm sta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2680" indent="-1126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Improved TC representation with synthetics using 3DV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Group 13"/>
            <p:cNvGrpSpPr/>
            <p:nvPr/>
          </p:nvGrpSpPr>
          <p:grpSpPr>
            <a:xfrm>
              <a:off x="696960" y="3825720"/>
              <a:ext cx="2851920" cy="2831400"/>
              <a:chOff x="696960" y="3825720"/>
              <a:chExt cx="2851920" cy="2831400"/>
            </a:xfrm>
          </p:grpSpPr>
          <p:grpSp>
            <p:nvGrpSpPr>
              <p:cNvPr id="736" name="Group 14"/>
              <p:cNvGrpSpPr/>
              <p:nvPr/>
            </p:nvGrpSpPr>
            <p:grpSpPr>
              <a:xfrm>
                <a:off x="696960" y="3825720"/>
                <a:ext cx="2851920" cy="2831400"/>
                <a:chOff x="696960" y="3825720"/>
                <a:chExt cx="2851920" cy="2831400"/>
              </a:xfrm>
            </p:grpSpPr>
            <p:pic>
              <p:nvPicPr>
                <p:cNvPr id="737" name="Picture 15" descr="analysis"/>
                <p:cNvPicPr/>
                <p:nvPr/>
              </p:nvPicPr>
              <p:blipFill>
                <a:blip r:embed="rId2"/>
                <a:srcRect l="5272" t="16124" r="13252" b="2291"/>
                <a:stretch/>
              </p:blipFill>
              <p:spPr>
                <a:xfrm>
                  <a:off x="721080" y="3834000"/>
                  <a:ext cx="2827800" cy="281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8" name="Rectangle 16"/>
                <p:cNvSpPr/>
                <p:nvPr/>
              </p:nvSpPr>
              <p:spPr>
                <a:xfrm>
                  <a:off x="696960" y="3825720"/>
                  <a:ext cx="2845440" cy="2831400"/>
                </a:xfrm>
                <a:prstGeom prst="rect">
                  <a:avLst/>
                </a:prstGeom>
                <a:noFill/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" name="Text Box 17"/>
              <p:cNvSpPr/>
              <p:nvPr/>
            </p:nvSpPr>
            <p:spPr>
              <a:xfrm>
                <a:off x="741240" y="3867120"/>
                <a:ext cx="276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COAMPS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" name="AutoShape 18"/>
            <p:cNvSpPr/>
            <p:nvPr/>
          </p:nvSpPr>
          <p:spPr>
            <a:xfrm rot="10800000">
              <a:off x="3397320" y="4718160"/>
              <a:ext cx="581040" cy="3189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Text Box 19"/>
          <p:cNvSpPr/>
          <p:nvPr/>
        </p:nvSpPr>
        <p:spPr>
          <a:xfrm>
            <a:off x="246240" y="912960"/>
            <a:ext cx="8538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yphoon Sinlaku (15W) (0000 UTC 9 August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20"/>
          <p:cNvSpPr/>
          <p:nvPr/>
        </p:nvSpPr>
        <p:spPr>
          <a:xfrm>
            <a:off x="682560" y="-61920"/>
            <a:ext cx="77788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Arial"/>
              </a:rPr>
              <a:t>Tropical Cyclone Init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 Black"/>
                <a:ea typeface="Arial"/>
              </a:rPr>
              <a:t>High-Resolution Synthetic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2"/>
          <p:cNvSpPr/>
          <p:nvPr/>
        </p:nvSpPr>
        <p:spPr>
          <a:xfrm>
            <a:off x="3825720" y="5694480"/>
            <a:ext cx="4762800" cy="8240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 Black"/>
                <a:ea typeface="Arial"/>
              </a:rPr>
              <a:t>Accuracy of warning message (position, structure, intensity) is critical for model initialization and 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2"/>
          <p:cNvSpPr/>
          <p:nvPr/>
        </p:nvSpPr>
        <p:spPr>
          <a:xfrm>
            <a:off x="-222480" y="639612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im Doyle/Yi J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FIP Research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Date Placeholder 3"/>
          <p:cNvSpPr/>
          <p:nvPr/>
        </p:nvSpPr>
        <p:spPr>
          <a:xfrm>
            <a:off x="76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2C5E-F73F-416F-B883-7EBB582C221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9428-16FF-4BE0-B953-1E601C2D03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9"/>
          <p:cNvSpPr/>
          <p:nvPr/>
        </p:nvSpPr>
        <p:spPr>
          <a:xfrm>
            <a:off x="457200" y="1447920"/>
            <a:ext cx="8305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mpacts of improved initial analy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hris Davis/Ryan T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eff Whit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uqing Zh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ltug Aksoy/Tomislava Vukicev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mpact of improved phys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aac Ginis/Morris B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.-W. Bao/Go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th - Jim Doyle/Yi J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rcRect l="10180" t="5071" r="14371" b="9688"/>
          <a:stretch/>
        </p:blipFill>
        <p:spPr>
          <a:xfrm>
            <a:off x="0" y="990720"/>
            <a:ext cx="4102200" cy="3581280"/>
          </a:xfrm>
          <a:prstGeom prst="rect">
            <a:avLst/>
          </a:prstGeom>
          <a:ln w="0">
            <a:noFill/>
          </a:ln>
        </p:spPr>
      </p:pic>
      <p:sp>
        <p:nvSpPr>
          <p:cNvPr id="621" name="TextBox 4"/>
          <p:cNvSpPr/>
          <p:nvPr/>
        </p:nvSpPr>
        <p:spPr>
          <a:xfrm>
            <a:off x="4038480" y="906480"/>
            <a:ext cx="5105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s it due to model physics, numerics, initialization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elative independent of dynamical or statistical model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rrors become roughly constant after 36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ld simply be error saturation from loss of predic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s predictability governed by two time sca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ner Core internal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esponse of inner core to changes in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5"/>
          <p:cNvSpPr/>
          <p:nvPr/>
        </p:nvSpPr>
        <p:spPr>
          <a:xfrm>
            <a:off x="685800" y="4876920"/>
            <a:ext cx="807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Maybe we should be focusing on (2) rather than (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Large sensitivities are a manifestation of lack of predict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Great improvements of initial inner core structure will only last one 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Assimilation of larger scales paramount (with good representation of vortex respons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at is behind rapid error grow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7167600" y="6172200"/>
            <a:ext cx="19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hris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419360"/>
          </a:xfrm>
          <a:prstGeom prst="rect">
            <a:avLst/>
          </a:prstGeom>
          <a:ln w="0">
            <a:noFill/>
          </a:ln>
        </p:spPr>
      </p:pic>
      <p:sp>
        <p:nvSpPr>
          <p:cNvPr id="627" name="Date Placeholder 3"/>
          <p:cNvSpPr/>
          <p:nvPr/>
        </p:nvSpPr>
        <p:spPr>
          <a:xfrm>
            <a:off x="76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7F88-7EBF-4BF2-874C-394437D898E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7162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A02A-1C0E-43DA-A1FE-DA7A1CD516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5" descr=""/>
          <p:cNvPicPr/>
          <p:nvPr/>
        </p:nvPicPr>
        <p:blipFill>
          <a:blip r:embed="rId2"/>
          <a:stretch/>
        </p:blipFill>
        <p:spPr>
          <a:xfrm>
            <a:off x="569880" y="-76320"/>
            <a:ext cx="8040600" cy="640080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6"/>
          <p:cNvSpPr/>
          <p:nvPr/>
        </p:nvSpPr>
        <p:spPr>
          <a:xfrm>
            <a:off x="75240" y="617220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eff Whit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320" y="16668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SU ARW-EnKF Assimilating Airborne Radar OBS</a:t>
            </a: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ean Absolute Error and Mean Bias for all 59 cases 2008-201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enkf_p3_abserr_bias_all2008-2010L_line2_wsp.eps"/>
          <p:cNvPicPr/>
          <p:nvPr/>
        </p:nvPicPr>
        <p:blipFill>
          <a:blip r:embed="rId1"/>
          <a:stretch/>
        </p:blipFill>
        <p:spPr>
          <a:xfrm>
            <a:off x="1600200" y="990720"/>
            <a:ext cx="6477120" cy="520848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3"/>
          <p:cNvSpPr/>
          <p:nvPr/>
        </p:nvSpPr>
        <p:spPr>
          <a:xfrm>
            <a:off x="84960" y="6172200"/>
            <a:ext cx="22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uqing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77" descr="mslp_082906.png"/>
          <p:cNvPicPr/>
          <p:nvPr/>
        </p:nvPicPr>
        <p:blipFill>
          <a:blip r:embed="rId1"/>
          <a:srcRect l="0" t="16505" r="0" b="9531"/>
          <a:stretch/>
        </p:blipFill>
        <p:spPr>
          <a:xfrm>
            <a:off x="152280" y="1339920"/>
            <a:ext cx="2719440" cy="26049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2" descr="mslp_082906.png"/>
          <p:cNvPicPr/>
          <p:nvPr/>
        </p:nvPicPr>
        <p:blipFill>
          <a:blip r:embed="rId2"/>
          <a:srcRect l="0" t="16812" r="0" b="9336"/>
          <a:stretch/>
        </p:blipFill>
        <p:spPr>
          <a:xfrm>
            <a:off x="2971800" y="1341360"/>
            <a:ext cx="2719440" cy="26020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C:\Documents and Settings\kathryn.sellwood\Desktop\100902I1wind5.gif"/>
          <p:cNvPicPr/>
          <p:nvPr/>
        </p:nvPicPr>
        <p:blipFill>
          <a:blip r:embed="rId3"/>
          <a:srcRect l="15094" t="0" r="7549" b="4000"/>
          <a:stretch/>
        </p:blipFill>
        <p:spPr>
          <a:xfrm>
            <a:off x="5791320" y="1339920"/>
            <a:ext cx="2948040" cy="2666880"/>
          </a:xfrm>
          <a:prstGeom prst="rect">
            <a:avLst/>
          </a:prstGeom>
          <a:ln w="0">
            <a:noFill/>
          </a:ln>
        </p:spPr>
      </p:pic>
      <p:sp>
        <p:nvSpPr>
          <p:cNvPr id="637" name="TextBox 7"/>
          <p:cNvSpPr/>
          <p:nvPr/>
        </p:nvSpPr>
        <p:spPr>
          <a:xfrm>
            <a:off x="395280" y="351144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ax HEDAS Anlys = 41 m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13" descr="SFC_WIND_HIST_PRIOR.jpg"/>
          <p:cNvPicPr/>
          <p:nvPr/>
        </p:nvPicPr>
        <p:blipFill>
          <a:blip r:embed="rId4"/>
          <a:stretch/>
        </p:blipFill>
        <p:spPr>
          <a:xfrm>
            <a:off x="0" y="4394160"/>
            <a:ext cx="3040200" cy="21718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1" descr="SFMR_HIST.jpg"/>
          <p:cNvPicPr/>
          <p:nvPr/>
        </p:nvPicPr>
        <p:blipFill>
          <a:blip r:embed="rId5"/>
          <a:srcRect l="0" t="3527" r="0" b="0"/>
          <a:stretch/>
        </p:blipFill>
        <p:spPr>
          <a:xfrm>
            <a:off x="5562720" y="4470480"/>
            <a:ext cx="2886120" cy="2084400"/>
          </a:xfrm>
          <a:prstGeom prst="rect">
            <a:avLst/>
          </a:prstGeom>
          <a:ln w="0">
            <a:noFill/>
          </a:ln>
        </p:spPr>
      </p:pic>
      <p:sp>
        <p:nvSpPr>
          <p:cNvPr id="640" name="Down Arrow 12"/>
          <p:cNvSpPr/>
          <p:nvPr/>
        </p:nvSpPr>
        <p:spPr>
          <a:xfrm>
            <a:off x="7899480" y="5245200"/>
            <a:ext cx="152280" cy="97776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14"/>
          <p:cNvSpPr/>
          <p:nvPr/>
        </p:nvSpPr>
        <p:spPr>
          <a:xfrm>
            <a:off x="7379280" y="4826160"/>
            <a:ext cx="7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-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481320" y="4192560"/>
            <a:ext cx="209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orecast Model Dis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5"/>
          <p:cNvSpPr/>
          <p:nvPr/>
        </p:nvSpPr>
        <p:spPr>
          <a:xfrm>
            <a:off x="5948640" y="4191120"/>
            <a:ext cx="2219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bserved SFMR Dis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Down Arrow 12"/>
          <p:cNvSpPr/>
          <p:nvPr/>
        </p:nvSpPr>
        <p:spPr>
          <a:xfrm flipV="1">
            <a:off x="6826320" y="6552360"/>
            <a:ext cx="120600" cy="158760"/>
          </a:xfrm>
          <a:prstGeom prst="downArrow">
            <a:avLst>
              <a:gd name="adj1" fmla="val 50000"/>
              <a:gd name="adj2" fmla="val 36859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14"/>
          <p:cNvSpPr/>
          <p:nvPr/>
        </p:nvSpPr>
        <p:spPr>
          <a:xfrm>
            <a:off x="4520880" y="6553080"/>
            <a:ext cx="23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d Most Probable Wind Sp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Down Arrow 12"/>
          <p:cNvSpPr/>
          <p:nvPr/>
        </p:nvSpPr>
        <p:spPr>
          <a:xfrm flipV="1">
            <a:off x="1308240" y="6552360"/>
            <a:ext cx="120600" cy="158760"/>
          </a:xfrm>
          <a:prstGeom prst="downArrow">
            <a:avLst>
              <a:gd name="adj1" fmla="val 50000"/>
              <a:gd name="adj2" fmla="val 36859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29"/>
          <p:cNvGrpSpPr/>
          <p:nvPr/>
        </p:nvGrpSpPr>
        <p:grpSpPr>
          <a:xfrm>
            <a:off x="2768760" y="4192560"/>
            <a:ext cx="3039840" cy="2518920"/>
            <a:chOff x="2768760" y="4192560"/>
            <a:chExt cx="3039840" cy="2518920"/>
          </a:xfrm>
        </p:grpSpPr>
        <p:pic>
          <p:nvPicPr>
            <p:cNvPr id="648" name="Picture 10" descr="SFC_WIND_HIST.jpg"/>
            <p:cNvPicPr/>
            <p:nvPr/>
          </p:nvPicPr>
          <p:blipFill>
            <a:blip r:embed="rId6"/>
            <a:stretch/>
          </p:blipFill>
          <p:spPr>
            <a:xfrm>
              <a:off x="2768760" y="4394160"/>
              <a:ext cx="303984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14"/>
            <p:cNvSpPr/>
            <p:nvPr/>
          </p:nvSpPr>
          <p:spPr>
            <a:xfrm>
              <a:off x="3326760" y="4192560"/>
              <a:ext cx="20858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nalysis Model Dist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Down Arrow 12"/>
            <p:cNvSpPr/>
            <p:nvPr/>
          </p:nvSpPr>
          <p:spPr>
            <a:xfrm flipV="1">
              <a:off x="4083120" y="6552360"/>
              <a:ext cx="120600" cy="158760"/>
            </a:xfrm>
            <a:prstGeom prst="downArrow">
              <a:avLst>
                <a:gd name="adj1" fmla="val 50000"/>
                <a:gd name="adj2" fmla="val 36859"/>
              </a:avLst>
            </a:prstGeom>
            <a:solidFill>
              <a:srgbClr val="00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Down Arrow 12"/>
            <p:cNvSpPr/>
            <p:nvPr/>
          </p:nvSpPr>
          <p:spPr>
            <a:xfrm flipV="1" rot="12732000">
              <a:off x="4644360" y="5566680"/>
              <a:ext cx="120600" cy="159120"/>
            </a:xfrm>
            <a:prstGeom prst="downArrow">
              <a:avLst>
                <a:gd name="adj1" fmla="val 50000"/>
                <a:gd name="adj2" fmla="val 36943"/>
              </a:avLst>
            </a:prstGeom>
            <a:solidFill>
              <a:srgbClr val="00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Box 14"/>
            <p:cNvSpPr/>
            <p:nvPr/>
          </p:nvSpPr>
          <p:spPr>
            <a:xfrm>
              <a:off x="4297320" y="4757760"/>
              <a:ext cx="1324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alysis Captured the High End of Wind Probability Distrib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Text Box 23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VALUATION OF INTEN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 FROM HURRICANE EARL (08-31 00Z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7"/>
          <p:cNvSpPr/>
          <p:nvPr/>
        </p:nvSpPr>
        <p:spPr>
          <a:xfrm>
            <a:off x="3369600" y="347976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ax SFMR = 53 m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30760" y="903240"/>
            <a:ext cx="2492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EDAS 10-m Wind Sp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H*Wind Equivalen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26"/>
          <p:cNvSpPr/>
          <p:nvPr/>
        </p:nvSpPr>
        <p:spPr>
          <a:xfrm>
            <a:off x="3052080" y="903240"/>
            <a:ext cx="253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*Wind 10-m Wind Sp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7"/>
          <p:cNvSpPr/>
          <p:nvPr/>
        </p:nvSpPr>
        <p:spPr>
          <a:xfrm>
            <a:off x="5902560" y="903240"/>
            <a:ext cx="2629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bserved (Doppler+Dro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t 0.5 k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Down Arrow 12"/>
          <p:cNvSpPr/>
          <p:nvPr/>
        </p:nvSpPr>
        <p:spPr>
          <a:xfrm flipV="1" rot="5400000">
            <a:off x="2822400" y="5310360"/>
            <a:ext cx="235080" cy="254160"/>
          </a:xfrm>
          <a:prstGeom prst="downArrow">
            <a:avLst>
              <a:gd name="adj1" fmla="val 50000"/>
              <a:gd name="adj2" fmla="val 3027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14"/>
          <p:cNvSpPr/>
          <p:nvPr/>
        </p:nvSpPr>
        <p:spPr>
          <a:xfrm>
            <a:off x="8101080" y="4775040"/>
            <a:ext cx="10429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(NHC Analys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ntensity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55 m/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27"/>
          <p:cNvSpPr/>
          <p:nvPr/>
        </p:nvSpPr>
        <p:spPr>
          <a:xfrm>
            <a:off x="7064640" y="639612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ltug Aks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28"/>
          <p:cNvSpPr/>
          <p:nvPr/>
        </p:nvSpPr>
        <p:spPr>
          <a:xfrm>
            <a:off x="-662040" y="170172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-116280"/>
            <a:ext cx="9144000" cy="10335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GNOSING THE MODES OF BACKGROUND FORECAST ERR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5" descr="vt_75    1  125_2.png"/>
          <p:cNvPicPr/>
          <p:nvPr/>
        </p:nvPicPr>
        <p:blipFill>
          <a:blip r:embed="rId1"/>
          <a:stretch/>
        </p:blipFill>
        <p:spPr>
          <a:xfrm>
            <a:off x="1298520" y="1403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vt_75    1  125_2.png"/>
          <p:cNvPicPr/>
          <p:nvPr/>
        </p:nvPicPr>
        <p:blipFill>
          <a:blip r:embed="rId2"/>
          <a:srcRect l="0" t="0" r="0" b="5001"/>
          <a:stretch/>
        </p:blipFill>
        <p:spPr>
          <a:xfrm>
            <a:off x="1332000" y="4232160"/>
            <a:ext cx="3657600" cy="26067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9" descr="RT_Corr(Vt-X)_cycle_5_Earl4.png"/>
          <p:cNvPicPr/>
          <p:nvPr/>
        </p:nvPicPr>
        <p:blipFill>
          <a:blip r:embed="rId3"/>
          <a:srcRect l="0" t="0" r="0" b="3056"/>
          <a:stretch/>
        </p:blipFill>
        <p:spPr>
          <a:xfrm>
            <a:off x="4807080" y="1268280"/>
            <a:ext cx="3709800" cy="29005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RT_Corr(Vt-X)_cycle_5_Earl2.png"/>
          <p:cNvPicPr/>
          <p:nvPr/>
        </p:nvPicPr>
        <p:blipFill>
          <a:blip r:embed="rId4"/>
          <a:srcRect l="0" t="0" r="0" b="3334"/>
          <a:stretch/>
        </p:blipFill>
        <p:spPr>
          <a:xfrm>
            <a:off x="4861080" y="4156200"/>
            <a:ext cx="3657600" cy="2651040"/>
          </a:xfrm>
          <a:prstGeom prst="rect">
            <a:avLst/>
          </a:prstGeom>
          <a:ln w="0">
            <a:noFill/>
          </a:ln>
        </p:spPr>
      </p:pic>
      <p:sp>
        <p:nvSpPr>
          <p:cNvPr id="667" name="TextBox 11"/>
          <p:cNvSpPr/>
          <p:nvPr/>
        </p:nvSpPr>
        <p:spPr>
          <a:xfrm>
            <a:off x="420840" y="941400"/>
            <a:ext cx="4568760" cy="3682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prior and posterior primary 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12"/>
          <p:cNvSpPr/>
          <p:nvPr/>
        </p:nvSpPr>
        <p:spPr>
          <a:xfrm>
            <a:off x="0" y="1905120"/>
            <a:ext cx="1655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esirable background forecast error mode: Systematic forecast spinning-down,  opposing the spinning-up in the analys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4"/>
          <p:cNvSpPr/>
          <p:nvPr/>
        </p:nvSpPr>
        <p:spPr>
          <a:xfrm>
            <a:off x="0" y="4500720"/>
            <a:ext cx="1655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mi-undesirable background forecast error mode: Systematic forecast spinning-up is   opposing the spinning-down in the analys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5"/>
          <p:cNvSpPr/>
          <p:nvPr/>
        </p:nvSpPr>
        <p:spPr>
          <a:xfrm>
            <a:off x="5425920" y="934920"/>
            <a:ext cx="2730600" cy="3682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correl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0"/>
          <p:cNvSpPr/>
          <p:nvPr/>
        </p:nvSpPr>
        <p:spPr>
          <a:xfrm>
            <a:off x="-84960" y="457200"/>
            <a:ext cx="24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mi Vukicev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3"/>
          <p:cNvSpPr/>
          <p:nvPr/>
        </p:nvSpPr>
        <p:spPr>
          <a:xfrm>
            <a:off x="2514600" y="1143000"/>
            <a:ext cx="373392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tmospher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28600" y="3276720"/>
            <a:ext cx="8610480" cy="0"/>
          </a:xfrm>
          <a:prstGeom prst="line">
            <a:avLst/>
          </a:prstGeom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13"/>
          <p:cNvSpPr/>
          <p:nvPr/>
        </p:nvSpPr>
        <p:spPr>
          <a:xfrm rot="10800000">
            <a:off x="3580920" y="1676160"/>
            <a:ext cx="182520" cy="1143000"/>
          </a:xfrm>
          <a:prstGeom prst="upArrow">
            <a:avLst>
              <a:gd name="adj1" fmla="val 50000"/>
              <a:gd name="adj2" fmla="val 15655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3276720" y="4495680"/>
            <a:ext cx="228600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cea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8"/>
          <p:cNvSpPr/>
          <p:nvPr/>
        </p:nvSpPr>
        <p:spPr>
          <a:xfrm>
            <a:off x="3200400" y="2819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Air-Sea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8"/>
          <p:cNvSpPr/>
          <p:nvPr/>
        </p:nvSpPr>
        <p:spPr>
          <a:xfrm rot="10800000">
            <a:off x="5028840" y="3505320"/>
            <a:ext cx="182520" cy="914400"/>
          </a:xfrm>
          <a:prstGeom prst="upArrow">
            <a:avLst>
              <a:gd name="adj1" fmla="val 50000"/>
              <a:gd name="adj2" fmla="val 12524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39"/>
          <p:cNvSpPr/>
          <p:nvPr/>
        </p:nvSpPr>
        <p:spPr>
          <a:xfrm>
            <a:off x="3581280" y="3505320"/>
            <a:ext cx="182520" cy="914400"/>
          </a:xfrm>
          <a:prstGeom prst="upArrow">
            <a:avLst>
              <a:gd name="adj1" fmla="val 50000"/>
              <a:gd name="adj2" fmla="val 12524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40"/>
          <p:cNvSpPr/>
          <p:nvPr/>
        </p:nvSpPr>
        <p:spPr>
          <a:xfrm>
            <a:off x="5029200" y="1676520"/>
            <a:ext cx="182520" cy="1143000"/>
          </a:xfrm>
          <a:prstGeom prst="upArrow">
            <a:avLst>
              <a:gd name="adj1" fmla="val 50000"/>
              <a:gd name="adj2" fmla="val 15655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2"/>
              <p:cNvSpPr txBox="1"/>
              <p:nvPr/>
            </p:nvSpPr>
            <p:spPr>
              <a:xfrm>
                <a:off x="228600" y="5105520"/>
                <a:ext cx="1544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4"/>
              <p:cNvSpPr txBox="1"/>
              <p:nvPr/>
            </p:nvSpPr>
            <p:spPr>
              <a:xfrm>
                <a:off x="6029280" y="5105520"/>
                <a:ext cx="31147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5"/>
              <p:cNvSpPr txBox="1"/>
              <p:nvPr/>
            </p:nvSpPr>
            <p:spPr>
              <a:xfrm>
                <a:off x="2362320" y="5105520"/>
                <a:ext cx="3352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3" name="Text Box 62"/>
          <p:cNvSpPr/>
          <p:nvPr/>
        </p:nvSpPr>
        <p:spPr>
          <a:xfrm>
            <a:off x="5715000" y="1676520"/>
            <a:ext cx="426708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Momentum flux (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Sensible heat flux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atent heat flux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Momentum flux (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3"/>
          <p:cNvSpPr/>
          <p:nvPr/>
        </p:nvSpPr>
        <p:spPr>
          <a:xfrm>
            <a:off x="457200" y="1752480"/>
            <a:ext cx="38862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Wind speed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Temperature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Humidity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SST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"/>
          <p:cNvSpPr/>
          <p:nvPr/>
        </p:nvSpPr>
        <p:spPr>
          <a:xfrm>
            <a:off x="380880" y="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Coupling Between Atmosphere and Ocean in Hurrican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15"/>
          <p:cNvSpPr/>
          <p:nvPr/>
        </p:nvSpPr>
        <p:spPr>
          <a:xfrm>
            <a:off x="1150560" y="6019920"/>
            <a:ext cx="67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d is assumed to be a function of wind speed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s it valid in hurricane condi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6"/>
          <p:cNvSpPr/>
          <p:nvPr/>
        </p:nvSpPr>
        <p:spPr>
          <a:xfrm>
            <a:off x="7066440" y="63961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saac G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8000" y="2887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ffff"/>
                </a:solidFill>
                <a:latin typeface="Arial"/>
              </a:rPr>
              <a:t>Hydrometeor mass densities  simulations in a deep convective cloud: </a:t>
            </a:r>
            <a:br>
              <a:rPr sz="2800"/>
            </a:br>
            <a:r>
              <a:rPr b="0" lang="en-US" sz="2800" spc="-1" strike="noStrike">
                <a:solidFill>
                  <a:srgbClr val="c7ffff"/>
                </a:solidFill>
                <a:latin typeface="Arial"/>
              </a:rPr>
              <a:t>Midland/Texas, 13 August 1999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Slide Number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A2F6-0C66-46ED-9486-A4A0F1C954E6}" type="slidenum">
              <a:rPr b="1" lang="en-US" sz="1400" spc="-1" strike="noStrike">
                <a:solidFill>
                  <a:srgbClr val="ffffff"/>
                </a:solidFill>
                <a:latin typeface="Tempus Sans ITC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2" descr="C:\Users\Isaac\Desktop\fig.2b-seifert_khain.jpg"/>
          <p:cNvPicPr/>
          <p:nvPr/>
        </p:nvPicPr>
        <p:blipFill>
          <a:blip r:embed="rId1"/>
          <a:stretch/>
        </p:blipFill>
        <p:spPr>
          <a:xfrm>
            <a:off x="1295280" y="1830240"/>
            <a:ext cx="6248520" cy="4646880"/>
          </a:xfrm>
          <a:prstGeom prst="rect">
            <a:avLst/>
          </a:prstGeom>
          <a:ln w="0">
            <a:noFill/>
          </a:ln>
        </p:spPr>
      </p:pic>
      <p:sp>
        <p:nvSpPr>
          <p:cNvPr id="691" name="TextBox 5"/>
          <p:cNvSpPr/>
          <p:nvPr/>
        </p:nvSpPr>
        <p:spPr>
          <a:xfrm>
            <a:off x="6635520" y="64882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ifert et al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313200" y="639612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ris B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2:58:21Z</dcterms:created>
  <dc:creator>kamos</dc:creator>
  <dc:description/>
  <dc:language>en-US</dc:language>
  <cp:lastModifiedBy>Frank Marks</cp:lastModifiedBy>
  <dcterms:modified xsi:type="dcterms:W3CDTF">2010-11-10T14:15:16Z</dcterms:modified>
  <cp:revision>423</cp:revision>
  <dc:subject/>
  <dc:title>NEC Standard Presentation Format</dc:title>
</cp:coreProperties>
</file>