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D42B-0932-4944-9BD3-8DEA4FC1A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DEB8-A1E1-4278-B603-4C6679C0D5D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57DE-9AF1-4E67-A778-B294FDF03E3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A7AF-ECF5-4FC9-8A43-982356E5573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2600" y="-12600"/>
            <a:ext cx="129794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C68B-4CD3-4864-A9DF-8C385360FC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02CF-E2A3-4871-97BF-F532DC6EA3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17BB-CCF3-400D-8882-93C043B856C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4310-C82B-43EF-825D-80ED85F9E4A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B068-82D0-4256-9342-82B6A7DD880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B3F9D-759F-4653-AF91-623A2CCE228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0816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4660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26972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80816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34660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B847-7D25-4928-8554-3E6260B3533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2D052-F8DA-4AFF-81E0-637E85D6A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EE37-6C67-4C2E-85EB-A65D970CF44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7B9FC0-229F-4EFD-BF6C-4773A63BDAB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30026-5FA4-4FA8-B0AE-1601AB33953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AC653-068A-4B99-A417-FC1E154FEC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1E99C-5A1A-4B07-8C4D-909E6AAE74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2600" y="-12600"/>
            <a:ext cx="129794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2FF99-599D-483E-843E-30A27061FC7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2B4AB-5D72-432C-B961-160D90886B5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A1231-B556-430E-BA5A-BB960A3AA77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F0B20-CEE9-42EB-B2EF-20F5D36FA96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56C17-E9EE-43C5-B62F-0C66E6A2F7E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403FD-43E2-425C-8B52-60ABA8B88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816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4660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972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0816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4660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3260-227D-40F7-8E40-05C9F66A2D4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0816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4660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26972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80816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34660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A58EC2-C65B-4804-A0E2-428F359F6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4AF8-A5A0-45DF-846D-24F966B4CC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040B-D620-4638-8304-300190A092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9742-4DF7-4F8A-A3FB-3B149830BA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47DE-6A00-4063-BBD4-BA009B7E08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1715-E2F2-46E8-A24E-3EA05B404D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600" y="-12600"/>
            <a:ext cx="129794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E4E6-C0C0-4749-9987-CDACB6B33D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EA8D-8AD2-4F37-A08A-185918800E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6BB3-7094-4F1E-84D7-8FB072262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84F9-A1FF-40A6-9DB6-6723BEB5FD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A1C9-9E8A-4BCA-AC6F-72B5C39D5C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1FCCE-BDCE-48F9-8986-BC5378A140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3C03-3C49-42E1-B7C5-616A0BBF2D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0816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4660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6972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0816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34660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D070-9F75-469C-B484-3DD129A3CC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A16-6C2B-4371-859E-6FF94F327C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98F-6C97-4D89-9654-2C34243AC4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EDE-9189-4A82-8CBA-C9E9C10E74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450-834A-4575-8F4A-5105F7252A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829-6AD0-44EE-A86B-6DFF13664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A64D-DE03-476B-AC91-2669AFB278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600" y="-12600"/>
            <a:ext cx="129794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8F2-9136-4417-940D-C5FDAE3A1A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552-D45B-41B8-BD78-4EE9CD6993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4F0-DF8A-471D-AFA1-6FE7601682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FA7-BE64-42A1-8200-63240930D4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1C1-DC2B-4291-87D3-45D176AA0C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C7E-D801-42CA-8811-72CBB56F50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0816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4660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26972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80816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34660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7D6-3F08-4C5D-8A5E-6D8F7BDF18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55632-B0A1-4A43-80A0-B8442295A9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1B731-7D6E-456C-BEED-6E00492EA4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54EBC-32BC-483F-AB65-8F5786FE7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3961-D9A1-4058-AD18-248598C7D2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F47E7-BC93-4FC4-B105-39410FBA43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724C8-0906-4316-8E5E-7F14E6A126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2600" y="-12600"/>
            <a:ext cx="129794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4947E-987D-4450-9B67-853D2F4995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42B86-ED20-4E83-B46B-E4E9B7DECB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99ECF-8112-43C9-A283-D7640C5CAF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E1821-7014-4C29-A01F-A7E5119B40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ACBE7-4C97-42FE-A102-AF5AD9C496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71950-8FAA-454A-8304-319216A617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816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4660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26972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80816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34660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10128-C11E-4C19-B8CC-4C0106E731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DAA6E-1A54-4931-9407-9FFF8E2F6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0E77-B938-4B01-90A4-79B1B95A6A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8FD91-07EB-4336-B921-AFE6544726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104D6-67C9-448D-8DC4-8524BED44E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D29B2-0F7D-4689-B3AD-BDD1FABE7D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F4024-F34E-42FB-BC9B-443F98A6BA0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2600" y="-12600"/>
            <a:ext cx="129794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D3D8D-6BB1-43F4-8B39-9E179536D8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E1897-C573-46C7-9A9D-0A218359B1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DF9EA-03B2-48D0-8160-8F23BEC4955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18AC0-66EC-473C-9B94-C5E3F05A4CF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87AD4-4944-42B9-8F7D-78C6115389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7892A-BADE-4206-AB89-24B31351C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00" y="-12600"/>
            <a:ext cx="129794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4F8D-C1AD-40DB-B0A2-8B9534330A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0816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4660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26972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80816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834660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AC381-E357-4C1D-A341-5A30EC6C3B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5153-5A62-49E5-A367-839A5A2DCDD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C53A-9F76-425E-8708-C91326E9D8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0940-1126-4A06-8BC5-39B67D2E67D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A144-7321-44CB-9C73-819B2157E56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5A80-99C8-4D4D-A30E-11FD0E916B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2600" y="-12600"/>
            <a:ext cx="129794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D1EC-86B5-49C0-8F5A-CDF85DD835E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29B9-7848-40E3-95AB-AA1701895F4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84C3-53CA-49C3-9924-302A2BB8EC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A289-7D37-4FE0-BFE0-D1F985325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985A-6267-4F4B-B906-4204A49EA1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B077-E0A8-45F7-A6F7-1785F21923D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2025-EBCE-4C68-B9E3-4B6923E7C3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816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4660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26972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80816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834660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7F7-E3D6-43CB-8FCB-B1C0F90F73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FE5E3-05F2-4F0D-9CE0-9C3B11D4AA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D136F2-CC31-48F4-B060-A8426AC66F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06447-A48A-4CE0-9A0E-BE664AC4A0D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B75CC-4447-49B6-9A4A-AF3258EB48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21FFB-66DB-4969-9025-E7196387BC8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2600" y="-12600"/>
            <a:ext cx="129794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C7DFF-1D99-4D2C-B68D-691059BC90A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A580E-BCEA-40DE-B78C-83B75C93B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B119-07F1-42E3-BD90-D2A410E68D2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8190C3-8C35-4E28-A170-948CD675A8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F04D2-530C-4A19-A95B-D5EBBC6584F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8B50F-C8F2-4143-8C5E-46303616DC7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A0572-86E5-4C86-AD43-15471710157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0816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4660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26972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480816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834660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417775-3E42-4D18-A7E2-9972EAC55F2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12FDC-17D9-442C-A54B-43DD4DFB2D4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A3285-DC11-467C-9DE8-558D3762A99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4A9F6-196D-45E0-B687-E2546D24758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DAF53-5C70-41D7-B86F-3909D649B5E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57D90-EBAD-4421-8E05-7AC74CDDB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3E02-77FD-4F9F-8B38-6F49E8AAC0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00" y="-12600"/>
            <a:ext cx="129794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39B04-A9B1-47FA-AD98-F706F41EE1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9C344-ECAF-47D8-B14E-7837D0FB12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39EDD-8557-4E21-A48A-0C189472FE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68B2C-B237-47EE-B781-58B89DB7C5F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490248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D436E-C30E-4292-ADFF-1009C022663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19173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490248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63A81-882B-45C8-921D-88E86F1C5E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19173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490248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EE18F-231E-4EED-8177-B749CF55C50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ADEA6-F236-4A14-984A-77021C5624E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AA2C-C431-460D-B031-010D8AC8AA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FBD7-2B15-47C5-94DF-675A3AFF5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Gill Sans"/>
              </a:rPr>
              <a:t>Click to edit the title text format</a:t>
            </a:r>
            <a:endParaRPr b="0" lang="en-US" sz="7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511960"/>
            <a:ext cx="1046484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3000"/>
          </a:bodyPr>
          <a:p>
            <a:pPr marL="2502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333333"/>
              </a:solidFill>
              <a:latin typeface="Gill Sans"/>
            </a:endParaRPr>
          </a:p>
          <a:p>
            <a:pPr lvl="1" marL="250200" indent="-250200">
              <a:buClr>
                <a:srgbClr val="333333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333333"/>
              </a:solidFill>
              <a:latin typeface="Gill Sans"/>
            </a:endParaRPr>
          </a:p>
          <a:p>
            <a:pPr lvl="2" marL="250200" indent="-250200">
              <a:buClr>
                <a:srgbClr val="333333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333333"/>
              </a:solidFill>
              <a:latin typeface="Gill Sans"/>
            </a:endParaRPr>
          </a:p>
          <a:p>
            <a:pPr lvl="3" marL="250200" indent="-250200">
              <a:buClr>
                <a:srgbClr val="333333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333333"/>
              </a:solidFill>
              <a:latin typeface="Gill Sans"/>
            </a:endParaRPr>
          </a:p>
          <a:p>
            <a:pPr lvl="4" marL="250200" indent="-250200">
              <a:buClr>
                <a:srgbClr val="333333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333333"/>
              </a:solidFill>
              <a:latin typeface="Gill Sans"/>
            </a:endParaRPr>
          </a:p>
          <a:p>
            <a:pPr lvl="5" marL="250200" indent="-250200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333333"/>
              </a:solidFill>
              <a:latin typeface="Gill Sans"/>
            </a:endParaRPr>
          </a:p>
          <a:p>
            <a:pPr lvl="6" marL="250200" indent="-250200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203040" y="8723160"/>
            <a:ext cx="914400" cy="9036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"/>
          <p:cNvPicPr/>
          <p:nvPr/>
        </p:nvPicPr>
        <p:blipFill>
          <a:blip r:embed="rId4"/>
          <a:stretch/>
        </p:blipFill>
        <p:spPr>
          <a:xfrm>
            <a:off x="11658600" y="8724960"/>
            <a:ext cx="123048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1955880" y="8731080"/>
            <a:ext cx="9093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http://ruc.noaa.gov/hfip/tcg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324120" y="93088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8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EF6C-8179-444E-B76D-45050BB26DC7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772040" y="26413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AutoShape 4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AutoShape 5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5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  <p:sp>
        <p:nvSpPr>
          <p:cNvPr id="386" name="PlaceHolder 3"/>
          <p:cNvSpPr>
            <a:spLocks noGrp="1"/>
          </p:cNvSpPr>
          <p:nvPr>
            <p:ph type="sldNum" idx="10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E4A0-7651-4FB8-93E6-7AF566490D0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82680" indent="-571320">
              <a:spcBef>
                <a:spcPts val="799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727280" indent="-571680">
              <a:spcBef>
                <a:spcPts val="799"/>
              </a:spcBef>
              <a:buClr>
                <a:srgbClr val="000000"/>
              </a:buClr>
              <a:buSzPct val="74000"/>
              <a:buFont typeface="Zapf Dingbat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171880" indent="-5716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61612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61612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61612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03040" y="8723160"/>
            <a:ext cx="914400" cy="90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11658600" y="8724960"/>
            <a:ext cx="123048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955880" y="8731080"/>
            <a:ext cx="9093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http://ruc.noaa.gov/hfip/tcg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324120" y="93340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8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DE43-CC31-415A-9B01-C71BDA145F56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2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3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7" name="Picture 4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  <p:sp>
        <p:nvSpPr>
          <p:cNvPr id="88" name="PlaceHolder 1"/>
          <p:cNvSpPr>
            <a:spLocks noGrp="1"/>
          </p:cNvSpPr>
          <p:nvPr>
            <p:ph type="sldNum" idx="3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98EC-6E52-4A2E-AD2A-455E17284EF5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26" name="Line 2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AutoShape 3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AutoShape 4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9" name="Picture 5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  <p:sp>
        <p:nvSpPr>
          <p:cNvPr id="130" name="PlaceHolder 2"/>
          <p:cNvSpPr>
            <a:spLocks noGrp="1"/>
          </p:cNvSpPr>
          <p:nvPr>
            <p:ph type="sldNum" idx="4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E305-216A-43C2-93E0-DB1DE9620C5E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695916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68" name="Line 2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3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4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1" name="Picture 5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  <p:sp>
        <p:nvSpPr>
          <p:cNvPr id="172" name="PlaceHolder 2"/>
          <p:cNvSpPr>
            <a:spLocks noGrp="1"/>
          </p:cNvSpPr>
          <p:nvPr>
            <p:ph type="sldNum" idx="5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759C-EFFE-4520-AD0C-5F747EBEFCF3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0" name="Line 2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AutoShape 3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AutoShape 4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3" name="Picture 5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  <p:sp>
        <p:nvSpPr>
          <p:cNvPr id="214" name="PlaceHolder 2"/>
          <p:cNvSpPr>
            <a:spLocks noGrp="1"/>
          </p:cNvSpPr>
          <p:nvPr>
            <p:ph type="sldNum" idx="6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45EB-1837-43D2-A9BB-09A9E8769AF8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3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AutoShape 4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AutoShape 5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6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8169-B2DB-4C1B-B6FA-CAB1EB9B559E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7280" y="1130040"/>
            <a:ext cx="58676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47280" y="26413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1560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7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5960" indent="-399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9560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559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9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  <p:sp>
        <p:nvSpPr>
          <p:cNvPr id="300" name="PlaceHolder 3"/>
          <p:cNvSpPr>
            <a:spLocks noGrp="1"/>
          </p:cNvSpPr>
          <p:nvPr>
            <p:ph type="sldNum" idx="8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199A-7F50-4EAC-BB67-9410131D8FBE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1980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198000" indent="-19800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198000" indent="-1980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98000" indent="-19800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98000" indent="-19800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98000" indent="-19800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98000" indent="-19800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AutoShape 4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AutoShape 5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2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  <p:sp>
        <p:nvSpPr>
          <p:cNvPr id="343" name="PlaceHolder 3"/>
          <p:cNvSpPr>
            <a:spLocks noGrp="1"/>
          </p:cNvSpPr>
          <p:nvPr>
            <p:ph type="sldNum" idx="9"/>
          </p:nvPr>
        </p:nvSpPr>
        <p:spPr>
          <a:xfrm>
            <a:off x="6324120" y="925812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0A9E-74A4-4FA4-9ACC-2886CD0285D4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6324480" y="93092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7CF4-FD6E-44DC-B219-A1095CE470D7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4" name="Picture 5" descr="vbias.ecm.lant.2010.png"/>
          <p:cNvPicPr/>
          <p:nvPr/>
        </p:nvPicPr>
        <p:blipFill>
          <a:blip r:embed="rId2"/>
          <a:stretch/>
        </p:blipFill>
        <p:spPr>
          <a:xfrm>
            <a:off x="1549440" y="1143000"/>
            <a:ext cx="9601200" cy="75438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79440" cy="85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ill Sans"/>
              </a:rPr>
              <a:t>Tracking does matter…ECMF v EMX v ECMG v LGEM</a:t>
            </a:r>
            <a:endParaRPr b="0" lang="en-US" sz="4000" spc="-1" strike="noStrike">
              <a:solidFill>
                <a:srgbClr val="333333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BAF9-3E13-49ED-A953-39BE71B6A95A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LANT 2010 ::120 h genesis forecas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88920" y="2298600"/>
            <a:ext cx="12827160" cy="5499360"/>
          </a:xfrm>
          <a:prstGeom prst="rect">
            <a:avLst/>
          </a:prstGeom>
          <a:ln w="0">
            <a:noFill/>
          </a:ln>
        </p:spPr>
      </p:pic>
      <p:sp>
        <p:nvSpPr>
          <p:cNvPr id="453" name="AutoShape 3"/>
          <p:cNvSpPr/>
          <p:nvPr/>
        </p:nvSpPr>
        <p:spPr>
          <a:xfrm>
            <a:off x="291960" y="1295280"/>
            <a:ext cx="7632720" cy="69876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6 model/obs pairs ... cells colorized ..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CD79-2A1F-46A2-B4C5-5538332EC598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CMWF 120-h forecast for 20L.2010 (SHARY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2"/>
          <a:stretch/>
        </p:blipFill>
        <p:spPr>
          <a:xfrm>
            <a:off x="1473120" y="1104840"/>
            <a:ext cx="10058400" cy="75438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>
            <a:off x="495360" y="3454560"/>
            <a:ext cx="4521240" cy="67284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20L genesis ‘hit’ SD=0.4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457200" y="6667560"/>
            <a:ext cx="4521240" cy="69840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21L genesis ‘hit’ SD=0.5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64A8-880C-4F8A-9724-DB5FDA7F6CE3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120-h forecast of 20L.2010 (SHARY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1473120" y="1104840"/>
            <a:ext cx="10058400" cy="754380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3"/>
          <p:cNvSpPr/>
          <p:nvPr/>
        </p:nvSpPr>
        <p:spPr>
          <a:xfrm>
            <a:off x="469800" y="3073320"/>
            <a:ext cx="4521240" cy="59688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20L genesis ‘hit’ SD=1.0 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4"/>
          <p:cNvSpPr/>
          <p:nvPr/>
        </p:nvSpPr>
        <p:spPr>
          <a:xfrm>
            <a:off x="711360" y="6718320"/>
            <a:ext cx="4520880" cy="66024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21L genesis ‘hit’ SD=1.8 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AutoShape 5"/>
          <p:cNvSpPr/>
          <p:nvPr/>
        </p:nvSpPr>
        <p:spPr>
          <a:xfrm>
            <a:off x="7912080" y="5143680"/>
            <a:ext cx="4203720" cy="62208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ff66"/>
                </a:solidFill>
                <a:latin typeface="Gill Sans"/>
                <a:ea typeface="Gill Sans"/>
              </a:rPr>
              <a:t>Spuricane SD=1.0 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7F3A-6725-42E6-9D39-9B0D919102C6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LANT 2010 ::120 h genesis forecas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2"/>
          <a:stretch/>
        </p:blipFill>
        <p:spPr>
          <a:xfrm>
            <a:off x="88920" y="2298600"/>
            <a:ext cx="12827160" cy="54993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5079960" y="2425680"/>
            <a:ext cx="2730600" cy="228600"/>
          </a:xfrm>
          <a:prstGeom prst="rect">
            <a:avLst/>
          </a:prstGeom>
          <a:solidFill>
            <a:srgbClr val="999999">
              <a:alpha val="35000"/>
            </a:srgbClr>
          </a:solidFill>
          <a:ln w="25560">
            <a:solidFill>
              <a:srgbClr val="00000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4254480" y="3848040"/>
            <a:ext cx="7975800" cy="3772080"/>
          </a:xfrm>
          <a:prstGeom prst="pie">
            <a:avLst/>
          </a:prstGeom>
          <a:solidFill>
            <a:srgbClr val="0008aa">
              <a:alpha val="82000"/>
            </a:srgbClr>
          </a:solidFill>
          <a:ln w="25560">
            <a:solidFill>
              <a:srgbClr val="00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cd135"/>
                </a:solidFill>
                <a:latin typeface="Gill Sans"/>
                <a:ea typeface="Gill Sans"/>
              </a:rPr>
              <a:t>(global) models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cd135"/>
                </a:solidFill>
                <a:latin typeface="Courier New"/>
                <a:ea typeface="Courier New"/>
              </a:rPr>
              <a:t>gfs  = NCEP GFS (T574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cd135"/>
                </a:solidFill>
                <a:latin typeface="Courier New"/>
                <a:ea typeface="Courier New"/>
              </a:rPr>
              <a:t>ecm  = ECMWF IFS (T1299; deterministic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cd135"/>
                </a:solidFill>
                <a:latin typeface="Courier New"/>
                <a:ea typeface="Courier New"/>
              </a:rPr>
              <a:t>fim  = ESRL FIM (30 km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cd135"/>
                </a:solidFill>
                <a:latin typeface="Courier New"/>
                <a:ea typeface="Courier New"/>
              </a:rPr>
              <a:t>ukm  = UKMO UM (~30 km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cd135"/>
                </a:solidFill>
                <a:latin typeface="Courier New"/>
                <a:ea typeface="Courier New"/>
              </a:rPr>
              <a:t>ngp  = FNMOC NOGAPS (T319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cd135"/>
                </a:solidFill>
                <a:latin typeface="Courier New"/>
                <a:ea typeface="Courier New"/>
              </a:rPr>
              <a:t>cmc  = CMC GEM (~50 km)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and invests (90-99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B00F-B835-4614-A347-FE8B06366E15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LANT 2010 ::120 h genesis forecas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2"/>
          <a:stretch/>
        </p:blipFill>
        <p:spPr>
          <a:xfrm>
            <a:off x="88920" y="2298600"/>
            <a:ext cx="12827160" cy="549936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3"/>
          <p:cNvSpPr/>
          <p:nvPr/>
        </p:nvSpPr>
        <p:spPr>
          <a:xfrm>
            <a:off x="1765440" y="7835760"/>
            <a:ext cx="8242200" cy="69876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</a:rPr>
              <a:t>obs yellow or black ⇒ missing model ru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AutoShape 4"/>
          <p:cNvSpPr/>
          <p:nvPr/>
        </p:nvSpPr>
        <p:spPr>
          <a:xfrm>
            <a:off x="279360" y="1206360"/>
            <a:ext cx="4051440" cy="69876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6 model/obs pairs ..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AutoShape 5"/>
          <p:cNvSpPr/>
          <p:nvPr/>
        </p:nvSpPr>
        <p:spPr>
          <a:xfrm>
            <a:off x="4851360" y="1155600"/>
            <a:ext cx="7785000" cy="97812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Lucida Grande"/>
              </a:rPr>
              <a:t>model cells dark grey → indigo ⇒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correct forecast of genesi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921F-E962-4211-8A35-82B17CD18315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key to the genesis stats - 19L GF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2"/>
          <a:stretch/>
        </p:blipFill>
        <p:spPr>
          <a:xfrm>
            <a:off x="571680" y="4013280"/>
            <a:ext cx="10553400" cy="128412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3"/>
          <p:cNvSpPr/>
          <p:nvPr/>
        </p:nvSpPr>
        <p:spPr>
          <a:xfrm>
            <a:off x="2158920" y="6095880"/>
            <a:ext cx="6337440" cy="228600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3 GFS genesis storms within 6 deg of 19L at each of the 3 00|12Z times during the genesis period/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total model SDs = 5.4 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5575320" y="1625760"/>
            <a:ext cx="4343400" cy="187956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3 verifying model runs in the genesis period/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total SDs = 3.6 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D08F-96B4-46D2-8E74-5D2BB158AF04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LANT 2010 ::120 h genesis forecas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2"/>
          <a:stretch/>
        </p:blipFill>
        <p:spPr>
          <a:xfrm>
            <a:off x="88920" y="2298600"/>
            <a:ext cx="12827160" cy="549936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3"/>
          <p:cNvSpPr/>
          <p:nvPr/>
        </p:nvSpPr>
        <p:spPr>
          <a:xfrm>
            <a:off x="851040" y="7886880"/>
            <a:ext cx="8242200" cy="69840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FIM: missing runs &amp; genesis too stro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4"/>
          <p:cNvSpPr/>
          <p:nvPr/>
        </p:nvSpPr>
        <p:spPr>
          <a:xfrm>
            <a:off x="939960" y="1257480"/>
            <a:ext cx="5575320" cy="69840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ECMWF:14/20 storms correc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5"/>
          <p:cNvSpPr/>
          <p:nvPr/>
        </p:nvSpPr>
        <p:spPr>
          <a:xfrm>
            <a:off x="6934320" y="1143000"/>
            <a:ext cx="5575320" cy="104148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models generally better forecast genesis for HU v TD/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5C23-1216-4E86-91EB-AF7DB2CE7C81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LANT 2010 ::120 h genesis forecast stats..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2"/>
          <a:stretch/>
        </p:blipFill>
        <p:spPr>
          <a:xfrm>
            <a:off x="279360" y="1308240"/>
            <a:ext cx="8991720" cy="676260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3"/>
          <p:cNvSpPr/>
          <p:nvPr/>
        </p:nvSpPr>
        <p:spPr>
          <a:xfrm>
            <a:off x="9512280" y="1650960"/>
            <a:ext cx="3251160" cy="154944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cd135"/>
                </a:solidFill>
                <a:latin typeface="Gill Sans"/>
                <a:ea typeface="Gill Sans"/>
              </a:rPr>
              <a:t> </a:t>
            </a:r>
            <a:r>
              <a:rPr b="0" lang="en-US" sz="2700" spc="-1" strike="noStrike">
                <a:solidFill>
                  <a:srgbClr val="fcd135"/>
                </a:solidFill>
                <a:latin typeface="Gill Sans"/>
                <a:ea typeface="Gill Sans"/>
              </a:rPr>
              <a:t>18/20 - 1 mod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cd135"/>
                </a:solidFill>
                <a:latin typeface="Gill Sans"/>
                <a:ea typeface="Gill Sans"/>
              </a:rPr>
              <a:t> </a:t>
            </a:r>
            <a:r>
              <a:rPr b="0" lang="en-US" sz="2700" spc="-1" strike="noStrike">
                <a:solidFill>
                  <a:srgbClr val="fcd135"/>
                </a:solidFill>
                <a:latin typeface="Gill Sans"/>
                <a:ea typeface="Gill Sans"/>
              </a:rPr>
              <a:t>14/20 - 2&amp;3 model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cd135"/>
                </a:solidFill>
                <a:latin typeface="Gill Sans"/>
                <a:ea typeface="Gill Sans"/>
              </a:rPr>
              <a:t> </a:t>
            </a:r>
            <a:r>
              <a:rPr b="0" lang="en-US" sz="2700" spc="-1" strike="noStrike">
                <a:solidFill>
                  <a:srgbClr val="fcd135"/>
                </a:solidFill>
                <a:latin typeface="Gill Sans"/>
                <a:ea typeface="Gill Sans"/>
              </a:rPr>
              <a:t>5/20 - 4 of 4 model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838080" y="3390840"/>
            <a:ext cx="2578320" cy="149868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ECMWF/GFS highest success rat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557B-4F5E-46E8-A656-67C44C9B2F98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3" name="Picture 1" descr=""/>
          <p:cNvPicPr/>
          <p:nvPr/>
        </p:nvPicPr>
        <p:blipFill>
          <a:blip r:embed="rId2"/>
          <a:stretch/>
        </p:blipFill>
        <p:spPr>
          <a:xfrm>
            <a:off x="1701720" y="1162080"/>
            <a:ext cx="9601200" cy="75373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LANT 2010 :: mean SD 20100600-110100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5054760" y="2133720"/>
            <a:ext cx="5575320" cy="60948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  <a:ea typeface="Gill Sans"/>
              </a:rPr>
              <a:t>FIM &amp; CMC double spuricane rat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CA18-BDF2-4F59-88D8-18FE151A9AFE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7" name="Picture 1" descr=""/>
          <p:cNvPicPr/>
          <p:nvPr/>
        </p:nvPicPr>
        <p:blipFill>
          <a:blip r:embed="rId2"/>
          <a:stretch/>
        </p:blipFill>
        <p:spPr>
          <a:xfrm>
            <a:off x="1701720" y="1130400"/>
            <a:ext cx="9601200" cy="75373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LANT 2010 :: mean pr</a:t>
            </a:r>
            <a:r>
              <a:rPr b="0" lang="en-US" sz="4800" spc="-1" strike="noStrike" baseline="-6000">
                <a:solidFill>
                  <a:srgbClr val="000000"/>
                </a:solidFill>
                <a:latin typeface="Gill Sans"/>
              </a:rPr>
              <a:t>conv</a:t>
            </a: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/pr</a:t>
            </a:r>
            <a:r>
              <a:rPr b="0" lang="en-US" sz="4800" spc="-1" strike="noStrike" baseline="-6000">
                <a:solidFill>
                  <a:srgbClr val="000000"/>
                </a:solidFill>
                <a:latin typeface="Gill Sans"/>
              </a:rPr>
              <a:t>tot</a:t>
            </a: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 20100600-110100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477120" y="1994040"/>
            <a:ext cx="4038480" cy="1066680"/>
          </a:xfrm>
          <a:prstGeom prst="pie">
            <a:avLst/>
          </a:prstGeom>
          <a:solidFill>
            <a:srgbClr val="0008a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d135"/>
                </a:solidFill>
                <a:latin typeface="Gill Sans"/>
              </a:rPr>
              <a:t>FIM lowest convective rainfall ⇒ more LS rai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3"/>
          <p:cNvSpPr/>
          <p:nvPr/>
        </p:nvSpPr>
        <p:spPr>
          <a:xfrm>
            <a:off x="6324480" y="93092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CD86-4D64-4AE2-8950-924FE43B8F0A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ill Sans"/>
              </a:rPr>
              <a:t>Tracking does matter…ratio of abs(bias)/mean(abs)</a:t>
            </a:r>
            <a:endParaRPr b="0" lang="en-US" sz="40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428" name="Picture 4" descr="gainxyvbias.ecm.lant.2010.png"/>
          <p:cNvPicPr/>
          <p:nvPr/>
        </p:nvPicPr>
        <p:blipFill>
          <a:blip r:embed="rId2"/>
          <a:stretch/>
        </p:blipFill>
        <p:spPr>
          <a:xfrm>
            <a:off x="1397160" y="1143000"/>
            <a:ext cx="96012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44D3-2DB0-4534-BCAE-B6ED7AB7CBC9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ummary and Plans for 2011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rimary purpose – model diagnos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pply to GFS EnKF ensemb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libra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ttings in TIMs + minimal SDs for genesis/spuricanes (how big/small should SD be?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recast applications (stream 1.0/1.5?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robability of formation/genesis from multi-model and single-model ensembl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0E60-0F18-415F-AFA1-E9E373416E39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Outtakes..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360" y="1333080"/>
            <a:ext cx="11950560" cy="720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alysis of record” v “record of operations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OO != archiv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when it comes to NWP model operational data I am: AR++/OCD/ADD/ADH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653480" indent="-531360">
              <a:buClr>
                <a:srgbClr val="000000"/>
              </a:buClr>
              <a:buSzPct val="74000"/>
              <a:buFont typeface="Zapf Dingbat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GAPS:1995; GFS: 1996; UKMO: 1998; ECMWF:1999 .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826560" indent="-5310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/w repo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"/>
              </a:rPr>
              <a:t>http://wxmap2.sf.net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/ all my stuff is here (well, almost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653480" indent="-531360">
              <a:buClr>
                <a:srgbClr val="000000"/>
              </a:buClr>
              <a:buSzPct val="74000"/>
              <a:buFont typeface="Zapf Dingbat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stem-level:  .f, .f90, .c, .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53480" indent="-531360">
              <a:buClr>
                <a:srgbClr val="000000"/>
              </a:buClr>
              <a:buSzPct val="74000"/>
              <a:buFont typeface="Zapf Dingbat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cripts: 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, .pl, .ksh, .csh, .gs(grad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53480" indent="-531360">
              <a:buClr>
                <a:srgbClr val="000000"/>
              </a:buClr>
              <a:buSzPct val="74000"/>
              <a:buFont typeface="Zapf Dingbat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b:              .php, .js, .css, .java, .f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39840" indent="-53100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ometimes “sharing” is hard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653480" indent="-531360">
              <a:buClr>
                <a:srgbClr val="000000"/>
              </a:buClr>
              <a:buSzPct val="74000"/>
              <a:buFont typeface="Zapf Dingbat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de tends to be application-specific (NWP/GCMs) &amp; idiosyncra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653480" indent="-531360">
              <a:buClr>
                <a:srgbClr val="000000"/>
              </a:buClr>
              <a:buSzPct val="74000"/>
              <a:buFont typeface="Zapf Dingbat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pular tools != community standar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6324480" y="93092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FFF4-D7AC-4B5F-939C-6A1F16E4F51D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155240"/>
            <a:ext cx="10464840" cy="455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33"/>
                </a:solidFill>
                <a:latin typeface="Gill Sans"/>
              </a:rPr>
              <a:t>TCgen</a:t>
            </a:r>
            <a:br>
              <a:rPr sz="6600"/>
            </a:br>
            <a:r>
              <a:rPr b="0" lang="en-US" sz="3500" spc="-1" strike="noStrike">
                <a:solidFill>
                  <a:srgbClr val="333333"/>
                </a:solidFill>
                <a:latin typeface="Gill Sans"/>
              </a:rPr>
              <a:t>an application of the GFDL ‘TIMs’ (</a:t>
            </a:r>
            <a:r>
              <a:rPr b="1" lang="en-US" sz="3500" spc="-1" strike="noStrike">
                <a:solidFill>
                  <a:srgbClr val="333333"/>
                </a:solidFill>
                <a:latin typeface="Gill Sans"/>
              </a:rPr>
              <a:t>T</a:t>
            </a:r>
            <a:r>
              <a:rPr b="0" lang="en-US" sz="3500" spc="-1" strike="noStrike">
                <a:solidFill>
                  <a:srgbClr val="333333"/>
                </a:solidFill>
                <a:latin typeface="Gill Sans"/>
              </a:rPr>
              <a:t>Cs </a:t>
            </a:r>
            <a:r>
              <a:rPr b="1" lang="en-US" sz="3500" spc="-1" strike="noStrike">
                <a:solidFill>
                  <a:srgbClr val="333333"/>
                </a:solidFill>
                <a:latin typeface="Gill Sans"/>
              </a:rPr>
              <a:t>I</a:t>
            </a:r>
            <a:r>
              <a:rPr b="0" lang="en-US" sz="3500" spc="-1" strike="noStrike">
                <a:solidFill>
                  <a:srgbClr val="333333"/>
                </a:solidFill>
                <a:latin typeface="Gill Sans"/>
              </a:rPr>
              <a:t>n </a:t>
            </a:r>
            <a:r>
              <a:rPr b="1" lang="en-US" sz="3500" spc="-1" strike="noStrike">
                <a:solidFill>
                  <a:srgbClr val="333333"/>
                </a:solidFill>
                <a:latin typeface="Gill Sans"/>
              </a:rPr>
              <a:t>M</a:t>
            </a:r>
            <a:r>
              <a:rPr b="0" lang="en-US" sz="3500" spc="-1" strike="noStrike">
                <a:solidFill>
                  <a:srgbClr val="333333"/>
                </a:solidFill>
                <a:latin typeface="Gill Sans"/>
              </a:rPr>
              <a:t>odel</a:t>
            </a:r>
            <a:r>
              <a:rPr b="1" lang="en-US" sz="3500" spc="-1" strike="noStrike">
                <a:solidFill>
                  <a:srgbClr val="333333"/>
                </a:solidFill>
                <a:latin typeface="Gill Sans"/>
              </a:rPr>
              <a:t>s</a:t>
            </a:r>
            <a:r>
              <a:rPr b="0" lang="en-US" sz="3500" spc="-1" strike="noStrike">
                <a:solidFill>
                  <a:srgbClr val="333333"/>
                </a:solidFill>
                <a:latin typeface="Gill Sans"/>
              </a:rPr>
              <a:t>) genesis tracker to genesis verification and ‘spuricane’ analysis in a multi-(global)model ensemble</a:t>
            </a:r>
            <a:br>
              <a:rPr sz="3500"/>
            </a:br>
            <a:br>
              <a:rPr sz="2400"/>
            </a:br>
            <a:r>
              <a:rPr b="0" lang="en-US" sz="2800" spc="-1" strike="noStrike">
                <a:solidFill>
                  <a:srgbClr val="333333"/>
                </a:solidFill>
                <a:latin typeface="Gill Sans"/>
              </a:rPr>
              <a:t>Mike Fiorino, NOAA ESRL</a:t>
            </a:r>
            <a:br>
              <a:rPr sz="2800"/>
            </a:br>
            <a:r>
              <a:rPr b="0" lang="en-US" sz="2400" spc="-1" strike="noStrike" u="sng">
                <a:solidFill>
                  <a:srgbClr val="333333"/>
                </a:solidFill>
                <a:uFillTx/>
                <a:latin typeface="Gill Sans"/>
              </a:rPr>
              <a:t>michael.fiorino@noaa.gov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Gill Sans"/>
              </a:rPr>
              <a:t>9 November 2010</a:t>
            </a:r>
            <a:endParaRPr b="0" lang="en-US" sz="2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1440" y="5232240"/>
            <a:ext cx="11201400" cy="327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2984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Gill Sans"/>
            </a:endParaRPr>
          </a:p>
          <a:p>
            <a:pPr marL="298440">
              <a:lnSpc>
                <a:spcPct val="8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genesis and the forecast problem</a:t>
            </a:r>
            <a:endParaRPr b="0" lang="en-US" sz="3500" spc="-1" strike="noStrike">
              <a:solidFill>
                <a:srgbClr val="333333"/>
              </a:solidFill>
              <a:latin typeface="Gill Sans"/>
            </a:endParaRPr>
          </a:p>
          <a:p>
            <a:pPr marL="298440"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verification of genesis forecasting in the big global models</a:t>
            </a:r>
            <a:endParaRPr b="0" lang="en-US" sz="3500" spc="-1" strike="noStrike">
              <a:solidFill>
                <a:srgbClr val="333333"/>
              </a:solidFill>
              <a:latin typeface="Gill Sans"/>
            </a:endParaRPr>
          </a:p>
          <a:p>
            <a:pPr lvl="1" marL="1145880" indent="-429480"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M, GFS, ECMWF, UKMO, NOGAPS, CMC </a:t>
            </a:r>
            <a:endParaRPr b="0" lang="en-US" sz="3000" spc="-1" strike="noStrike">
              <a:solidFill>
                <a:srgbClr val="333333"/>
              </a:solidFill>
              <a:latin typeface="Gill Sans"/>
            </a:endParaRPr>
          </a:p>
          <a:p>
            <a:pPr marL="298440"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spurious (non-genesis) TCs = ‘spuricanes’</a:t>
            </a:r>
            <a:endParaRPr b="0" lang="en-US" sz="3500" spc="-1" strike="noStrike">
              <a:solidFill>
                <a:srgbClr val="333333"/>
              </a:solidFill>
              <a:latin typeface="Gill Sans"/>
            </a:endParaRPr>
          </a:p>
          <a:p>
            <a:pPr lvl="1" marL="1145880" indent="-429480">
              <a:buClr>
                <a:srgbClr val="000000"/>
              </a:buClr>
              <a:buSzPct val="125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dependence on the ratio of convective to total precip</a:t>
            </a:r>
            <a:endParaRPr b="0" lang="en-US" sz="3100" spc="-1" strike="noStrike">
              <a:solidFill>
                <a:srgbClr val="333333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BB58-EC3C-4927-832C-352086D6346E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Let’s play:  TC Jeopardy! (eh?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1816200"/>
            <a:ext cx="1046484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warm-core, non-frontal synoptic-scale cyclone over tropical or subtropical waters, with organized deep convection and a closed surface wind circulation about a well-defined center”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</a:rPr>
              <a:t>What is a Tropical Cyclon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6375-C4C8-46E9-A32A-D32D233A0834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TC Jeopardy!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12520" y="1917720"/>
            <a:ext cx="1137924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first tropical cyclone forecast/advisory will normally be issued when meteorological data indicate that a tropical or subtropical cyclone has formed” (V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max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~ 25 kt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Gill Sans"/>
              </a:rPr>
              <a:t>What is NHOP 4.3.2? 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(USCINCPAC INSTRUCTION 3140.1X)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5670-E06C-4562-99EB-D71333596D9D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TC Genesi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19173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Gill Sans"/>
              </a:rPr>
              <a:t>genesis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 = date-time of first NHC advisory (JTWC warning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Gill Sans"/>
              </a:rPr>
              <a:t>genesis period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 = 18 h before and 12 h after genesis so there are three 00/12Z times or 24-h window for a model to forecast genesis...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7248-F7B8-4DCD-AC43-CEB6BF407D85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Formation v Genesis</a:t>
            </a:r>
            <a:br>
              <a:rPr sz="37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Length of pre-genesis/formation period (9X state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520" y="1511280"/>
            <a:ext cx="12230280" cy="709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53200" indent="-5482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HC (LANT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2000-2001:  mean 35 h; 9 short/snap advisories (&lt;= 12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2009-2010:  mean 64 h; 2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JTWC (WPAC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2000-2001:  mean 29 h; 20 short/snap warning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2009-2010:  mean 74 h; 2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spcBef>
                <a:spcPts val="799"/>
              </a:spcBef>
              <a:buClr>
                <a:srgbClr val="a408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a40800"/>
                </a:solidFill>
                <a:latin typeface="Gill Sans"/>
              </a:rPr>
              <a:t>&gt;= 2010: numbered storms in 9X state for ~ 3 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enesis forecast problem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&lt;= 72 h :: formation/probability of form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279800" indent="-54828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&gt;= 96 h :: genesis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E106-FA0B-4170-B7E6-FD8E882E516A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GFDL TIMs genesis tracker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34680" y="1409760"/>
            <a:ext cx="11734920" cy="692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"/>
              </a:rPr>
              <a:t>TIMs runs in two modes: 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buClr>
                <a:srgbClr val="000000"/>
              </a:buClr>
              <a:buSzPct val="82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normal tracking of existing system (9X or NN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lnSpc>
                <a:spcPct val="80000"/>
              </a:lnSpc>
              <a:buClr>
                <a:srgbClr val="000000"/>
              </a:buClr>
              <a:buSzPct val="82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genesis mode - detect and track TCs during the model forecast that are not known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"/>
              </a:rPr>
              <a:t>Application to global models: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buClr>
                <a:srgbClr val="000000"/>
              </a:buClr>
              <a:buSzPct val="82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regrid all models to 1° grid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lnSpc>
                <a:spcPct val="80000"/>
              </a:lnSpc>
              <a:buClr>
                <a:srgbClr val="000000"/>
              </a:buClr>
              <a:buSzPct val="82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retain genesis systems initially in tropics (&lt;30N &gt;30S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lnSpc>
                <a:spcPct val="80000"/>
              </a:lnSpc>
              <a:buClr>
                <a:srgbClr val="000000"/>
              </a:buClr>
              <a:buSzPct val="82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remove systems over land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"/>
              </a:rPr>
              <a:t>Model genesis forecast is counted as a ‘hit’ if: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lnSpc>
                <a:spcPct val="80000"/>
              </a:lnSpc>
              <a:buClr>
                <a:srgbClr val="000000"/>
              </a:buClr>
              <a:buSzPct val="82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a genesis system &lt;= 480 nm from genesis TC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"/>
              </a:rPr>
              <a:t>Spurious Hurricane (TC) = “spuricane”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buClr>
                <a:srgbClr val="000000"/>
              </a:buClr>
              <a:buSzPct val="82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</a:rPr>
              <a:t>genesis system NOT associated with genesis or real  TC (9X or NN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232127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6324480" y="93344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CA95-69BE-4DF0-8F87-8D09C5C4FF04}" type="slidenum">
              <a:rPr b="0" lang="en-US" sz="1800" spc="-1" strike="noStrike">
                <a:solidFill>
                  <a:srgbClr val="00008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00" y="-12600"/>
            <a:ext cx="129794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trength of model genesis storms..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4240" y="2018880"/>
            <a:ext cx="12115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caled TD days - duration/intensity meas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Lucida Grande"/>
              </a:rPr>
              <a:t>SD = ∫V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m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Lucida Grande"/>
              </a:rPr>
              <a:t>(t)/25dt = ∑ V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m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i)/25kt • 6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genesis TC has a max wind of 25 kt for 24 h, SD = 1.0 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otal SD during the 30 h genesis period is ~ 3.0 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25 kt in three 24-h periods ending 00/12Z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5:31:37Z</dcterms:created>
  <dc:creator/>
  <dc:description/>
  <cp:keywords/>
  <dc:language>en-US</dc:language>
  <cp:lastModifiedBy>Michael FIorino</cp:lastModifiedBy>
  <dcterms:modified xsi:type="dcterms:W3CDTF">2010-11-10T06:00:18Z</dcterms:modified>
  <cp:revision>5</cp:revision>
  <dc:subject/>
  <dc:title>TCgen an application of the GFDL ‘TIMs’ (TCs In Models) genesis tracker to genesis verification and ‘spuricane’ analysis in a multi-(global)model ensemble  Mike Fiorino, NOAA ESRL michael.fiorino@noaa.gov 9 November 2010</dc:title>
</cp:coreProperties>
</file>