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F7C9-ADF6-4265-8505-C2B71ACE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944-BE4F-437E-ACC2-3AC32EA7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FAF-E64A-492F-B851-D578237E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C2F-CDDB-440B-81E8-83C925E1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E4A-448C-407B-AF03-D1979578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300-227C-40AB-9B00-B700E1DC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324-B076-4972-895D-F37C82D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77D-15CE-42B9-A888-EA940FB1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06C-CA6F-41B9-B4F3-ACDC056E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C8D-C4CE-4185-AFA6-D1957067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BED-7C22-4264-9981-F5FC3C9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790-5BD2-4522-8B1C-C85B192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0CE-E658-40AB-9FB1-7F5BF29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7DB-6DC2-497C-9B3F-2C62683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4C91-46B2-4266-BFED-AEF9FE4CE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0180" t="5071" r="14371" b="9688"/>
          <a:stretch/>
        </p:blipFill>
        <p:spPr>
          <a:xfrm>
            <a:off x="0" y="990720"/>
            <a:ext cx="410220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038480" y="685800"/>
            <a:ext cx="510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due to model physics, numerics, initialization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independent of dynamical or statistical mode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become roughly constant after 36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simply be error saturation from loss of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edictability governed by two time sca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Core intern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of inner core to changes i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85800" y="48769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ybe we should be focusing on (2) rather than (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 sensitivities are a manifestation of lack of predic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eat improvements of initial inner core structure will only last on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imilation of larger scales paramount (with good representation of vortex respon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828800" y="228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ehind rapid error grow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KF Trigger Test: Matth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in this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old_60h.png"/>
          <p:cNvPicPr/>
          <p:nvPr/>
        </p:nvPicPr>
        <p:blipFill>
          <a:blip r:embed="rId1"/>
          <a:stretch/>
        </p:blipFill>
        <p:spPr>
          <a:xfrm>
            <a:off x="609480" y="2247840"/>
            <a:ext cx="3664080" cy="36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TextBox 12"/>
          <p:cNvSpPr/>
          <p:nvPr/>
        </p:nvSpPr>
        <p:spPr>
          <a:xfrm>
            <a:off x="1754280" y="1828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 60 h fcst from 092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716080" y="182880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60 h fcst from 092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new_60h.png"/>
          <p:cNvPicPr/>
          <p:nvPr/>
        </p:nvPicPr>
        <p:blipFill>
          <a:blip r:embed="rId2"/>
          <a:stretch/>
        </p:blipFill>
        <p:spPr>
          <a:xfrm>
            <a:off x="4857840" y="2286000"/>
            <a:ext cx="3448080" cy="358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W Real-time Forecasts: Issues 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523880" y="114300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casts were not finished until t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ed two cycles old at N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only run one storm p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 on 12-km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urious 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inten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out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uble with recurving storms farther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es of overintensification (Ea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En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differing domains and physics could lead to spurious behavior in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W Real-time Forecasts: Plans for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143000" y="990720"/>
            <a:ext cx="723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1.33-km nest; use smaller 12-km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d 2.5 h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more nodes for more storms; all forecasts finish at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vior on 12-km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-km domain now a buffer between 36 and 4-km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ed Kain-Fritsch trigger function reduces spurious 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out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larger 36-km domain as outer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development decreased on 4-km inner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xamine use of double-momen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EnK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domain sizes and physics as close as possible (no 4-km domain or ocean coupling in EnK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member nearest ensemble mean for high-res.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685800" y="1863720"/>
            <a:ext cx="7772400" cy="4794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0" y="2590920"/>
            <a:ext cx="3505320" cy="3276360"/>
          </a:xfrm>
          <a:prstGeom prst="rect">
            <a:avLst/>
          </a:prstGeom>
          <a:noFill/>
          <a:ln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867280" y="2438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12 km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68x4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345920" y="320040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12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1x1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449568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4 km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6449760" y="15238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km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sp_earl_2010_vs_2011.png"/>
          <p:cNvPicPr/>
          <p:nvPr/>
        </p:nvPicPr>
        <p:blipFill>
          <a:blip r:embed="rId1"/>
          <a:stretch/>
        </p:blipFill>
        <p:spPr>
          <a:xfrm>
            <a:off x="0" y="838080"/>
            <a:ext cx="4781520" cy="478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wsp_igor_2010_vs_2011.png"/>
          <p:cNvPicPr/>
          <p:nvPr/>
        </p:nvPicPr>
        <p:blipFill>
          <a:blip r:embed="rId2"/>
          <a:srcRect l="17818" t="0" r="0" b="0"/>
          <a:stretch/>
        </p:blipFill>
        <p:spPr>
          <a:xfrm>
            <a:off x="4648320" y="838080"/>
            <a:ext cx="3929040" cy="4781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505320" y="3809880"/>
            <a:ext cx="10666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 confi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 confi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867280" y="3809880"/>
            <a:ext cx="10670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 confi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 confi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7391520" y="38862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144792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 vs. Proposed 201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1600200" y="55627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are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1066680" y="4038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change for intensifying st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400800" y="2286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change for weakening st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Fake Vor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12973" t="46489" r="26217" b="15675"/>
          <a:stretch/>
        </p:blipFill>
        <p:spPr>
          <a:xfrm>
            <a:off x="2590920" y="2362320"/>
            <a:ext cx="4286160" cy="2666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74" name="TextBox 4"/>
          <p:cNvSpPr/>
          <p:nvPr/>
        </p:nvSpPr>
        <p:spPr>
          <a:xfrm>
            <a:off x="91440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ver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334120" y="5334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l, too soon (by 3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6"/>
          <p:cNvCxnSpPr/>
          <p:nvPr/>
        </p:nvCxnSpPr>
        <p:spPr>
          <a:xfrm flipV="1">
            <a:off x="6018840" y="4419000"/>
            <a:ext cx="76680" cy="99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" name="Straight Arrow Connector 7"/>
          <p:cNvCxnSpPr/>
          <p:nvPr/>
        </p:nvCxnSpPr>
        <p:spPr>
          <a:xfrm flipV="1">
            <a:off x="2057040" y="3352320"/>
            <a:ext cx="1220040" cy="534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10"/>
          <p:cNvSpPr/>
          <p:nvPr/>
        </p:nvSpPr>
        <p:spPr>
          <a:xfrm>
            <a:off x="4572000" y="1916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h fcst from 09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Fake Vor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old_60h.png"/>
          <p:cNvPicPr/>
          <p:nvPr/>
        </p:nvPicPr>
        <p:blipFill>
          <a:blip r:embed="rId1"/>
          <a:stretch/>
        </p:blipFill>
        <p:spPr>
          <a:xfrm>
            <a:off x="609480" y="2247840"/>
            <a:ext cx="3664080" cy="36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Box 12"/>
          <p:cNvSpPr/>
          <p:nvPr/>
        </p:nvSpPr>
        <p:spPr>
          <a:xfrm>
            <a:off x="2211120" y="182880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 h fcst from 092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old_120h.png"/>
          <p:cNvPicPr/>
          <p:nvPr/>
        </p:nvPicPr>
        <p:blipFill>
          <a:blip r:embed="rId2"/>
          <a:stretch/>
        </p:blipFill>
        <p:spPr>
          <a:xfrm>
            <a:off x="4724280" y="2209680"/>
            <a:ext cx="3581640" cy="366732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83" name="TextBox 17"/>
          <p:cNvSpPr/>
          <p:nvPr/>
        </p:nvSpPr>
        <p:spPr>
          <a:xfrm>
            <a:off x="6097320" y="182880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h fcst from 092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71840" y="15192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F Trigger: Ig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2"/>
          <p:cNvSpPr/>
          <p:nvPr/>
        </p:nvSpPr>
        <p:spPr>
          <a:xfrm>
            <a:off x="6859440" y="7621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h fcst from 09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new_6h.png"/>
          <p:cNvPicPr/>
          <p:nvPr/>
        </p:nvPicPr>
        <p:blipFill>
          <a:blip r:embed="rId1"/>
          <a:stretch/>
        </p:blipFill>
        <p:spPr>
          <a:xfrm>
            <a:off x="3352680" y="3089160"/>
            <a:ext cx="5791320" cy="376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old_6h.png"/>
          <p:cNvPicPr/>
          <p:nvPr/>
        </p:nvPicPr>
        <p:blipFill>
          <a:blip r:embed="rId2"/>
          <a:stretch/>
        </p:blipFill>
        <p:spPr>
          <a:xfrm>
            <a:off x="0" y="0"/>
            <a:ext cx="5527800" cy="3581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129600" y="3505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8225640" y="2967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28600" y="57992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wide spread rainfall in the new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F Trigger: Ig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29600" y="3505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8225640" y="31194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tc-diff.png"/>
          <p:cNvPicPr/>
          <p:nvPr/>
        </p:nvPicPr>
        <p:blipFill>
          <a:blip r:embed="rId1"/>
          <a:stretch/>
        </p:blipFill>
        <p:spPr>
          <a:xfrm>
            <a:off x="76320" y="167652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rh-diff.png"/>
          <p:cNvPicPr/>
          <p:nvPr/>
        </p:nvPicPr>
        <p:blipFill>
          <a:blip r:embed="rId2"/>
          <a:stretch/>
        </p:blipFill>
        <p:spPr>
          <a:xfrm>
            <a:off x="4267080" y="16765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2"/>
          <p:cNvSpPr/>
          <p:nvPr/>
        </p:nvSpPr>
        <p:spPr>
          <a:xfrm>
            <a:off x="1676520" y="9144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-averaged T and RH difference between new and old KF-trigger at 120 h fcst from 091900: cooler and more moist. The change results in slightly higher surface pressure, and less total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2:56:45Z</dcterms:created>
  <dc:creator>cdavis</dc:creator>
  <dc:description/>
  <dc:language>en-US</dc:language>
  <cp:lastModifiedBy>cdavis</cp:lastModifiedBy>
  <dcterms:modified xsi:type="dcterms:W3CDTF">2010-11-08T23:18:20Z</dcterms:modified>
  <cp:revision>6</cp:revision>
  <dc:subject/>
  <dc:title>AHW Real-time Forecasts: Thoughts for 2011</dc:title>
</cp:coreProperties>
</file>