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ct" ContentType="image/x-pict"/>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89885-5D14-4431-97BC-01F321DD5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8B79D-1CD6-4104-9DE9-FDC7C57FD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838F3-5204-4C08-A2FB-244594DD9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70D04-BFCC-4163-9E3C-C4AA6B300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F533F-2381-4368-8A03-534FA44EF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5D0EA-3282-4840-BF0B-1FC18EB73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96137-8D80-4B8C-AD91-C1CD6AA96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D8543-6520-441A-A543-E9233E668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C382E-4FB6-4E9B-A27C-7C70B55F9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19D17-CFC4-4710-A186-658A418F0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2279-596F-49BF-A27F-54F9D50CB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D0610-005A-4973-AA02-5A51326E1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B3FCD-5C82-4B1F-B789-22EEF3F9E07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29F77-4C20-4569-84D3-008BD149EB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6660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UW Stream 1.5 Candidacy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63384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a452a"/>
                </a:solidFill>
                <a:latin typeface="Times New Roman"/>
              </a:rPr>
              <a:t>2010 HFIP Annual Meeting</a:t>
            </a:r>
            <a:endParaRPr b="0" lang="en-US" sz="32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a452a"/>
                </a:solidFill>
                <a:latin typeface="Times New Roman"/>
              </a:rPr>
              <a:t>William Lewis and Greg Tripoli</a:t>
            </a:r>
            <a:endParaRPr b="0" lang="en-US" sz="32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a452a"/>
                </a:solidFill>
                <a:latin typeface="Times New Roman"/>
              </a:rPr>
              <a:t>9 November 2010</a:t>
            </a:r>
            <a:endParaRPr b="0" lang="en-US" sz="3200" spc="-1" strike="noStrike">
              <a:solidFill>
                <a:srgbClr val="000000"/>
              </a:solidFill>
              <a:latin typeface="Calibri"/>
            </a:endParaRPr>
          </a:p>
        </p:txBody>
      </p:sp>
      <p:pic>
        <p:nvPicPr>
          <p:cNvPr id="43" name="Picture 8" descr=""/>
          <p:cNvPicPr/>
          <p:nvPr/>
        </p:nvPicPr>
        <p:blipFill>
          <a:blip r:embed="rId1"/>
          <a:stretch/>
        </p:blipFill>
        <p:spPr>
          <a:xfrm>
            <a:off x="482760" y="5646600"/>
            <a:ext cx="1527120" cy="1047960"/>
          </a:xfrm>
          <a:prstGeom prst="rect">
            <a:avLst/>
          </a:prstGeom>
          <a:ln w="0">
            <a:noFill/>
          </a:ln>
        </p:spPr>
      </p:pic>
      <p:pic>
        <p:nvPicPr>
          <p:cNvPr id="44" name="Picture 9" descr=""/>
          <p:cNvPicPr/>
          <p:nvPr/>
        </p:nvPicPr>
        <p:blipFill>
          <a:blip r:embed="rId2"/>
          <a:stretch/>
        </p:blipFill>
        <p:spPr>
          <a:xfrm>
            <a:off x="7451640" y="5646600"/>
            <a:ext cx="1270080" cy="10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nKF </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lementation of the UW-NMS EnKF will begin on Jet during the next few week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similation of raw geostationary satellite observations (IR, WV, SWIR) is our priority, but other satellite (passive microwave, satellite winds) as well as conventional and airborne data to be assimilated as we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sting thru spring 2011, plan to be ready for real-time summer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3" descr="hfip_enkf.png"/>
          <p:cNvPicPr/>
          <p:nvPr/>
        </p:nvPicPr>
        <p:blipFill>
          <a:blip r:embed="rId1"/>
          <a:stretch/>
        </p:blipFill>
        <p:spPr>
          <a:xfrm>
            <a:off x="0" y="125280"/>
            <a:ext cx="9144000" cy="6607440"/>
          </a:xfrm>
          <a:prstGeom prst="rect">
            <a:avLst/>
          </a:prstGeom>
          <a:ln w="0">
            <a:noFill/>
          </a:ln>
        </p:spPr>
      </p:pic>
      <p:sp>
        <p:nvSpPr>
          <p:cNvPr id="65" name="TextBox 4"/>
          <p:cNvSpPr/>
          <p:nvPr/>
        </p:nvSpPr>
        <p:spPr>
          <a:xfrm rot="16200000">
            <a:off x="-995760" y="1519920"/>
            <a:ext cx="306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7μ Brightness Temperature</a:t>
            </a:r>
            <a:endParaRPr b="0" lang="en-US" sz="1800" spc="-1" strike="noStrike">
              <a:solidFill>
                <a:srgbClr val="000000"/>
              </a:solidFill>
              <a:latin typeface="Arial"/>
            </a:endParaRPr>
          </a:p>
        </p:txBody>
      </p:sp>
      <p:sp>
        <p:nvSpPr>
          <p:cNvPr id="66" name="TextBox 5"/>
          <p:cNvSpPr/>
          <p:nvPr/>
        </p:nvSpPr>
        <p:spPr>
          <a:xfrm rot="16200000">
            <a:off x="-328320" y="4832280"/>
            <a:ext cx="17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m wind spe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al-time Capabilit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eam 2 provided opportunity to demonstrate capability for executing and delivering forecasts 4X dai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t; 500 forecasts since June (AL, EP, C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letion of Retro Case runs anticipated spring 2011 (after completion of remaining stream 2 goals: physics and data assimila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57200" y="140760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W-NMS and why it’s differ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re we are current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urrent configuration / physics / datase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itializ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re we plan to be Spring 201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monstrated real-time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niversity of Wisconsin Nonhydrostatic Modeling System</a:t>
            </a:r>
            <a:endParaRPr b="0" lang="en-US" sz="4000" spc="-1" strike="noStrike">
              <a:solidFill>
                <a:srgbClr val="000000"/>
              </a:solidFill>
              <a:latin typeface="Calibri"/>
            </a:endParaRPr>
          </a:p>
        </p:txBody>
      </p:sp>
      <p:sp>
        <p:nvSpPr>
          <p:cNvPr id="47" name=""/>
          <p:cNvSpPr txBox="1"/>
          <p:nvPr/>
        </p:nvSpPr>
        <p:spPr>
          <a:xfrm>
            <a:off x="457200" y="17924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strophy, entropy and kinetic energy conserving dynamics core – unique among regional mod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ould add diversity to roster dominated by WRF players (good thing for multi-model ensem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7772400" cy="1143000"/>
          </a:xfrm>
          <a:prstGeom prst="rect">
            <a:avLst/>
          </a:prstGeom>
          <a:noFill/>
          <a:ln w="0">
            <a:noFill/>
          </a:ln>
        </p:spPr>
        <p:txBody>
          <a:bodyPr anchor="ctr">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nstrophy Conserving Dynamics</a:t>
            </a:r>
            <a:endParaRPr b="0" lang="en-US" sz="4400" spc="-1" strike="noStrike">
              <a:solidFill>
                <a:srgbClr val="000000"/>
              </a:solidFill>
              <a:latin typeface="Calibri"/>
            </a:endParaRPr>
          </a:p>
        </p:txBody>
      </p:sp>
      <p:sp>
        <p:nvSpPr>
          <p:cNvPr id="49" name="Rectangle 6"/>
          <p:cNvSpPr/>
          <p:nvPr/>
        </p:nvSpPr>
        <p:spPr>
          <a:xfrm>
            <a:off x="685800" y="1465200"/>
            <a:ext cx="777240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mb Vector Form of Momentum Equations employed</a:t>
            </a:r>
            <a:endParaRPr b="0" lang="en-US" sz="3200" spc="-1" strike="noStrike">
              <a:solidFill>
                <a:srgbClr val="000000"/>
              </a:solidFill>
              <a:latin typeface="Arial"/>
            </a:endParaRPr>
          </a:p>
        </p:txBody>
      </p:sp>
      <p:graphicFrame>
        <p:nvGraphicFramePr>
          <p:cNvPr id="50" name=""/>
          <p:cNvGraphicFramePr/>
          <p:nvPr/>
        </p:nvGraphicFramePr>
        <p:xfrm>
          <a:off x="1708200" y="2532240"/>
          <a:ext cx="5727600" cy="4244760"/>
        </p:xfrm>
        <a:graphic>
          <a:graphicData uri="http://schemas.openxmlformats.org/presentationml/2006/ole">
            <p:oleObj r:id="rId1" spid="">
              <p:embed/>
              <p:pic>
                <p:nvPicPr>
                  <p:cNvPr id="51" name="" descr=""/>
                  <p:cNvPicPr/>
                  <p:nvPr/>
                </p:nvPicPr>
                <p:blipFill>
                  <a:blip r:embed="rId2"/>
                  <a:stretch/>
                </p:blipFill>
                <p:spPr>
                  <a:xfrm>
                    <a:off x="1708200" y="2532240"/>
                    <a:ext cx="5727600" cy="424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nstrophy Conservation (continued)</a:t>
            </a:r>
            <a:endParaRPr b="0" lang="en-US" sz="4000" spc="-1" strike="noStrike">
              <a:solidFill>
                <a:srgbClr val="000000"/>
              </a:solidFill>
              <a:latin typeface="Calibri"/>
            </a:endParaRPr>
          </a:p>
        </p:txBody>
      </p:sp>
      <p:sp>
        <p:nvSpPr>
          <p:cNvPr id="53" name="Rectangle 3"/>
          <p:cNvSpPr/>
          <p:nvPr/>
        </p:nvSpPr>
        <p:spPr>
          <a:xfrm>
            <a:off x="685800" y="19810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D enstrophy and KE conserving operator employed</a:t>
            </a: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D dynamic balance better represen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erically consistent vorticity production by Lamb vector curl</a:t>
            </a: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ect numerical 2D potential vorticity conserv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erical coupling with entropy prediction to ensure near perfect Ertel potential vorticity conserv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Numerical erosion of vortex reduced or elimin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rent Operational Configuration</a:t>
            </a:r>
            <a:endParaRPr b="0" lang="en-US" sz="4400" spc="-1" strike="noStrike">
              <a:solidFill>
                <a:srgbClr val="000000"/>
              </a:solidFill>
              <a:latin typeface="Calibri"/>
            </a:endParaRPr>
          </a:p>
        </p:txBody>
      </p:sp>
      <p:sp>
        <p:nvSpPr>
          <p:cNvPr id="55" name=""/>
          <p:cNvSpPr txBox="1"/>
          <p:nvPr/>
        </p:nvSpPr>
        <p:spPr>
          <a:xfrm>
            <a:off x="457200" y="1397160"/>
            <a:ext cx="8229600" cy="45100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gri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60km (145 x 145 poi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12km (92 x 92 poi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4km (122 x 122 poin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3 vertical leve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200m stretched to 1000m (model top ~ 24k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pled to 1.5 layer oce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rrently, 126-hr forecast requires ~5 hours</a:t>
            </a:r>
            <a:endParaRPr b="0" lang="en-US" sz="32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rent Physic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RTM shortwave / longwav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AH LS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ripoli / Flatau 2-moment bulk microphysic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MEE cumulus parameterization (grid 1 and 2)*</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ndreas Sea-Spray parameteriz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ew level 1.5 TKE schem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under stream 2 develop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se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FS 1-degree analysis and foreca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NMOC 9-km SST (updated 4X dai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vitus 0.25 degree monthly ocean climatology (NOD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lemented Kwon and Cheong (2010) bogus vortex for use with UW-N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ewer spin-up problems than GFDL bogus, and no need to wait for GFDL files (saves ~2 hou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tential for further refinement and ensemble generation (free ensemble forecast and DA)</a:t>
            </a:r>
            <a:endParaRPr b="0" lang="en-US" sz="3200" spc="-1" strike="noStrike">
              <a:solidFill>
                <a:srgbClr val="000000"/>
              </a:solidFill>
              <a:latin typeface="Calibri"/>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gus Vortex Init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9T01:45:02Z</dcterms:created>
  <dc:creator>William Lewis</dc:creator>
  <dc:description/>
  <dc:language>en-US</dc:language>
  <cp:lastModifiedBy>William Lewis</cp:lastModifiedBy>
  <dcterms:modified xsi:type="dcterms:W3CDTF">2010-11-09T12:42:17Z</dcterms:modified>
  <cp:revision>19</cp:revision>
  <dc:subject/>
  <dc:title>UW Team Report</dc:title>
</cp:coreProperties>
</file>