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A54-800E-4A5B-AD75-A4BAC047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6BB6-0E88-4646-902E-F926B54C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D4F4-05B7-42B8-8925-3DCE1CBF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F6B-B819-49C9-9311-CD938AE3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395-1B19-4EB8-92BA-5F5CDC396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50C6-6140-459B-91CA-A356258F4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074-F47C-476B-959A-7A2FD8C3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A90-BC0C-4B73-B720-04F366B8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AF5-2F1E-4081-88F1-D27B7982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FDB-778A-483C-AC50-528DD549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2D5-1737-40F7-A630-607BAFF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6BB-14B0-4264-AD80-AD196D03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439-79A4-4DB0-B1FE-5177942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EA2-8759-4D14-9917-61753E30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D71-9F1E-4AB2-A110-F1EB0D0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A50-2EE6-4206-94A3-6E559899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50E-4306-4AD7-8C3C-17E89F3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DCF-E540-4B03-BC0E-520C809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242-8154-4E4D-80CD-34C4EE65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and Discus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289548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G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IP Annual Review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 9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-Teams (Stream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will prepare FY11 strategy and milestone/deliverable document similar to last year (Jan 1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HFIP milestone/deliverable document prepared by PO (Feb 1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ons with the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prepare FY 10 accomplishments document (~5-10 pages, 3-5 figures—Jan 1 201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HFIP annual report prepared by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ons with the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for Labs, Navy and DTC prepared by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budgets released late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-Univer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we will use a competitive process for distribution funding to the various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of Opportunity released ~ Jan 1 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due in PO ~ Feb 1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recommendations from Review panel ~March 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s released when overall HFIP funding is announced in late M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$1M in funding available (award range $50K-$100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led by Naomi Sur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available for work on Streams, 1.0, 1.5,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th is available to any organization for which we don’t have a direct funding path (primarily univers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—Stream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pproval of OHMD process by HEOB~Dec. 1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MD management panel formed, Dec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panel meets mid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ast results from FY10 operation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specific stream 1 projects for FY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operational implementation for FY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ecision by E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participating Stream 1 organizations for FY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ream 1 funding decisions by PO announced in late M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—Stream 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1.5 process published on the HFIP website (mid Nov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stream 1.5 candidat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ng organizations must be willing to perform the minimum number of retro runs. ~Dec 1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uld like to see both regional amd global models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 oversees retro tests for 1.5 and manages repository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 publishes Stream 1.5 retro test results ~April 1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C announces its selection of Stream 1.5 and its rational for se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HFIP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regional models not selected for stream 1.5 will be part of the FSU Correlation Based Consensus multi-model ense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could also be included if they can provide adequate results from previous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1.5 runs will begin August 1, 2010.  T-jet will be available for these r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s Led by Ed Rappa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8:00:56Z</dcterms:created>
  <dc:creator>gall</dc:creator>
  <dc:description/>
  <dc:language>en-US</dc:language>
  <cp:lastModifiedBy>Bob</cp:lastModifiedBy>
  <dcterms:modified xsi:type="dcterms:W3CDTF">2010-11-07T00:50:09Z</dcterms:modified>
  <cp:revision>4</cp:revision>
  <dc:subject/>
  <dc:title>Summary and Discussion</dc:title>
</cp:coreProperties>
</file>