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0.png" ContentType="image/png"/>
  <Override PartName="/ppt/media/image18.png" ContentType="image/png"/>
  <Override PartName="/ppt/media/image15.gif" ContentType="image/gif"/>
  <Override PartName="/ppt/media/image14.png" ContentType="image/png"/>
  <Override PartName="/ppt/media/image1.jpeg" ContentType="image/jpeg"/>
  <Override PartName="/ppt/media/image10.png" ContentType="image/png"/>
  <Override PartName="/ppt/media/image26.png" ContentType="image/png"/>
  <Override PartName="/ppt/media/image37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45.wmf" ContentType="image/x-wmf"/>
  <Override PartName="/ppt/media/image25.png" ContentType="image/png"/>
  <Override PartName="/ppt/media/image35.png" ContentType="image/png"/>
  <Override PartName="/ppt/media/image46.wmf" ContentType="image/x-wmf"/>
  <Override PartName="/ppt/media/image36.png" ContentType="image/png"/>
  <Override PartName="/ppt/media/image47.wmf" ContentType="image/x-wmf"/>
  <Override PartName="/ppt/media/image13.png" ContentType="image/png"/>
  <Override PartName="/ppt/media/image4.jpeg" ContentType="image/jpeg"/>
  <Override PartName="/ppt/media/image40.png" ContentType="image/pn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2.png" ContentType="image/png"/>
  <Override PartName="/ppt/media/image3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7008813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70092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16"/>
          </p:nvPr>
        </p:nvSpPr>
        <p:spPr>
          <a:xfrm>
            <a:off x="3970440" y="-360"/>
            <a:ext cx="303840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Img"/>
          </p:nvPr>
        </p:nvSpPr>
        <p:spPr>
          <a:xfrm>
            <a:off x="1161720" y="703080"/>
            <a:ext cx="4686120" cy="35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body"/>
          </p:nvPr>
        </p:nvSpPr>
        <p:spPr>
          <a:xfrm>
            <a:off x="701280" y="4451400"/>
            <a:ext cx="5607000" cy="4217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17"/>
          </p:nvPr>
        </p:nvSpPr>
        <p:spPr>
          <a:xfrm>
            <a:off x="0" y="8902440"/>
            <a:ext cx="303840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 type="sldNum" idx="18"/>
          </p:nvPr>
        </p:nvSpPr>
        <p:spPr>
          <a:xfrm>
            <a:off x="3970440" y="8902440"/>
            <a:ext cx="303840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C1F217A5-F4F1-47A3-856C-0F0015A08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970440" y="8902800"/>
            <a:ext cx="303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504006D9-3499-426B-A26F-AE71EE7E3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3970440" y="8899560"/>
            <a:ext cx="30384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47B1CC03-E62E-4472-982E-10F732EFD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3970440" y="8902800"/>
            <a:ext cx="303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B3EBFA6-2441-4FFD-83A7-F9E103321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7144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64800" y="4451040"/>
            <a:ext cx="5079960" cy="42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6208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01280" y="4451400"/>
            <a:ext cx="560700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970440" y="8902800"/>
            <a:ext cx="303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8286089-04F6-4319-BC94-E8AF96BBF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CF27-75AC-4E7D-B68A-CB223302A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C99C-2F7B-4867-9DE3-DD20195B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8F75-D8A6-45CB-A279-FB79C44CF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BB97-C69D-43EF-9BDE-ABC66EDE7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BB1D-B007-4697-AA13-A142C3A3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1009-5F6F-4A97-8926-CFF8E106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2C17-6F06-49BF-996E-7CCE2F45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46BA-2DA5-45E3-B93B-3230385A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B713-0F3E-4AA4-8D30-F1748B18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B871-5456-44D4-A504-FFDC7B27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0F49-AB14-4B44-87A5-FBBBD376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1C3C-114D-48CE-BBC2-BDECCC9F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C332-C8D9-4BFD-8E2F-7FA94ADB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0AEE-CFDD-4350-8855-8A8F6D83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FC76-AC04-417B-B8CB-92519304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B3AA-2814-4587-9395-01C0F270D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A4C5-A15D-4369-B3E5-5E1EB794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AD00-C7C0-4FD0-97D8-CA430736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73668-6E56-45C8-9223-8E37C6187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DC791-3A59-4857-A61B-A5104114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A085D-1AE9-4849-B8F3-32DA501D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BEFB-B40C-4E20-9DA6-B5E620B2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EEAC9-FC65-400C-BD25-3482AB05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CFFA2-A58A-4885-9A09-D581104C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91AFE-62E6-4473-871A-C1832930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E8F0F-6A2C-4EB7-8EF2-BCF58DA9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6E41B-A83A-407E-ABB4-43BE4706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CBBA9-16E5-4B5C-834B-8F9EB511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5C942-C67C-49BF-9A32-77F8F000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B022E-1CB9-4208-9DD0-54F59135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AFC98-CD72-4110-AB3D-1DA4FD3B9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F6A224-9822-40CB-8046-ADDFFF28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E406-31DC-46DD-B5F1-CA586771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ECC3EE-48A6-407A-B726-F421987F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EAD86E-F6E3-4A74-A450-A07757AD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5CA776-06D8-42A6-9CA6-2FE28B02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290BE6-2607-4D2B-A4FA-B44A9700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A45902-86F8-4492-A0CB-AD389CDD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DB45AC-1A75-4C9A-BB42-E4591BE9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BD9532-928F-4682-BAF8-7795E7DA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249F63-A2EC-4821-8A88-3FEF725D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440C33-48FB-401E-83FC-98ECEF83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291540-4EB0-4745-BFBE-902631CD6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A14F-79C7-415E-99DC-8B0B0581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7F96F8-B39F-46EB-9F41-482EAA2A5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143D8-56D4-4E7E-B7EB-04B92EFAD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82C2C-E4BC-48C7-BE8B-27136DFB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1A3EE-C9BA-4AD8-80F7-FFA36B7A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0B97C-1452-454F-BBE7-BD50B95C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02208-5874-4122-8316-FED5E0A9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991AF-07A7-4950-B456-DDBB6C08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548F8-EBA6-457F-A90C-04D9D90E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BBD3A-5483-414E-89F2-940D1896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12BBB-A15C-4A17-8C5B-76E12BCE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232C-4FD0-4A47-8433-4CC162B1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88F18-2AAA-47A1-B2A2-3A0195AF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3712B-04A9-4218-8B44-51DE3B37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F2EDC-89BA-418B-9C5F-079EAE7F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121B-B784-4FB8-8A13-7FB6341F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2258-D7E2-4D9D-9D9B-DE55CDE6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F053-D29D-4BD1-8613-0C1F6E47CC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E412-F3D6-4E00-8A2A-3D85839406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733920" y="76320"/>
            <a:ext cx="5333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62120" y="83808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SzPct val="80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cc"/>
              </a:buClr>
              <a:buFont typeface="Wingdings 3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66"/>
              </a:buClr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3366"/>
              </a:buClr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3366"/>
              </a:buClr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77840" y="6324480"/>
            <a:ext cx="507960" cy="457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8610480" y="63244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562720" y="65833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738D-190D-4B98-B7A0-8285F4657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7210-C242-4D49-9AFA-448591603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EAED-7EEC-440C-BACD-0DB1817AC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A63B-4681-403E-8279-DE4B11683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2133720"/>
            <a:ext cx="8229600" cy="174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FY2010-2011 HFIP Stream 1 Advancements at NCEP/EMC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257040" y="181080"/>
            <a:ext cx="8629920" cy="641988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Object 7" descr=""/>
          <p:cNvPicPr/>
          <p:nvPr/>
        </p:nvPicPr>
        <p:blipFill>
          <a:blip r:embed="rId1"/>
          <a:stretch/>
        </p:blipFill>
        <p:spPr>
          <a:xfrm>
            <a:off x="392040" y="316080"/>
            <a:ext cx="708120" cy="707760"/>
          </a:xfrm>
          <a:prstGeom prst="rect">
            <a:avLst/>
          </a:prstGeom>
          <a:ln w="0">
            <a:noFill/>
          </a:ln>
        </p:spPr>
      </p:pic>
      <p:pic>
        <p:nvPicPr>
          <p:cNvPr id="272" name="Object 8" descr=""/>
          <p:cNvPicPr/>
          <p:nvPr/>
        </p:nvPicPr>
        <p:blipFill>
          <a:blip r:embed="rId2"/>
          <a:stretch/>
        </p:blipFill>
        <p:spPr>
          <a:xfrm>
            <a:off x="3124080" y="228600"/>
            <a:ext cx="2462400" cy="1433520"/>
          </a:xfrm>
          <a:prstGeom prst="rect">
            <a:avLst/>
          </a:prstGeom>
          <a:ln w="0">
            <a:noFill/>
          </a:ln>
        </p:spPr>
      </p:pic>
      <p:pic>
        <p:nvPicPr>
          <p:cNvPr id="273" name="Object 9" descr=""/>
          <p:cNvPicPr/>
          <p:nvPr/>
        </p:nvPicPr>
        <p:blipFill>
          <a:blip r:embed="rId3"/>
          <a:stretch/>
        </p:blipFill>
        <p:spPr>
          <a:xfrm>
            <a:off x="7924680" y="304920"/>
            <a:ext cx="708120" cy="669960"/>
          </a:xfrm>
          <a:prstGeom prst="rect">
            <a:avLst/>
          </a:prstGeom>
          <a:ln w="0">
            <a:noFill/>
          </a:ln>
        </p:spPr>
      </p:pic>
      <p:sp>
        <p:nvSpPr>
          <p:cNvPr id="274" name="Line 10"/>
          <p:cNvSpPr/>
          <p:nvPr/>
        </p:nvSpPr>
        <p:spPr>
          <a:xfrm>
            <a:off x="228600" y="3962520"/>
            <a:ext cx="8686800" cy="0"/>
          </a:xfrm>
          <a:prstGeom prst="line">
            <a:avLst/>
          </a:prstGeom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1219320" y="4419720"/>
            <a:ext cx="67816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Vijay Tallapragada, Bill Lapenta, John Ward, John Derber, Hendrik Tolman, Yuejian Zhu, Stephen Lord, and Many Others at E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HFIP Annual Review Meeting, Miami, FL, November 9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6518-6D4E-46D9-95FF-9C0D178F948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"/>
          <p:cNvGrpSpPr/>
          <p:nvPr/>
        </p:nvGrpSpPr>
        <p:grpSpPr>
          <a:xfrm>
            <a:off x="1219320" y="5659560"/>
            <a:ext cx="7238880" cy="665640"/>
            <a:chOff x="1219320" y="5659560"/>
            <a:chExt cx="7238880" cy="665640"/>
          </a:xfrm>
        </p:grpSpPr>
        <p:sp>
          <p:nvSpPr>
            <p:cNvPr id="326" name=""/>
            <p:cNvSpPr/>
            <p:nvPr/>
          </p:nvSpPr>
          <p:spPr>
            <a:xfrm>
              <a:off x="1219320" y="5659560"/>
              <a:ext cx="7238880" cy="381240"/>
            </a:xfrm>
            <a:prstGeom prst="rect">
              <a:avLst/>
            </a:prstGeom>
            <a:solidFill>
              <a:srgbClr val="00cc00">
                <a:alpha val="25000"/>
              </a:srgbClr>
            </a:solidFill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724640" y="5987880"/>
              <a:ext cx="3733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Arial"/>
                </a:rPr>
                <a:t>continuous upgrad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733920" y="76320"/>
            <a:ext cx="5333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TOFS-Glob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83808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TOFS-Glob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sh to global model (vs. regional models)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cc00"/>
              </a:buClr>
              <a:buSzPct val="80000"/>
              <a:buFont typeface="Wingdings 3" charset="2"/>
              <a:buChar char="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tisfy requirements from NOAA SAB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cc00"/>
              </a:buClr>
              <a:buSzPct val="80000"/>
              <a:buFont typeface="Wingdings 3" charset="2"/>
              <a:buChar char="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C / BC for regional (coupled HWRF) model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opting existing 1/12° model from NRL (NOPP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cc00"/>
              </a:buClr>
              <a:buSzPct val="80000"/>
              <a:buFont typeface="Wingdings 3" charset="2"/>
              <a:buChar char="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FS forcing (including diurnal cycle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cc00"/>
              </a:buClr>
              <a:buSzPct val="80000"/>
              <a:buFont typeface="Wingdings 3" charset="2"/>
              <a:buChar char="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AVOCEANO provides initializ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imelin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cc00"/>
              </a:buClr>
              <a:buSzPct val="80000"/>
              <a:buFont typeface="Wingdings 3" charset="2"/>
              <a:buChar char="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ow: NCO parallel model run with NRL initializ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cc00"/>
              </a:buClr>
              <a:buSzPct val="80000"/>
              <a:buFont typeface="Wingdings 3" charset="2"/>
              <a:buChar char="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Y2011Q4: operationa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cc00"/>
              </a:buClr>
              <a:buSzPct val="80000"/>
              <a:buFont typeface="Wingdings 3" charset="2"/>
              <a:buChar char="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Y2014: initialization at NCEP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OMADS as main distribution points (OpenDAP, NetCDF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TOFS-Atlantic as testbed for globa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010280" y="852480"/>
            <a:ext cx="1905120" cy="9169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ization 06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run 12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 18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219320" y="4973760"/>
            <a:ext cx="7238880" cy="656640"/>
            <a:chOff x="1219320" y="4973760"/>
            <a:chExt cx="7238880" cy="656640"/>
          </a:xfrm>
        </p:grpSpPr>
        <p:sp>
          <p:nvSpPr>
            <p:cNvPr id="332" name=""/>
            <p:cNvSpPr/>
            <p:nvPr/>
          </p:nvSpPr>
          <p:spPr>
            <a:xfrm>
              <a:off x="1219320" y="5252040"/>
              <a:ext cx="7238880" cy="378360"/>
            </a:xfrm>
            <a:prstGeom prst="rect">
              <a:avLst/>
            </a:prstGeom>
            <a:solidFill>
              <a:srgbClr val="ff0000">
                <a:alpha val="25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24280" y="497376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paradigm shift for NW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685800" y="228600"/>
            <a:ext cx="5181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Ocean/Wave Modeling Eff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733920" y="76320"/>
            <a:ext cx="5333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av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181480" y="838080"/>
            <a:ext cx="3772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gor in the multi-grid hurricane wave model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.5km coastal resolutio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hallow water physic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ote shadow zones behind Bahamas and Bermuda (!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ave system based wind sea and swell separation (from USAC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perational since 11/2/20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4762800" cy="54486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52280" y="838080"/>
            <a:ext cx="4762800" cy="54486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152280" y="838080"/>
            <a:ext cx="4762800" cy="54486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152280" y="838080"/>
            <a:ext cx="4762800" cy="54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733920" y="76320"/>
            <a:ext cx="5333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av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62120" y="838080"/>
            <a:ext cx="76960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sent capability illustrated with test runs for hurricane Gustav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rid resolution up to 400m, working on 100m grid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ynamic inundation using ADCIRC water level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Font typeface="Times New Roman"/>
              <a:buChar char="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oint project with NGI through MSU and LS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762120" y="83808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YCOM-HWR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 be included in the HWRF part of present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YCOM - WAVEWATCH III – HWR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ramework is ther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 start testing this in the coming yea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 require WAVEWATCH III true moving grid option for numerical economy reason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45" name="Picture 4" descr="C:\Documents and Settings\Isaac Ginis\Desktop\Coupled model flow chart.png"/>
          <p:cNvPicPr/>
          <p:nvPr/>
        </p:nvPicPr>
        <p:blipFill>
          <a:blip r:embed="rId1"/>
          <a:stretch/>
        </p:blipFill>
        <p:spPr>
          <a:xfrm>
            <a:off x="2438280" y="3962520"/>
            <a:ext cx="4459320" cy="23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13716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nhanced HWRF Diagnostics and Verifi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218960" y="31237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rational HWRF Statistics Websi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ified Statistical Verif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WRF Simulated-GOES Im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fied Post Process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304920" y="30492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Contributions to ADD and Verification 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6766D0-943A-43D9-AE17-FF188A65C70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Operational HWRF Statistics Pag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1760" y="7617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Tahoma"/>
              </a:rPr>
              <a:t>New Plots Generated Every 6 hours when HWRF is ru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Tahoma"/>
              </a:rPr>
              <a:t>Individual and All-Season Stats Avail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rcRect l="6709" t="14462" r="6168" b="5938"/>
          <a:stretch/>
        </p:blipFill>
        <p:spPr>
          <a:xfrm>
            <a:off x="374760" y="1360440"/>
            <a:ext cx="8381880" cy="5489640"/>
          </a:xfrm>
          <a:prstGeom prst="rect">
            <a:avLst/>
          </a:prstGeom>
          <a:ln w="0">
            <a:noFill/>
          </a:ln>
        </p:spPr>
      </p:pic>
      <p:grpSp>
        <p:nvGrpSpPr>
          <p:cNvPr id="3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5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5410080" cy="40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4"/>
            <a:stretch/>
          </p:blipFill>
          <p:spPr>
            <a:xfrm>
              <a:off x="3733920" y="2800440"/>
              <a:ext cx="5410080" cy="4057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410080" cy="405756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410080" cy="40575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5410080" cy="4057560"/>
          </a:xfrm>
          <a:prstGeom prst="rect">
            <a:avLst/>
          </a:prstGeom>
          <a:ln w="0">
            <a:noFill/>
          </a:ln>
        </p:spPr>
      </p:pic>
      <p:grpSp>
        <p:nvGrpSpPr>
          <p:cNvPr id="3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59" name="" descr=""/>
            <p:cNvPicPr/>
            <p:nvPr/>
          </p:nvPicPr>
          <p:blipFill>
            <a:blip r:embed="rId8"/>
            <a:stretch/>
          </p:blipFill>
          <p:spPr>
            <a:xfrm>
              <a:off x="0" y="0"/>
              <a:ext cx="4419720" cy="331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" descr=""/>
            <p:cNvPicPr/>
            <p:nvPr/>
          </p:nvPicPr>
          <p:blipFill>
            <a:blip r:embed="rId9"/>
            <a:stretch/>
          </p:blipFill>
          <p:spPr>
            <a:xfrm>
              <a:off x="4724280" y="0"/>
              <a:ext cx="4419720" cy="331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" descr=""/>
            <p:cNvPicPr/>
            <p:nvPr/>
          </p:nvPicPr>
          <p:blipFill>
            <a:blip r:embed="rId10"/>
            <a:stretch/>
          </p:blipFill>
          <p:spPr>
            <a:xfrm>
              <a:off x="0" y="3543480"/>
              <a:ext cx="4419720" cy="331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" descr=""/>
            <p:cNvPicPr/>
            <p:nvPr/>
          </p:nvPicPr>
          <p:blipFill>
            <a:blip r:embed="rId11"/>
            <a:stretch/>
          </p:blipFill>
          <p:spPr>
            <a:xfrm>
              <a:off x="4724280" y="3543480"/>
              <a:ext cx="4419720" cy="331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E68A6-06F5-4116-879D-73D2BF933FFD}" type="slidenum">
              <a:t>15</a:t>
            </a:fld>
          </a:p>
        </p:txBody>
      </p:sp>
    </p:spTree>
  </p:cSld>
  <p:transition>
    <p:zoom dir="in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ew NHC Verification Package (Courtesy: James Frankli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480" y="68544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Tahoma"/>
              </a:rPr>
              <a:t>More advanced version of nhcver.x compared to what currently us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Tahoma"/>
              </a:rPr>
              <a:t>Ability to look at along track and cross track erro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Tahoma"/>
              </a:rPr>
              <a:t>Ability to look at land vs. water poi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Tahoma"/>
              </a:rPr>
              <a:t>Format of textfile output different than previous verification pack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ahoma"/>
              </a:rPr>
              <a:t>Need different method of visualiz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Tahoma"/>
              </a:rPr>
              <a:t>Old vs. New Version very simila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rcRect l="0" t="8246" r="55557" b="6225"/>
          <a:stretch/>
        </p:blipFill>
        <p:spPr>
          <a:xfrm>
            <a:off x="76320" y="76320"/>
            <a:ext cx="4020840" cy="55623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rcRect l="0" t="6603" r="13188" b="3152"/>
          <a:stretch/>
        </p:blipFill>
        <p:spPr>
          <a:xfrm>
            <a:off x="1143000" y="1066680"/>
            <a:ext cx="7607160" cy="56851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233280" y="461880"/>
            <a:ext cx="8677440" cy="593424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5"/>
          <a:stretch/>
        </p:blipFill>
        <p:spPr>
          <a:xfrm>
            <a:off x="914400" y="2057400"/>
            <a:ext cx="6777000" cy="463536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6"/>
          <a:stretch/>
        </p:blipFill>
        <p:spPr>
          <a:xfrm>
            <a:off x="914400" y="2057400"/>
            <a:ext cx="6781680" cy="46386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7"/>
          <a:stretch/>
        </p:blipFill>
        <p:spPr>
          <a:xfrm>
            <a:off x="914400" y="2057400"/>
            <a:ext cx="6781680" cy="463716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8"/>
          <a:stretch/>
        </p:blipFill>
        <p:spPr>
          <a:xfrm>
            <a:off x="152280" y="457200"/>
            <a:ext cx="8677440" cy="593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094C3-6548-4E7A-A8F4-1237F369F9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HWRF Simulated-GOES Imag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Added to Operational Graphics P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Available for 2010 Hurricane Sea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Include Simulated GOES images for GFS on HWRF webp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2"/>
          <a:srcRect l="2632" t="0" r="5263" b="0"/>
          <a:stretch/>
        </p:blipFill>
        <p:spPr>
          <a:xfrm>
            <a:off x="0" y="1371600"/>
            <a:ext cx="5334120" cy="434340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3"/>
          <a:srcRect l="2632" t="0" r="5263" b="0"/>
          <a:stretch/>
        </p:blipFill>
        <p:spPr>
          <a:xfrm>
            <a:off x="3809880" y="1371600"/>
            <a:ext cx="5334120" cy="434340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4"/>
          <a:stretch/>
        </p:blipFill>
        <p:spPr>
          <a:xfrm>
            <a:off x="0" y="1981080"/>
            <a:ext cx="6019920" cy="451512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5"/>
          <a:stretch/>
        </p:blipFill>
        <p:spPr>
          <a:xfrm>
            <a:off x="3124080" y="1981080"/>
            <a:ext cx="6019920" cy="451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D1AFB-DBEB-4891-9B8C-4DFB2BB2F5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High resolution GEFS T574L64 (Plan)</a:t>
            </a:r>
            <a:br>
              <a:rPr sz="36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 For HFIP high resolution demonstration (2010)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 results – still working on the Oak Ridge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resolution global ensembles (NCEP/GEF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74L64 (~30km horizontal resol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R (ensemble transform with resca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6 hours, Cycling at T574L64 resolution, Tuning for rescaling (based on T190L28 paramet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Oak Ridge National Laboratory (ORN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 members (include control), Out to 168 hours, With stochastic perturb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real time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per day from now (pending on the progress of set 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WRF-GEFS Hurricane Ensemble System (real-time parallels for selected 2010 st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ertainty in Initial Large-Scale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4920" y="3049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Contributions to Global and Regional Model Ensem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7C726-CD9C-4730-B856-34ABE2670C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wp092009"/>
          <p:cNvPicPr/>
          <p:nvPr/>
        </p:nvPicPr>
        <p:blipFill>
          <a:blip r:embed="rId1"/>
          <a:stretch/>
        </p:blipFill>
        <p:spPr>
          <a:xfrm>
            <a:off x="0" y="380880"/>
            <a:ext cx="4229280" cy="32673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wp092009"/>
          <p:cNvPicPr/>
          <p:nvPr/>
        </p:nvPicPr>
        <p:blipFill>
          <a:blip r:embed="rId2"/>
          <a:stretch/>
        </p:blipFill>
        <p:spPr>
          <a:xfrm>
            <a:off x="4724280" y="457200"/>
            <a:ext cx="4114800" cy="31813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wp092009"/>
          <p:cNvPicPr/>
          <p:nvPr/>
        </p:nvPicPr>
        <p:blipFill>
          <a:blip r:embed="rId3"/>
          <a:stretch/>
        </p:blipFill>
        <p:spPr>
          <a:xfrm>
            <a:off x="0" y="3591000"/>
            <a:ext cx="4229280" cy="3267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wp092009"/>
          <p:cNvPicPr/>
          <p:nvPr/>
        </p:nvPicPr>
        <p:blipFill>
          <a:blip r:embed="rId4"/>
          <a:stretch/>
        </p:blipFill>
        <p:spPr>
          <a:xfrm>
            <a:off x="4572000" y="3505320"/>
            <a:ext cx="4343400" cy="335268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6"/>
          <p:cNvSpPr/>
          <p:nvPr/>
        </p:nvSpPr>
        <p:spPr>
          <a:xfrm>
            <a:off x="228600" y="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Resolution makes difference for Typhoon Morak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3581280" y="1143000"/>
            <a:ext cx="1981440" cy="1447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: 2009080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26 ensem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90 ensem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8"/>
          <p:cNvSpPr/>
          <p:nvPr/>
        </p:nvSpPr>
        <p:spPr>
          <a:xfrm>
            <a:off x="3505320" y="4343400"/>
            <a:ext cx="2057400" cy="1676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: 2009080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26 ensem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90 ensem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9"/>
          <p:cNvSpPr/>
          <p:nvPr/>
        </p:nvSpPr>
        <p:spPr>
          <a:xfrm>
            <a:off x="5486400" y="56386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0"/>
          <p:cNvSpPr/>
          <p:nvPr/>
        </p:nvSpPr>
        <p:spPr>
          <a:xfrm rot="10800000">
            <a:off x="3048120" y="49525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1"/>
          <p:cNvSpPr/>
          <p:nvPr/>
        </p:nvSpPr>
        <p:spPr>
          <a:xfrm>
            <a:off x="5562720" y="23623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2"/>
          <p:cNvSpPr/>
          <p:nvPr/>
        </p:nvSpPr>
        <p:spPr>
          <a:xfrm rot="10800000">
            <a:off x="3048120" y="18284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13"/>
          <p:cNvSpPr/>
          <p:nvPr/>
        </p:nvSpPr>
        <p:spPr>
          <a:xfrm>
            <a:off x="1676520" y="1523880"/>
            <a:ext cx="1295280" cy="1752840"/>
          </a:xfrm>
          <a:prstGeom prst="ellipse">
            <a:avLst/>
          </a:prstGeom>
          <a:noFill/>
          <a:ln w="255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4"/>
          <p:cNvSpPr/>
          <p:nvPr/>
        </p:nvSpPr>
        <p:spPr>
          <a:xfrm>
            <a:off x="3429000" y="2971800"/>
            <a:ext cx="23623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models do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right forec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5"/>
          <p:cNvSpPr/>
          <p:nvPr/>
        </p:nvSpPr>
        <p:spPr>
          <a:xfrm flipH="1" flipV="1">
            <a:off x="2742840" y="2819520"/>
            <a:ext cx="685800" cy="38088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BA235-49B4-4CE0-8EE7-05C080F543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848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HFIP Stream 1 contribution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Mode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Assim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ional Modeling and Phys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ean and Wave mode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nostics and Ve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sem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999F-B3FD-4FF5-8E0C-B97E62E80A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ensemble_ctrl_track_alex"/>
          <p:cNvPicPr/>
          <p:nvPr/>
        </p:nvPicPr>
        <p:blipFill>
          <a:blip r:embed="rId1"/>
          <a:stretch/>
        </p:blipFill>
        <p:spPr>
          <a:xfrm>
            <a:off x="0" y="0"/>
            <a:ext cx="4419720" cy="34196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ensemble_ctrl_track_all"/>
          <p:cNvPicPr/>
          <p:nvPr/>
        </p:nvPicPr>
        <p:blipFill>
          <a:blip r:embed="rId2"/>
          <a:stretch/>
        </p:blipFill>
        <p:spPr>
          <a:xfrm>
            <a:off x="2286000" y="3379680"/>
            <a:ext cx="4495680" cy="34783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" descr="ensemble_ctrl_track_celia"/>
          <p:cNvPicPr/>
          <p:nvPr/>
        </p:nvPicPr>
        <p:blipFill>
          <a:blip r:embed="rId3"/>
          <a:stretch/>
        </p:blipFill>
        <p:spPr>
          <a:xfrm>
            <a:off x="4734000" y="0"/>
            <a:ext cx="4410000" cy="341136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5"/>
          <p:cNvSpPr/>
          <p:nvPr/>
        </p:nvSpPr>
        <p:spPr>
          <a:xfrm>
            <a:off x="380880" y="41148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ecast skills are improved from 24h to 120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6629400" y="43434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kill improvement increases with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7"/>
          <p:cNvSpPr/>
          <p:nvPr/>
        </p:nvSpPr>
        <p:spPr>
          <a:xfrm rot="3027000">
            <a:off x="5750280" y="3344400"/>
            <a:ext cx="60948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2B9DC-789A-47E9-BAE1-49D7464B95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Object 2"/>
          <p:cNvGraphicFramePr/>
          <p:nvPr/>
        </p:nvGraphicFramePr>
        <p:xfrm>
          <a:off x="380880" y="762120"/>
          <a:ext cx="800100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62120"/>
                    <a:ext cx="8001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Text Box 3"/>
          <p:cNvSpPr/>
          <p:nvPr/>
        </p:nvSpPr>
        <p:spPr>
          <a:xfrm>
            <a:off x="533520" y="579132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Cases          240              223              196              169             144              110               75                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762120" y="152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 forecast error for 2009 season (AL+EP+W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8304120" y="6324480"/>
            <a:ext cx="459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6"/>
          <p:cNvSpPr/>
          <p:nvPr/>
        </p:nvSpPr>
        <p:spPr>
          <a:xfrm>
            <a:off x="152280" y="6095880"/>
            <a:ext cx="899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EFS is combined NCEP (NCEPbc) and CMC’s (CMCbc) bias corrected ensemble and bias corrected G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800600" y="6477120"/>
            <a:ext cx="4114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ntributed by Dr. Jiayi Peng (EMC/NCE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371600" y="1671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Ensemble post processing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multi-model ensembles (NAEF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84886-FD75-4903-9ACD-EFB0283140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Object 2"/>
          <p:cNvGraphicFramePr/>
          <p:nvPr/>
        </p:nvGraphicFramePr>
        <p:xfrm>
          <a:off x="380880" y="762120"/>
          <a:ext cx="800100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62120"/>
                    <a:ext cx="8001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Text Box 3"/>
          <p:cNvSpPr/>
          <p:nvPr/>
        </p:nvSpPr>
        <p:spPr>
          <a:xfrm>
            <a:off x="533520" y="579132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Cases          240              223              196              169             144              110               75                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762120" y="152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 forecast error for 2009 season (AL+EP+W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8304120" y="6324480"/>
            <a:ext cx="459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6"/>
          <p:cNvSpPr/>
          <p:nvPr/>
        </p:nvSpPr>
        <p:spPr>
          <a:xfrm>
            <a:off x="152280" y="6095880"/>
            <a:ext cx="899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EFS is combined NCEP (NCEPbc) and CMC’s (CMCbc) bias corrected ensemble and bias corrected G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4800600" y="6477120"/>
            <a:ext cx="4114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ntributed by Dr. Jiayi Peng (EMC/NCE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DB88C-A6A0-40AB-A80D-ABBE996980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880" y="1676160"/>
            <a:ext cx="844560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e details on EMC contributions will be presented in individual team reports by respected team lea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3581280" y="1440"/>
          <a:ext cx="2087640" cy="106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440"/>
                    <a:ext cx="208764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"/>
          <p:cNvSpPr/>
          <p:nvPr/>
        </p:nvSpPr>
        <p:spPr>
          <a:xfrm>
            <a:off x="2438280" y="4267080"/>
            <a:ext cx="449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anks for your atten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7C9D3-CF42-4896-8DF4-655FAC62DC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ata Assimilation (17 December 200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imilate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OAA-19 AMSU-A/B, HIRS, RARS 1b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OAA-18 SBUV/2 and O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ropical Storm SL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mproved use of GPS RO observ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efractivity forward opera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etter QC procedures Metop/GRAS, GRACE-A and CHAMP, COSM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creased Horizontal Resolution and Physics Upgrade (28 July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orizontal resolu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382 (35km) to T574 (~28km) &amp; 64L for 0 to 192hr fore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emains T190 (~70km) &amp; 64L for 192-384 hr fore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Upgrade GFS physics (Radiation, shallow/deep convection and PBL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odified SW and LW radiation calculations (aerosol effects, co2, cloud inter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etrainment from all levels (deep conve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BL diffusion in inversion layers reduced (decrease erosion of marine stra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cludes gravity wave drag (effect of topograph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066680" y="3808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0033"/>
                </a:solidFill>
                <a:latin typeface="Times New Roman"/>
              </a:rPr>
              <a:t>Upgrades to Global Sys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39C7-39A0-4D74-BA49-EEDA96B52B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0033"/>
                </a:solidFill>
                <a:latin typeface="Times New Roman"/>
              </a:rPr>
              <a:t>GFS Upgrade Atlantic Hurricane</a:t>
            </a:r>
            <a:br>
              <a:rPr sz="2500"/>
            </a:br>
            <a:r>
              <a:rPr b="1" lang="en-US" sz="2500" spc="-1" strike="noStrike">
                <a:solidFill>
                  <a:srgbClr val="330033"/>
                </a:solidFill>
                <a:latin typeface="Times New Roman"/>
              </a:rPr>
              <a:t> Track Error (</a:t>
            </a:r>
            <a:r>
              <a:rPr b="0" lang="en-US" sz="2500" spc="-1" strike="noStrike">
                <a:solidFill>
                  <a:srgbClr val="ff0000"/>
                </a:solidFill>
                <a:latin typeface="Times New Roman"/>
              </a:rPr>
              <a:t>2008 Hurricane Seaso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-7920" y="6019920"/>
            <a:ext cx="325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008 Operational – B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cember GFS Package – 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T574 with upgraded Physics - Gre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419880" cy="4759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C1FB-CF06-4C6E-8067-34B3995DD0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GFS Upgrade EPAC Hurricane Track Error</a:t>
            </a:r>
            <a:br>
              <a:rPr sz="2500"/>
            </a:br>
            <a:r>
              <a:rPr b="0" lang="en-US" sz="1900" spc="-1" strike="noStrike">
                <a:solidFill>
                  <a:srgbClr val="ff0000"/>
                </a:solidFill>
                <a:latin typeface="Times New Roman"/>
              </a:rPr>
              <a:t>2008 Hurricane Seas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466400" y="2743200"/>
            <a:ext cx="1488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2%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ver 2008 Pr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542720" y="4419720"/>
            <a:ext cx="1488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%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ver 1Q10 Pr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-7920" y="6019920"/>
            <a:ext cx="325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008 Operational – B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cember GFS Package – 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T574 with upgraded Physics - Gre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040440" cy="45151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 flipH="1">
            <a:off x="7162920" y="32004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7162920" y="40381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FE08-2910-4401-B864-1A65553DD4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4" descr="fe.lant.png"/>
          <p:cNvPicPr/>
          <p:nvPr/>
        </p:nvPicPr>
        <p:blipFill>
          <a:blip r:embed="rId1"/>
          <a:srcRect l="3476" t="6657" r="2797" b="0"/>
          <a:stretch/>
        </p:blipFill>
        <p:spPr>
          <a:xfrm>
            <a:off x="930240" y="1208160"/>
            <a:ext cx="7220160" cy="56498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Atlantic Hurricane Track Error (NM)</a:t>
            </a:r>
            <a:br>
              <a:rPr sz="2100"/>
            </a:b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2010 Hurricane Season (through September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28840" y="6067440"/>
            <a:ext cx="6562800" cy="133200"/>
          </a:xfrm>
          <a:prstGeom prst="rect">
            <a:avLst/>
          </a:prstGeom>
          <a:solidFill>
            <a:srgbClr val="808000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438200" y="6429240"/>
            <a:ext cx="6562800" cy="133560"/>
          </a:xfrm>
          <a:prstGeom prst="rect">
            <a:avLst/>
          </a:prstGeom>
          <a:solidFill>
            <a:srgbClr val="ffff00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98600" y="5381640"/>
            <a:ext cx="6595920" cy="144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82840" y="1444680"/>
            <a:ext cx="2619360" cy="792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987880" y="144468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CEP G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978880" y="169704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MW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fe.lant.png"/>
          <p:cNvPicPr/>
          <p:nvPr/>
        </p:nvPicPr>
        <p:blipFill>
          <a:blip r:embed="rId2"/>
          <a:srcRect l="10724" t="17619" r="86157" b="79532"/>
          <a:stretch/>
        </p:blipFill>
        <p:spPr>
          <a:xfrm>
            <a:off x="5605560" y="1728720"/>
            <a:ext cx="398520" cy="2858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fe.lant.png"/>
          <p:cNvPicPr/>
          <p:nvPr/>
        </p:nvPicPr>
        <p:blipFill>
          <a:blip r:embed="rId3"/>
          <a:srcRect l="10810" t="11076" r="85857" b="86695"/>
          <a:stretch/>
        </p:blipFill>
        <p:spPr>
          <a:xfrm>
            <a:off x="5611680" y="1515960"/>
            <a:ext cx="425520" cy="2239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411200" y="4822920"/>
            <a:ext cx="6596280" cy="140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390680" y="4248000"/>
            <a:ext cx="6595920" cy="144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403280" y="3689280"/>
            <a:ext cx="6596280" cy="144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00040" y="3111480"/>
            <a:ext cx="6596280" cy="144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413000" y="2552760"/>
            <a:ext cx="6595920" cy="144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92120" y="1978200"/>
            <a:ext cx="6596280" cy="140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032360" y="4572000"/>
            <a:ext cx="195120" cy="64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27480" y="4602240"/>
            <a:ext cx="13500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873680" y="4335480"/>
            <a:ext cx="195120" cy="64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068800" y="4365720"/>
            <a:ext cx="13500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713560" y="3914280"/>
            <a:ext cx="195120" cy="644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908680" y="3944880"/>
            <a:ext cx="135000" cy="6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7318440" y="2566800"/>
            <a:ext cx="195120" cy="779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513560" y="2597040"/>
            <a:ext cx="135000" cy="6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6507000" y="3344400"/>
            <a:ext cx="195480" cy="644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02480" y="3375000"/>
            <a:ext cx="195120" cy="59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35160" y="3733920"/>
            <a:ext cx="38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FS (27 km) similar to EC (16 k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6F7F-C34A-4342-9E7D-D9651227F6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80"/>
                </a:solidFill>
                <a:latin typeface="Times New Roman"/>
              </a:rPr>
              <a:t>Planned Global Data Assimilation</a:t>
            </a:r>
            <a:br>
              <a:rPr sz="2500"/>
            </a:br>
            <a:r>
              <a:rPr b="1" lang="en-US" sz="2500" spc="-1" strike="noStrike">
                <a:solidFill>
                  <a:srgbClr val="800080"/>
                </a:solidFill>
                <a:latin typeface="Times New Roman"/>
              </a:rPr>
              <a:t>System Upgrade (FY11)</a:t>
            </a: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76312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int Development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JCSD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NAS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ES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SCAT wi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Radar and Lightning data IO and cloud analysis for R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(GSD, D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AA-19 SBUV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AA-19 MHS – remove NOAA-15 AMSU-BQC and data hand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C and Data Hand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pgrade quality control of MHS/AMSU-B water vapor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 location of Buoys in vertical (move from 20 to 10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d OMI Q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val of redundant SBUV/2 total oz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ne SBUV/2 ozone ob err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lax AMSU-A Channel 5 Q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ve down weighting of collocated radi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3F1D-56A7-4325-B20D-7B26DB8AA1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80"/>
                </a:solidFill>
                <a:latin typeface="Times New Roman"/>
              </a:rPr>
              <a:t>Hurricane DA Efforts</a:t>
            </a: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fied GSI for global, regional and mesoscale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management and oversight through D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brid Assimilation  - EnKF/vari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art of background error covariance defined by ensemb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tuation dependent background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balance between variables (includes all variables including ozone and moistu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cloud/precipitation analysis (Inclusion of cloudy radian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clusion of balance within analys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clusion of TLNMI in regional syste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alance through Hybrid assimilation syste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use of current data and additio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m relocation within G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diabatic effects into GSI Balance and further enhancements to balance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1A6B-7EB3-40D0-A611-D993E88167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80"/>
                </a:solidFill>
                <a:latin typeface="Times New Roman"/>
              </a:rPr>
              <a:t>Regional Modeling Efforts</a:t>
            </a: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e next presentation on HWRF model development eff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DC4C-CD98-4049-AC05-83A6407113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4:28:07Z</dcterms:created>
  <dc:creator>wd20vxt</dc:creator>
  <dc:description/>
  <dc:language>en-US</dc:language>
  <cp:lastModifiedBy>vijay.tallapragada</cp:lastModifiedBy>
  <dcterms:modified xsi:type="dcterms:W3CDTF">2010-11-09T12:56:04Z</dcterms:modified>
  <cp:revision>27</cp:revision>
  <dc:subject/>
  <dc:title>NCEP/EMC Hurricane Weather Research and Forecast (HWRF) Modeling System</dc:title>
</cp:coreProperties>
</file>