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092-4ABF-42CC-96B3-912AE4C9D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s as NHC verification -- tropical or subtropical --- at initial and ver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sh I had looked at EP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olation -- Early vs Late models -- Not just showing operational performance -- want to show model comparison and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Okubo-Weiss (hereafter OW) parameter is a frame-independent measure of the tendency for a rotational flow to be shape preser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positive values of OW indicate that the flow is vorticity dominant and shape preserving, whereas negative values of OW indicate a strain-rate dominated flow susceptible to rapid filamentation. A negative OW region is unfavorable for rotational organization of deep convection and aggregation of vortical remnants of prior convective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OW is defined here a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W = ζ^2 – S1^2 – S2^2 = (Vx – Uy)^2 – (Ux – Vy)^2 – (Vx + Uy)^2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1 and S2 denotes strain deformation, denotes vertical vorticity, (U, V) denot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nal and meridional velocity, respectively, and subscripts x and y denote partial differentiation in the zonal or meridional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AF7D-796B-49F7-B4DE-DAF36858A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s as NHC verification -- tropical or subtropical --- at initial and ver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sh I had looked at EP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olation -- Early vs Late models -- Not just showing operational performance -- want to show model comparison and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s as NHC verification -- tropical or subtropical --- at initial and ver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sh I had looked at EP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olation -- Early vs Late models -- Not just showing operational performance -- want to show model comparison and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s as NHC verification -- tropical or subtropical --- at initial and ver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sh I had looked at EP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olation -- Early vs Late models -- Not just showing operational performance -- want to show model comparison and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s as NHC verification -- tropical or subtropical --- at initial and ver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sh I had looked at EP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olation -- Early vs Late models -- Not just showing operational performance -- want to show model comparison and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s as NHC verification -- tropical or subtropical --- at initial and ver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sh I had looked at EP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olation -- Early vs Late models -- Not just showing operational performance -- want to show model comparison and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s as NHC verification -- tropical or subtropical --- at initial and ver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sh I had looked at EP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olation -- Early vs Late models -- Not just showing operational performance -- want to show model comparison and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s as NHC verification -- tropical or subtropical --- at initial and ver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sh I had looked at EP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olation -- Early vs Late models -- Not just showing operational performance -- want to show model comparison and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A8E-35AE-474D-A76B-19C26743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73C-AF43-4463-94E1-36270CD7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792-0827-4945-B279-BC5DCB79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1C7-DD4A-4F18-A0E6-32DADABE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E98-15D3-41E5-B6AF-AABB98EE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156-FE6C-407A-A172-2577C65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18C-C282-40DF-A055-6FF412F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ABB-3B6A-483B-AAE1-545C15B9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C27-395F-46F1-AD9C-722DC5E1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CF3-EB3F-48E8-B30D-7191EC57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D38-492F-480A-BE63-8AB6FA84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B98-D86C-49F5-87D4-98F58FF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13DE-15B2-404D-999F-AE69564B8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alibri"/>
              </a:rPr>
              <a:t>VERIFICATIONS OF THE NEW OPERATIONAL</a:t>
            </a: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Calibri"/>
              </a:rPr>
              <a:t>27:9:3 km HWRF for 2010-2011</a:t>
            </a: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Calibri"/>
              </a:rPr>
              <a:t>Stratified by Storm Int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123720"/>
            <a:ext cx="6858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00"/>
                </a:solidFill>
                <a:uFillTx/>
                <a:latin typeface="Calibri"/>
              </a:rPr>
              <a:t>Presented b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Stanley Goldenberg (AOML/HR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00"/>
                </a:solidFill>
                <a:uFillTx/>
                <a:latin typeface="Calibri"/>
              </a:rPr>
              <a:t>Contribu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Calibri"/>
              </a:rPr>
              <a:t>S. G. Gopalakrishnan &amp; the modeling group at AOML/H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Calibri"/>
              </a:rPr>
              <a:t>Vijay Tallapragada  &amp; the HWRF team at NCEP/EM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Calibri"/>
              </a:rPr>
              <a:t>Jian-Wen Bao at ESRL/P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Calibri"/>
              </a:rPr>
              <a:t>DT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Big NOAA logo2.jpg"/>
          <p:cNvPicPr/>
          <p:nvPr/>
        </p:nvPicPr>
        <p:blipFill>
          <a:blip r:embed="rId1"/>
          <a:stretch/>
        </p:blipFill>
        <p:spPr>
          <a:xfrm>
            <a:off x="27000" y="5781600"/>
            <a:ext cx="1042920" cy="1049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51460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HFIP Modeling Meeting, 16 August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Track FSP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-2011 Seasons Retrospective R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212/H3GP (27:9:3 km), HWRF (27:9 km)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950760" y="1803240"/>
            <a:ext cx="3216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0099" t="23403" r="10576" b="19759"/>
          <a:stretch/>
        </p:blipFill>
        <p:spPr>
          <a:xfrm>
            <a:off x="79200" y="1596960"/>
            <a:ext cx="4191120" cy="3886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10099" t="23403" r="12021" b="19759"/>
          <a:stretch/>
        </p:blipFill>
        <p:spPr>
          <a:xfrm>
            <a:off x="4648320" y="156852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6"/>
          <p:cNvSpPr/>
          <p:nvPr/>
        </p:nvSpPr>
        <p:spPr>
          <a:xfrm>
            <a:off x="9144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Really excels for the initially weaker 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uch closer to AVN(GFS) for those initially weaker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otice how much worse HWRF was than AV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ffff"/>
                </a:solidFill>
                <a:uFillTx/>
                <a:latin typeface="Calibri"/>
              </a:rPr>
              <a:t>Scope for Future Impro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 u="sng">
                <a:solidFill>
                  <a:srgbClr val="ffff00"/>
                </a:solidFill>
                <a:uFillTx/>
                <a:latin typeface="Calibri"/>
              </a:rPr>
              <a:t>TRACK</a:t>
            </a:r>
            <a:r>
              <a:rPr b="1" lang="en-US" sz="2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en-US" sz="2700" spc="-1" strike="noStrike">
                <a:solidFill>
                  <a:srgbClr val="ffff00"/>
                </a:solidFill>
                <a:latin typeface="Calibri"/>
              </a:rPr>
              <a:t>(=&gt;Intensity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rease domain size (Basin Scale, multiple moving nes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rease vertical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rove model init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rovement of the Synoptic-scale: improved physics/nudg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 u="sng">
                <a:solidFill>
                  <a:srgbClr val="ffff00"/>
                </a:solidFill>
                <a:uFillTx/>
                <a:latin typeface="Calibri"/>
              </a:rPr>
              <a:t>INTENSITY </a:t>
            </a:r>
            <a:r>
              <a:rPr b="1" i="1" lang="en-US" sz="2700" spc="-1" strike="noStrike" u="sng">
                <a:solidFill>
                  <a:srgbClr val="00ffff"/>
                </a:solidFill>
                <a:uFillTx/>
                <a:latin typeface="Calibri"/>
              </a:rPr>
              <a:t>(Why is H3GP better for intensity?)</a:t>
            </a:r>
            <a:r>
              <a:rPr b="1" lang="en-US" sz="2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en-US" sz="2700" spc="-1" strike="noStrike">
                <a:solidFill>
                  <a:srgbClr val="ffff00"/>
                </a:solidFill>
                <a:latin typeface="Calibri"/>
              </a:rPr>
              <a:t>(=&gt;Track?) </a:t>
            </a: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Above list for track and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ine problems with Julia/Lisa/Ophe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rtex-scale physics, spin-up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scale Data Assimilation (EnKF/HYBRID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utions for poor performance for initially weaker storms: Is this a physics or initialization problem or bo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57200" y="96840"/>
            <a:ext cx="82296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000"/>
                </a:solidFill>
                <a:uFillTx/>
                <a:latin typeface="Calibri"/>
              </a:rPr>
              <a:t>SUMMARY OF HWRF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Calibri"/>
              </a:rPr>
              <a:t>PREVIOUS OPERATIONAL HWRF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7:9 k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al version from 2007-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Calibri"/>
              </a:rPr>
              <a:t>HWRFX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9:3 k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search version used by HRD for numerous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Calibri"/>
              </a:rPr>
              <a:t>H3GP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7:9:3 km TRIPLE NESTED V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al-time testing for 2011 s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umerous Modifications over HWRF &amp; HWRF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Verified for 4-years of runs (2008-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Calibri"/>
              </a:rPr>
              <a:t>NEW OPERATIONAL HWRF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7:9:3 km TRIPLE NESTED V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al version starting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umerous Modifications over H3GP (by E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tratified Intensity Forecast Skil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-2011 Seasons Retrospective Run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212 (27:9:3 km) &amp; DSHP relative to HWRF (27:9 km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ll Cases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/Initially &lt;Hurricane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/Initially Hurrica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601280" y="1371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l 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105880" y="139536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/o Julia, Lisa (2010), Ophelia (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950760" y="1803240"/>
            <a:ext cx="3216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144720" y="5724360"/>
            <a:ext cx="43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Improved over HWRF (esp. thru 24h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&amp; except from 48-9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problem with HR after 8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INTSkillAllLTGE201011HDSb.pdf"/>
          <p:cNvPicPr/>
          <p:nvPr/>
        </p:nvPicPr>
        <p:blipFill>
          <a:blip r:embed="rId1"/>
          <a:srcRect l="110563" t="703993" r="381221" b="734483"/>
          <a:stretch/>
        </p:blipFill>
        <p:spPr>
          <a:xfrm>
            <a:off x="-228600" y="1752480"/>
            <a:ext cx="4560840" cy="406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INTSkillx3LTGE201011HDSb.pdf"/>
          <p:cNvPicPr/>
          <p:nvPr/>
        </p:nvPicPr>
        <p:blipFill>
          <a:blip r:embed="rId2"/>
          <a:srcRect l="357746" t="702722" r="367606" b="732486"/>
          <a:stretch/>
        </p:blipFill>
        <p:spPr>
          <a:xfrm>
            <a:off x="4724280" y="1747800"/>
            <a:ext cx="4210200" cy="4067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6"/>
          <p:cNvSpPr/>
          <p:nvPr/>
        </p:nvSpPr>
        <p:spPr>
          <a:xfrm>
            <a:off x="5122800" y="5715000"/>
            <a:ext cx="39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Improved over HWRF at al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esp. thru 24h*)  esp. for &lt;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problem with HR after 8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261600" y="6540480"/>
            <a:ext cx="26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*) Much better initial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tratified Intensity Forecast Skil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-2011 Seasons Retrospective Run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212/H3GP (27:9:3 km) relative to HWRF (27:9 km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ll Cases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/Initially &lt;Hurricane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/Initially Hurrica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601280" y="1371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l 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105880" y="139536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/o Julia, Lisa (2010), Ophelia (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950760" y="1803240"/>
            <a:ext cx="3216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51200" y="5724360"/>
            <a:ext cx="43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Improved over HWRF (esp. thru 36h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&amp; except from 48-9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T H3GP better than H212 &amp; H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5038560" y="5715000"/>
            <a:ext cx="39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Improved over HWRF at al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esp. thru 24h*)  esp. for &lt;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problem with HR after 8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T H3GP better than H212 &amp; H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991440" y="6521400"/>
            <a:ext cx="26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*) Much better initial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0451" t="20185" r="11159" b="20261"/>
          <a:stretch/>
        </p:blipFill>
        <p:spPr>
          <a:xfrm>
            <a:off x="190440" y="1752480"/>
            <a:ext cx="4130640" cy="4060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10099" t="20060" r="10576" b="20876"/>
          <a:stretch/>
        </p:blipFill>
        <p:spPr>
          <a:xfrm>
            <a:off x="4737240" y="1765440"/>
            <a:ext cx="419076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tratified Intensity Forecast Skill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-2011 Seasons Retrospective Run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212/H3GP (27:9:3 km) relative to HWRF (27:9 km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nly for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Julia, Lisa (2010), Ophelia (2011)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1370880" y="13716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itially &lt;Hurri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5943600" y="13716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itially Hurri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950760" y="1803240"/>
            <a:ext cx="3216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330480" y="5724360"/>
            <a:ext cx="40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Much worse than HWRF &amp; H3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ote SHF5 also had problems with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5057280" y="571500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Mixed for initially stronger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ote SHF5 had major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8653" t="25959" r="12021" b="19759"/>
          <a:stretch/>
        </p:blipFill>
        <p:spPr>
          <a:xfrm>
            <a:off x="15840" y="1752480"/>
            <a:ext cx="4191120" cy="371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8653" t="25634" r="12021" b="18643"/>
          <a:stretch/>
        </p:blipFill>
        <p:spPr>
          <a:xfrm>
            <a:off x="4632480" y="1733400"/>
            <a:ext cx="419076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Intensity FSP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-2011 Seasons Retrospective Run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212/H3GP (27:9:3 km), HWRF (27:9 km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5868000" y="160020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Only Julia, Lisa, Oph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950760" y="1803240"/>
            <a:ext cx="3216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0099" t="24427" r="11539" b="18947"/>
          <a:stretch/>
        </p:blipFill>
        <p:spPr>
          <a:xfrm>
            <a:off x="4800600" y="2068560"/>
            <a:ext cx="4140360" cy="387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0099" t="16717" r="0" b="20060"/>
          <a:stretch/>
        </p:blipFill>
        <p:spPr>
          <a:xfrm>
            <a:off x="127080" y="1600200"/>
            <a:ext cx="4749840" cy="4322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686880" y="1371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l 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tratified Track Forecast Skil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-2011 Seasons Retrospective Run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212 (27:9:3 km) &amp; GFS (AVN0) relative to HWRF (27:9 km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ll Cases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/Initially &lt;Hurricane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/Initially Hurrica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950760" y="1803240"/>
            <a:ext cx="3216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442080" y="5867280"/>
            <a:ext cx="37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Large improvement over H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More improvement for &lt;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uch closer to AVN0 – equal ≥7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5160240" y="585792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Larger improvement over H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More improvement for &lt;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uch closer to AV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601280" y="1371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l 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5105880" y="139536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/o Julia, Lisa (2010), Ophelia (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TrkSkillAllLTGE201011HAVb.pdf"/>
          <p:cNvPicPr/>
          <p:nvPr/>
        </p:nvPicPr>
        <p:blipFill>
          <a:blip r:embed="rId1"/>
          <a:srcRect l="385446" t="703448" r="365728" b="718512"/>
          <a:stretch/>
        </p:blipFill>
        <p:spPr>
          <a:xfrm>
            <a:off x="190440" y="1727280"/>
            <a:ext cx="4172040" cy="40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TrkSkillx3LTGE201011HAVb.pdf"/>
          <p:cNvPicPr/>
          <p:nvPr/>
        </p:nvPicPr>
        <p:blipFill>
          <a:blip r:embed="rId2"/>
          <a:srcRect l="365493" t="705989" r="389906" b="732486"/>
          <a:stretch/>
        </p:blipFill>
        <p:spPr>
          <a:xfrm>
            <a:off x="4718160" y="1739880"/>
            <a:ext cx="4163760" cy="406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tratified Track Forecast Skil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-2011 Seasons Retrospective R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212/H3GP (27:9:3 km) relative to HWRF (27:9 km)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ll Cases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/Initially &lt;Hurricane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/Initially Hurrica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950760" y="1803240"/>
            <a:ext cx="3216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49320" y="5757840"/>
            <a:ext cx="45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Large improvement over HWRF &amp; H3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More improvement for &lt;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5468400" y="57484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Even Larger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More improvement for &lt;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1601280" y="1371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l 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5105880" y="139536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/o Julia, Lisa (2010), Ophelia (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0099" t="20060" r="10576" b="20873"/>
          <a:stretch/>
        </p:blipFill>
        <p:spPr>
          <a:xfrm>
            <a:off x="157320" y="1738440"/>
            <a:ext cx="4190760" cy="40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0099" t="20060" r="10576" b="19759"/>
          <a:stretch/>
        </p:blipFill>
        <p:spPr>
          <a:xfrm>
            <a:off x="4724280" y="1762200"/>
            <a:ext cx="41911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6"/>
          <p:cNvSpPr/>
          <p:nvPr/>
        </p:nvSpPr>
        <p:spPr>
          <a:xfrm>
            <a:off x="1771200" y="6286680"/>
            <a:ext cx="537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H212: Much better Track Forecasts than HWRF &amp; even H3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better initialization--less contamination of Large-Scale fiel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Track FSP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-2011 Seasons Retrospective R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212/H3GP (27:9:3 km), HWRF (27:9 km)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950760" y="1803240"/>
            <a:ext cx="3216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602000" y="12952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0099" t="24520" r="10576" b="19759"/>
          <a:stretch/>
        </p:blipFill>
        <p:spPr>
          <a:xfrm>
            <a:off x="95400" y="1676520"/>
            <a:ext cx="41907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6"/>
          <p:cNvSpPr/>
          <p:nvPr/>
        </p:nvSpPr>
        <p:spPr>
          <a:xfrm>
            <a:off x="4572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212: Consistently Better than H3GP, GFDL &amp; HW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omewhat close to AVN(GF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otice how much worse HWRF was than AV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1:14:10Z</dcterms:created>
  <dc:creator>azhang</dc:creator>
  <dc:description/>
  <dc:language>en-US</dc:language>
  <cp:lastModifiedBy>Stanley Goldenberg</cp:lastModifiedBy>
  <dcterms:modified xsi:type="dcterms:W3CDTF">2012-08-16T13:50:13Z</dcterms:modified>
  <cp:revision>139</cp:revision>
  <dc:subject/>
  <dc:title>Hurricane Weather Research and Forecasting System (HWRF) Version 3.2 model developments and verification</dc:title>
</cp:coreProperties>
</file>