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4.png" ContentType="image/png"/>
  <Override PartName="/ppt/media/image9.wmf" ContentType="image/x-wmf"/>
  <Override PartName="/ppt/media/image8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D87-EF55-4469-BF08-8AD1B89B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BB0A-49C2-4E86-94F4-D3C1F948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E6C-BD9C-4ECA-8F12-3018E2D0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9DDE-C75A-42AA-BCCB-71D2A30C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F034-DC94-4E8D-9461-2658F106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B9AF-4C92-4095-9BE6-7B1E3325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E43B-A9F4-4C5C-8094-AA3D14FF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C0B6-6903-4B5C-B2E9-861BBF33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4C34-7759-4562-93ED-DCBA86C4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E515-6462-4FD1-9F80-1A46B481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6937-F34F-4132-9F8C-BE6123AC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EE27-3B66-48A8-A0E8-D1994D33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745E-B23F-4182-B1D8-3AEDDD86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0AC1-02CE-4C64-96CF-57825D9E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B868-0069-4A1B-A521-2ECF5B92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A970-53E3-471C-BFBA-C7059D28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F131-03A1-48C8-BB3A-7170DDBD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A45C-9173-440E-95E8-37E0F513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0037-08B6-4BC6-AFC6-2B3CD07A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B4A5-BB63-45C3-B10C-4079C770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0817-0259-4E21-9EC5-1FF87C36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509-0687-4039-A3DC-59AFE217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71C-BDBF-4F9E-8064-813DE0F9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311-959C-4799-90EE-C5BFAC11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64DA-EB3D-4ABB-89F5-6541E56DC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89E2-2F6A-46A7-98E4-62D09D94F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ia (2011) Case Study: Inputs from AOML on the 3-km HWR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r: Paul Rea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ors: HRD Model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1040" y="6248520"/>
            <a:ext cx="741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RD Science Meeting/HFIP Maria Prelim Discussion, October 20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095880" cy="3048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86600" cy="5870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H="1">
            <a:off x="5714640" y="2362320"/>
            <a:ext cx="609480" cy="60948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1981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1905120"/>
            <a:ext cx="457200" cy="30456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1295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rtex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172200" cy="3103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162560" cy="5872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V="1">
            <a:off x="4800600" y="1828440"/>
            <a:ext cx="380880" cy="76212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2514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1828800"/>
            <a:ext cx="457200" cy="30492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114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rtex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km HWRF aggressively simulated downshear to downshear-left redevelopment leading to large early intensity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initial shear in 0910 12Z case perhaps offers a reason for delayed redevelopment and smaller intensity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understand other factors influencing success of downshear re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905120" y="762120"/>
          <a:ext cx="8283240" cy="5911560"/>
        </p:xfrm>
        <a:graphic>
          <a:graphicData uri="http://schemas.openxmlformats.org/drawingml/2006/table">
            <a:tbl>
              <a:tblPr/>
              <a:tblGrid>
                <a:gridCol w="1657080"/>
                <a:gridCol w="1657080"/>
                <a:gridCol w="1657080"/>
                <a:gridCol w="1655280"/>
                <a:gridCol w="165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ream 1.5 HWR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erational HWR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WRF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F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KM: 77.76˚ X 77.76˚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KM: 10.56˚ X 10.2˚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KM: 7.6˚ X 6.4˚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KM: 77.76˚ X 77.76˚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KM: 7.2˚ X 6.0˚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KM: 57.12˚ X 55.56˚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KM: 5.84˚ X 5.8˚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 KM: ~75˚ X ~75˚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KM: ~11˚ X ~11˚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KM: ~5˚ X ~5˚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rtex Initial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9 KM: 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KM: No (Downscal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9 KM: 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KM: 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KM: No (Downscal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-18-9KM: 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c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an Coup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Ocean model: PO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9 KM: 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KM: No (Downscal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9 KM: 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T-Linu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T-Linu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ysics sche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rophy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 (S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D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D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AR S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D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 (L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D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D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R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D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Sche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DL (2010 implement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DL (2011 implement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DL (2009 implement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D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BL Sche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 (Modified for HR implement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mulus Parameter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SAS (27-9 KM); no CP (3 K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d Surf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DL Sla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DL Sla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DL Sla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DL Sla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6781680" y="762120"/>
            <a:ext cx="342900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0010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707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19520" y="5562720"/>
            <a:ext cx="1523880" cy="91440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66248" t="0" r="0" b="66553"/>
          <a:stretch/>
        </p:blipFill>
        <p:spPr>
          <a:xfrm>
            <a:off x="228600" y="152280"/>
            <a:ext cx="4343400" cy="3229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66248" t="0" r="0" b="66553"/>
          <a:stretch/>
        </p:blipFill>
        <p:spPr>
          <a:xfrm>
            <a:off x="4648320" y="152280"/>
            <a:ext cx="4343400" cy="3229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66248" t="0" r="0" b="66553"/>
          <a:stretch/>
        </p:blipFill>
        <p:spPr>
          <a:xfrm>
            <a:off x="2286000" y="3352680"/>
            <a:ext cx="4495680" cy="3343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747160" y="53352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0909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19160" y="53352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09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33160" y="373392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091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5181480"/>
            <a:ext cx="1752480" cy="106704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828800"/>
            <a:ext cx="1295640" cy="10666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1447920"/>
            <a:ext cx="3048120" cy="167616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38280" y="152280"/>
            <a:ext cx="4419720" cy="2171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4267080" cy="2133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514600" y="4572000"/>
            <a:ext cx="426708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1295280" y="0"/>
            <a:ext cx="640080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933960" cy="5751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267080" y="2819520"/>
            <a:ext cx="914400" cy="60948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2514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105160" y="1371600"/>
            <a:ext cx="685800" cy="7632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10666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rtex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1-10-20T18:54:13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