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72C-B22C-4F83-AB19-815FF15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A24-186C-4B55-9DE5-FF80161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EE6-169F-4214-8F48-E07EDF54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A18-B98E-4AD2-8810-0521E43F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69B-0AED-442E-94BF-017B459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077-8B24-418D-88C6-65FBDDA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D39-759F-46C4-80BD-8339D11A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EA7-E4EC-42A7-9884-E4B5232E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CAB-638F-4419-9EAE-A047DD5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834-999B-4F40-BC1C-E2A23D1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113-B7D1-46E7-826F-0AC26E4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6B1-205D-48C1-BDA1-ADDAD78D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F22-C69B-418C-93DD-4A9FD1F37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72216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flights flown on August 23-24, 20/08 UTC takeof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organized system during entire time, distribution of scatterers rather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ent radar coverage collected on four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questions about reliability of analyses, especially since this was first flight flown with RVP-8, and difficulty finding centers and limited scatte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blems transmitting radar data to ground via ftp on early flights, seemed to get worked out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opsondes generally worked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opsondes processed with AS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blems transmitting TEMPDROPS from aircraft, had to be manually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ndes were viewed and processed in real-time on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m was disorganized, with multiple centers displaced in the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vective systems, while intense at times, were transient, likely limiting impact on vortex-scale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action with midlevel easterly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y air possibly a fa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2H1: 5 radar analyses, 27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3H2: 4 radar analyses, 22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06160" y="586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mmary of Caribbean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20120824.0000.12.dmsp_tpw.tropics_ATL.jpg"/>
          <p:cNvPicPr/>
          <p:nvPr/>
        </p:nvPicPr>
        <p:blipFill>
          <a:blip r:embed="rId1"/>
          <a:stretch/>
        </p:blipFill>
        <p:spPr>
          <a:xfrm>
            <a:off x="990720" y="3886200"/>
            <a:ext cx="7086600" cy="28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20120824.0000.goes-13.shear.wind.cimss.x.jpg"/>
          <p:cNvPicPr/>
          <p:nvPr/>
        </p:nvPicPr>
        <p:blipFill>
          <a:blip r:embed="rId2"/>
          <a:stretch/>
        </p:blipFill>
        <p:spPr>
          <a:xfrm>
            <a:off x="2514600" y="685800"/>
            <a:ext cx="413532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311080" y="685800"/>
            <a:ext cx="133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 UTC 8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920240" y="15228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conditions of Isaac while in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120823.2204.f16.x.91h_1deg.09LISAAC.35kts-1004mb-159N-664W.97pc.jpg"/>
          <p:cNvPicPr/>
          <p:nvPr/>
        </p:nvPicPr>
        <p:blipFill>
          <a:blip r:embed="rId1"/>
          <a:stretch/>
        </p:blipFill>
        <p:spPr>
          <a:xfrm>
            <a:off x="4267080" y="367200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20120823.2045.goes13.x.ir1km.09LISAAC.35kts-1004mb-159N-664W.100pc.jpg"/>
          <p:cNvPicPr/>
          <p:nvPr/>
        </p:nvPicPr>
        <p:blipFill>
          <a:blip r:embed="rId2"/>
          <a:stretch/>
        </p:blipFill>
        <p:spPr>
          <a:xfrm>
            <a:off x="4257720" y="49680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20120822.2119.trmm.x.tmi_85h_1deg.09LISAAC.40kts-1004mb-159N-604W.63pc.jpg"/>
          <p:cNvPicPr/>
          <p:nvPr/>
        </p:nvPicPr>
        <p:blipFill>
          <a:blip r:embed="rId3"/>
          <a:stretch/>
        </p:blipFill>
        <p:spPr>
          <a:xfrm>
            <a:off x="838080" y="3679920"/>
            <a:ext cx="3121200" cy="31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20120822.2045.goes13.x.ir1km.09LISAAC.40kts-1004mb-159N-604W.100pc.jpg"/>
          <p:cNvPicPr/>
          <p:nvPr/>
        </p:nvPicPr>
        <p:blipFill>
          <a:blip r:embed="rId4"/>
          <a:stretch/>
        </p:blipFill>
        <p:spPr>
          <a:xfrm>
            <a:off x="833400" y="504720"/>
            <a:ext cx="3068640" cy="3067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643480" y="4683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00720" y="36687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19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081840" y="4572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20000" y="36576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04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831040" y="1116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rared and 85 GHz during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20824.1215.goes13.x.ir1km.09LISAAC.40kts-1000mb-162N-696W.100pc.jpg image"/>
          <p:cNvPicPr/>
          <p:nvPr/>
        </p:nvPicPr>
        <p:blipFill>
          <a:blip r:embed="rId1"/>
          <a:stretch/>
        </p:blipFill>
        <p:spPr>
          <a:xfrm>
            <a:off x="647712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0120824.1515.goes13.x.ir1km.09LISAAC.50kts-1000mb-159N-704W.100pc.jpg image"/>
          <p:cNvPicPr/>
          <p:nvPr/>
        </p:nvPicPr>
        <p:blipFill>
          <a:blip r:embed="rId2"/>
          <a:stretch/>
        </p:blipFill>
        <p:spPr>
          <a:xfrm>
            <a:off x="449568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0120824.1815.goes13.x.ir1km.09LISAAC.50kts-1000mb-168N-710W.100pc.jpg image"/>
          <p:cNvPicPr/>
          <p:nvPr/>
        </p:nvPicPr>
        <p:blipFill>
          <a:blip r:embed="rId3"/>
          <a:stretch/>
        </p:blipFill>
        <p:spPr>
          <a:xfrm>
            <a:off x="251460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20120824.0915.goes13.x.ir1km.09LISAAC.40kts-1000mb-162N-696W.100pc.jpg image"/>
          <p:cNvPicPr/>
          <p:nvPr/>
        </p:nvPicPr>
        <p:blipFill>
          <a:blip r:embed="rId4"/>
          <a:stretch/>
        </p:blipFill>
        <p:spPr>
          <a:xfrm>
            <a:off x="54936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0120824.1015.goes13.x.ir1km.09LISAAC.40kts-1000mb-162N-696W.100pc.jpg image"/>
          <p:cNvPicPr/>
          <p:nvPr/>
        </p:nvPicPr>
        <p:blipFill>
          <a:blip r:embed="rId5"/>
          <a:stretch/>
        </p:blipFill>
        <p:spPr>
          <a:xfrm>
            <a:off x="251460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0120824.1115.goes13.x.ir1km.09LISAAC.40kts-1000mb-162N-696W.100pc.jpg image"/>
          <p:cNvPicPr/>
          <p:nvPr/>
        </p:nvPicPr>
        <p:blipFill>
          <a:blip r:embed="rId6"/>
          <a:stretch/>
        </p:blipFill>
        <p:spPr>
          <a:xfrm>
            <a:off x="449568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20120824.1315.goes13.x.ir1km.09LISAAC.45kts-1000mb-159N-704W.100pc.jpg image"/>
          <p:cNvPicPr/>
          <p:nvPr/>
        </p:nvPicPr>
        <p:blipFill>
          <a:blip r:embed="rId7"/>
          <a:stretch/>
        </p:blipFill>
        <p:spPr>
          <a:xfrm>
            <a:off x="54936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20120824.1415.goes13.x.ir1km.09LISAAC.50kts-1000mb-159N-704W.100pc.jpg image"/>
          <p:cNvPicPr/>
          <p:nvPr/>
        </p:nvPicPr>
        <p:blipFill>
          <a:blip r:embed="rId8"/>
          <a:stretch/>
        </p:blipFill>
        <p:spPr>
          <a:xfrm>
            <a:off x="251460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20120824.1615.goes13.x.ir1km.09LISAAC.50kts-1000mb-159N-704W.100pc.jpg image"/>
          <p:cNvPicPr/>
          <p:nvPr/>
        </p:nvPicPr>
        <p:blipFill>
          <a:blip r:embed="rId9"/>
          <a:stretch/>
        </p:blipFill>
        <p:spPr>
          <a:xfrm>
            <a:off x="64771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20120824.1715.goes13.x.ir1km.09LISAAC.50kts-1000mb-159N-704W.100pc.jpg image"/>
          <p:cNvPicPr/>
          <p:nvPr/>
        </p:nvPicPr>
        <p:blipFill>
          <a:blip r:embed="rId10"/>
          <a:stretch/>
        </p:blipFill>
        <p:spPr>
          <a:xfrm>
            <a:off x="54936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20120824.1915.goes13.x.ir1km.09LISAAC.55kts-995mb-168N-714W.100pc.jpg image"/>
          <p:cNvPicPr/>
          <p:nvPr/>
        </p:nvPicPr>
        <p:blipFill>
          <a:blip r:embed="rId11"/>
          <a:stretch/>
        </p:blipFill>
        <p:spPr>
          <a:xfrm>
            <a:off x="4495680" y="4952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20120824.2015.goes13.x.ir1km.09LISAAC.55kts-995mb-168N-714W.100pc.jpg image"/>
          <p:cNvPicPr/>
          <p:nvPr/>
        </p:nvPicPr>
        <p:blipFill>
          <a:blip r:embed="rId12"/>
          <a:stretch/>
        </p:blipFill>
        <p:spPr>
          <a:xfrm>
            <a:off x="6477120" y="4952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1695600" y="82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0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66084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564228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1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62156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2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1700280" y="28861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3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66408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4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564516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5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762480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6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1700280" y="496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7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66408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8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564516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762480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2228040" y="1522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Example of transient MCS on August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"/>
          <p:cNvGrpSpPr/>
          <p:nvPr/>
        </p:nvGrpSpPr>
        <p:grpSpPr>
          <a:xfrm>
            <a:off x="4249800" y="3870360"/>
            <a:ext cx="3341880" cy="2835000"/>
            <a:chOff x="4249800" y="3870360"/>
            <a:chExt cx="3341880" cy="2835000"/>
          </a:xfrm>
        </p:grpSpPr>
        <p:pic>
          <p:nvPicPr>
            <p:cNvPr id="82" name="Picture 1" descr="synopticmap_Surface20120822h.png"/>
            <p:cNvPicPr/>
            <p:nvPr/>
          </p:nvPicPr>
          <p:blipFill>
            <a:blip r:embed="rId1"/>
            <a:srcRect l="17216" t="11838" r="13923" b="0"/>
            <a:stretch/>
          </p:blipFill>
          <p:spPr>
            <a:xfrm>
              <a:off x="4249800" y="3870360"/>
              <a:ext cx="333468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5"/>
            <p:cNvSpPr/>
            <p:nvPr/>
          </p:nvSpPr>
          <p:spPr>
            <a:xfrm>
              <a:off x="6949080" y="642888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1"/>
          <p:cNvGrpSpPr/>
          <p:nvPr/>
        </p:nvGrpSpPr>
        <p:grpSpPr>
          <a:xfrm>
            <a:off x="846000" y="3870360"/>
            <a:ext cx="3363840" cy="2835000"/>
            <a:chOff x="846000" y="3870360"/>
            <a:chExt cx="3363840" cy="2835000"/>
          </a:xfrm>
        </p:grpSpPr>
        <p:pic>
          <p:nvPicPr>
            <p:cNvPr id="85" name="Picture 2" descr="synopticmap_925mb20120822h.png"/>
            <p:cNvPicPr/>
            <p:nvPr/>
          </p:nvPicPr>
          <p:blipFill>
            <a:blip r:embed="rId2"/>
            <a:srcRect l="17665" t="11838" r="13833" b="0"/>
            <a:stretch/>
          </p:blipFill>
          <p:spPr>
            <a:xfrm>
              <a:off x="846000" y="3870360"/>
              <a:ext cx="331884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6"/>
            <p:cNvSpPr/>
            <p:nvPr/>
          </p:nvSpPr>
          <p:spPr>
            <a:xfrm>
              <a:off x="3523320" y="64288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925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838080" y="593640"/>
            <a:ext cx="3381480" cy="2842920"/>
            <a:chOff x="838080" y="593640"/>
            <a:chExt cx="3381480" cy="2842920"/>
          </a:xfrm>
        </p:grpSpPr>
        <p:pic>
          <p:nvPicPr>
            <p:cNvPr id="88" name="Picture 4" descr="synopticmap_700mb20120822h.png"/>
            <p:cNvPicPr/>
            <p:nvPr/>
          </p:nvPicPr>
          <p:blipFill>
            <a:blip r:embed="rId3"/>
            <a:srcRect l="17845" t="11632" r="13474" b="0"/>
            <a:stretch/>
          </p:blipFill>
          <p:spPr>
            <a:xfrm>
              <a:off x="838080" y="593640"/>
              <a:ext cx="3327480" cy="28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>
              <a:off x="3533040" y="31600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70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4240080" y="593640"/>
            <a:ext cx="3376800" cy="2833560"/>
            <a:chOff x="4240080" y="593640"/>
            <a:chExt cx="3376800" cy="2833560"/>
          </a:xfrm>
        </p:grpSpPr>
        <p:pic>
          <p:nvPicPr>
            <p:cNvPr id="91" name="Picture 3" descr="synopticmap_850mb20120822h.png"/>
            <p:cNvPicPr/>
            <p:nvPr/>
          </p:nvPicPr>
          <p:blipFill>
            <a:blip r:embed="rId4"/>
            <a:srcRect l="17037" t="11632" r="13923" b="0"/>
            <a:stretch/>
          </p:blipFill>
          <p:spPr>
            <a:xfrm>
              <a:off x="4240080" y="593640"/>
              <a:ext cx="33454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6930360" y="315072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85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7"/>
          <p:cNvSpPr/>
          <p:nvPr/>
        </p:nvSpPr>
        <p:spPr>
          <a:xfrm>
            <a:off x="2451960" y="7128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2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ynopticmap_700mb20120823h2.png"/>
          <p:cNvPicPr/>
          <p:nvPr/>
        </p:nvPicPr>
        <p:blipFill>
          <a:blip r:embed="rId1"/>
          <a:srcRect l="22387" t="9430" r="20005" b="0"/>
          <a:stretch/>
        </p:blipFill>
        <p:spPr>
          <a:xfrm>
            <a:off x="1393920" y="496800"/>
            <a:ext cx="2913120" cy="302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synopticmap_925mb20120823h2.png"/>
          <p:cNvPicPr/>
          <p:nvPr/>
        </p:nvPicPr>
        <p:blipFill>
          <a:blip r:embed="rId2"/>
          <a:srcRect l="21085" t="10190" r="20108" b="0"/>
          <a:stretch/>
        </p:blipFill>
        <p:spPr>
          <a:xfrm>
            <a:off x="1376280" y="3798720"/>
            <a:ext cx="2954520" cy="298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ynopticmap_Surface20120823h2.png"/>
          <p:cNvPicPr/>
          <p:nvPr/>
        </p:nvPicPr>
        <p:blipFill>
          <a:blip r:embed="rId3"/>
          <a:srcRect l="22113" t="9921" r="19970" b="0"/>
          <a:stretch/>
        </p:blipFill>
        <p:spPr>
          <a:xfrm>
            <a:off x="4784760" y="3790800"/>
            <a:ext cx="291132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synopticmap_850mb20120823h2.png"/>
          <p:cNvPicPr/>
          <p:nvPr/>
        </p:nvPicPr>
        <p:blipFill>
          <a:blip r:embed="rId4"/>
          <a:srcRect l="22222" t="9895" r="20143" b="0"/>
          <a:stretch/>
        </p:blipFill>
        <p:spPr>
          <a:xfrm>
            <a:off x="4784760" y="514440"/>
            <a:ext cx="2895480" cy="299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564360" y="315288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0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934680" y="314964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5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563640" y="641196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25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931080" y="64087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909160" y="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3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20120823H2wind10.gif"/>
          <p:cNvPicPr/>
          <p:nvPr/>
        </p:nvPicPr>
        <p:blipFill>
          <a:blip r:embed="rId1"/>
          <a:srcRect l="20343" t="7219" r="23891" b="0"/>
          <a:stretch/>
        </p:blipFill>
        <p:spPr>
          <a:xfrm>
            <a:off x="4438800" y="3695760"/>
            <a:ext cx="310176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20120823H2wind50.gif"/>
          <p:cNvPicPr/>
          <p:nvPr/>
        </p:nvPicPr>
        <p:blipFill>
          <a:blip r:embed="rId2"/>
          <a:srcRect l="18222" t="7219" r="24505" b="0"/>
          <a:stretch/>
        </p:blipFill>
        <p:spPr>
          <a:xfrm>
            <a:off x="4321080" y="566640"/>
            <a:ext cx="31752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20120822H1wind10.gif"/>
          <p:cNvPicPr/>
          <p:nvPr/>
        </p:nvPicPr>
        <p:blipFill>
          <a:blip r:embed="rId3"/>
          <a:srcRect l="16341" t="7433" r="21297" b="0"/>
          <a:stretch/>
        </p:blipFill>
        <p:spPr>
          <a:xfrm>
            <a:off x="717480" y="3695760"/>
            <a:ext cx="285264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0120822H1wind50.gif"/>
          <p:cNvPicPr/>
          <p:nvPr/>
        </p:nvPicPr>
        <p:blipFill>
          <a:blip r:embed="rId4"/>
          <a:srcRect l="15269" t="7528" r="20145" b="0"/>
          <a:stretch/>
        </p:blipFill>
        <p:spPr>
          <a:xfrm>
            <a:off x="685800" y="574560"/>
            <a:ext cx="2933640" cy="314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20120822H1wind50.gif"/>
          <p:cNvPicPr/>
          <p:nvPr/>
        </p:nvPicPr>
        <p:blipFill>
          <a:blip r:embed="rId5"/>
          <a:srcRect l="82378" t="5726" r="7053" b="4712"/>
          <a:stretch/>
        </p:blipFill>
        <p:spPr>
          <a:xfrm>
            <a:off x="7713720" y="344520"/>
            <a:ext cx="515880" cy="32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0120822H1wind50.gif"/>
          <p:cNvPicPr/>
          <p:nvPr/>
        </p:nvPicPr>
        <p:blipFill>
          <a:blip r:embed="rId6"/>
          <a:srcRect l="82378" t="5707" r="7053" b="2066"/>
          <a:stretch/>
        </p:blipFill>
        <p:spPr>
          <a:xfrm>
            <a:off x="7713720" y="3502080"/>
            <a:ext cx="515880" cy="3373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168372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56488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656720" y="-5724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perational Doppler/dropsonde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15548" t="9586" r="19923" b="2303"/>
          <a:stretch/>
        </p:blipFill>
        <p:spPr>
          <a:xfrm>
            <a:off x="932040" y="3673440"/>
            <a:ext cx="2920680" cy="322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16916" t="10902" r="21882" b="4632"/>
          <a:stretch/>
        </p:blipFill>
        <p:spPr>
          <a:xfrm>
            <a:off x="993600" y="655560"/>
            <a:ext cx="2770200" cy="308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18012" t="9445" r="19809" b="3659"/>
          <a:stretch/>
        </p:blipFill>
        <p:spPr>
          <a:xfrm>
            <a:off x="4894200" y="3681360"/>
            <a:ext cx="2814840" cy="317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17621" t="9707" r="20200" b="3639"/>
          <a:stretch/>
        </p:blipFill>
        <p:spPr>
          <a:xfrm>
            <a:off x="4876920" y="604800"/>
            <a:ext cx="2814480" cy="3170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305208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052080" y="6969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90480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6904800" y="658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912320" y="392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755680" y="382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492640" y="-79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reamlines at two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36:19Z</dcterms:created>
  <dc:creator>Robert.Rogers</dc:creator>
  <dc:description/>
  <dc:language>en-US</dc:language>
  <cp:lastModifiedBy>Shirley Murillo</cp:lastModifiedBy>
  <dcterms:modified xsi:type="dcterms:W3CDTF">2012-09-05T13:26:18Z</dcterms:modified>
  <cp:revision>21</cp:revision>
  <dc:subject/>
  <dc:title>Slide 1</dc:title>
</cp:coreProperties>
</file>