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8D4-7F82-4894-BE8A-25006995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D104-6980-4240-BAF6-67E4A226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9964-2D93-4356-A72B-ACA766E1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8EDF-2CC3-4DF7-A3D2-4FF2BD14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99E-9005-4906-9E0C-240A505D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C10-B7BD-4343-9F5C-24C4AC6F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A81-23CC-43A3-B714-E3265B34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136-4DD0-4C02-9094-2908DF97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AA7-31B6-4C2B-BFCF-C834FAEF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552E-ACA4-4F20-97C3-2B39D0CA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3EF9-4005-4780-9355-277B5749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10B-29D9-40DC-80BF-D34C1A1A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D2DE-A8AE-41AF-88AE-8359909AC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722160"/>
            <a:ext cx="8001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 flights flown on August 23-24, 20/08 UTC takeof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organized system during entire time, distribution of scatterers rather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ent radar coverage collected on four 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 questions about reliability of analyses, especially since this was first flight flown with RVP-8, and difficulty finding centers and limited scatte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 problems transmitting radar data to ground via ftp on early flights, seemed to get worked out th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opsondes generally worked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opsondes processed with AS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blems transmitting TEMPDROPS from aircraft, had to be manually trans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ndes were viewed and processed in real-time on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rm was disorganized, with multiple centers displaced in the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vective systems, while intense at times, were transient, likely limiting impact on vortex-scale 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action with midlevel easterly 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y air possibly a fact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ight summ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20822H1: 5 radar analyses, 27 dropsondes trans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20823H2: 4 radar analyses, 22 dropsondes trans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306160" y="58680"/>
            <a:ext cx="39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ummary of Caribbean f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20120824.0000.12.dmsp_tpw.tropics_ATL.jpg"/>
          <p:cNvPicPr/>
          <p:nvPr/>
        </p:nvPicPr>
        <p:blipFill>
          <a:blip r:embed="rId1"/>
          <a:stretch/>
        </p:blipFill>
        <p:spPr>
          <a:xfrm>
            <a:off x="990720" y="3886200"/>
            <a:ext cx="7086600" cy="2833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20120824.0000.goes-13.shear.wind.cimss.x.jpg"/>
          <p:cNvPicPr/>
          <p:nvPr/>
        </p:nvPicPr>
        <p:blipFill>
          <a:blip r:embed="rId2"/>
          <a:stretch/>
        </p:blipFill>
        <p:spPr>
          <a:xfrm>
            <a:off x="2514600" y="685800"/>
            <a:ext cx="4135320" cy="312408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311080" y="685800"/>
            <a:ext cx="1331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0 UTC 8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920240" y="152280"/>
            <a:ext cx="52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vironmental conditions of Isaac while in Caribb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0120823.2204.f16.x.91h_1deg.09LISAAC.35kts-1004mb-159N-664W.97pc.jpg"/>
          <p:cNvPicPr/>
          <p:nvPr/>
        </p:nvPicPr>
        <p:blipFill>
          <a:blip r:embed="rId1"/>
          <a:stretch/>
        </p:blipFill>
        <p:spPr>
          <a:xfrm>
            <a:off x="4267080" y="3672000"/>
            <a:ext cx="3110040" cy="310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20120823.2045.goes13.x.ir1km.09LISAAC.35kts-1004mb-159N-664W.100pc.jpg"/>
          <p:cNvPicPr/>
          <p:nvPr/>
        </p:nvPicPr>
        <p:blipFill>
          <a:blip r:embed="rId2"/>
          <a:stretch/>
        </p:blipFill>
        <p:spPr>
          <a:xfrm>
            <a:off x="4257720" y="496800"/>
            <a:ext cx="3084480" cy="308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20120822.2119.trmm.x.tmi_85h_1deg.09LISAAC.40kts-1004mb-159N-604W.63pc.jpg"/>
          <p:cNvPicPr/>
          <p:nvPr/>
        </p:nvPicPr>
        <p:blipFill>
          <a:blip r:embed="rId3"/>
          <a:stretch/>
        </p:blipFill>
        <p:spPr>
          <a:xfrm>
            <a:off x="838080" y="3679920"/>
            <a:ext cx="3121200" cy="3120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20120822.2045.goes13.x.ir1km.09LISAAC.40kts-1004mb-159N-604W.100pc.jpg"/>
          <p:cNvPicPr/>
          <p:nvPr/>
        </p:nvPicPr>
        <p:blipFill>
          <a:blip r:embed="rId4"/>
          <a:stretch/>
        </p:blipFill>
        <p:spPr>
          <a:xfrm>
            <a:off x="833400" y="504720"/>
            <a:ext cx="3068640" cy="30672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2643480" y="468360"/>
            <a:ext cx="1253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45 UTC 8/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700720" y="3668760"/>
            <a:ext cx="1253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119 UTC 8/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6081840" y="457200"/>
            <a:ext cx="1253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45 UTC 8/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6120000" y="3657600"/>
            <a:ext cx="1253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204 UTC 8/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2831040" y="11160"/>
            <a:ext cx="339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Infrared and 85 GHz during 2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20120824.1215.goes13.x.ir1km.09LISAAC.40kts-1000mb-162N-696W.100pc.jpg image"/>
          <p:cNvPicPr/>
          <p:nvPr/>
        </p:nvPicPr>
        <p:blipFill>
          <a:blip r:embed="rId1"/>
          <a:stretch/>
        </p:blipFill>
        <p:spPr>
          <a:xfrm>
            <a:off x="6477120" y="838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20120824.1515.goes13.x.ir1km.09LISAAC.50kts-1000mb-159N-704W.100pc.jpg image"/>
          <p:cNvPicPr/>
          <p:nvPr/>
        </p:nvPicPr>
        <p:blipFill>
          <a:blip r:embed="rId2"/>
          <a:stretch/>
        </p:blipFill>
        <p:spPr>
          <a:xfrm>
            <a:off x="4495680" y="2895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20120824.1815.goes13.x.ir1km.09LISAAC.50kts-1000mb-168N-710W.100pc.jpg image"/>
          <p:cNvPicPr/>
          <p:nvPr/>
        </p:nvPicPr>
        <p:blipFill>
          <a:blip r:embed="rId3"/>
          <a:stretch/>
        </p:blipFill>
        <p:spPr>
          <a:xfrm>
            <a:off x="2514600" y="49719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20120824.0915.goes13.x.ir1km.09LISAAC.40kts-1000mb-162N-696W.100pc.jpg image"/>
          <p:cNvPicPr/>
          <p:nvPr/>
        </p:nvPicPr>
        <p:blipFill>
          <a:blip r:embed="rId4"/>
          <a:stretch/>
        </p:blipFill>
        <p:spPr>
          <a:xfrm>
            <a:off x="549360" y="838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20120824.1015.goes13.x.ir1km.09LISAAC.40kts-1000mb-162N-696W.100pc.jpg image"/>
          <p:cNvPicPr/>
          <p:nvPr/>
        </p:nvPicPr>
        <p:blipFill>
          <a:blip r:embed="rId5"/>
          <a:stretch/>
        </p:blipFill>
        <p:spPr>
          <a:xfrm>
            <a:off x="2514600" y="838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20120824.1115.goes13.x.ir1km.09LISAAC.40kts-1000mb-162N-696W.100pc.jpg image"/>
          <p:cNvPicPr/>
          <p:nvPr/>
        </p:nvPicPr>
        <p:blipFill>
          <a:blip r:embed="rId6"/>
          <a:stretch/>
        </p:blipFill>
        <p:spPr>
          <a:xfrm>
            <a:off x="4495680" y="838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20120824.1315.goes13.x.ir1km.09LISAAC.45kts-1000mb-159N-704W.100pc.jpg image"/>
          <p:cNvPicPr/>
          <p:nvPr/>
        </p:nvPicPr>
        <p:blipFill>
          <a:blip r:embed="rId7"/>
          <a:stretch/>
        </p:blipFill>
        <p:spPr>
          <a:xfrm>
            <a:off x="549360" y="2895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20120824.1415.goes13.x.ir1km.09LISAAC.50kts-1000mb-159N-704W.100pc.jpg image"/>
          <p:cNvPicPr/>
          <p:nvPr/>
        </p:nvPicPr>
        <p:blipFill>
          <a:blip r:embed="rId8"/>
          <a:stretch/>
        </p:blipFill>
        <p:spPr>
          <a:xfrm>
            <a:off x="2514600" y="2895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20120824.1615.goes13.x.ir1km.09LISAAC.50kts-1000mb-159N-704W.100pc.jpg image"/>
          <p:cNvPicPr/>
          <p:nvPr/>
        </p:nvPicPr>
        <p:blipFill>
          <a:blip r:embed="rId9"/>
          <a:stretch/>
        </p:blipFill>
        <p:spPr>
          <a:xfrm>
            <a:off x="6477120" y="2895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20120824.1715.goes13.x.ir1km.09LISAAC.50kts-1000mb-159N-704W.100pc.jpg image"/>
          <p:cNvPicPr/>
          <p:nvPr/>
        </p:nvPicPr>
        <p:blipFill>
          <a:blip r:embed="rId10"/>
          <a:stretch/>
        </p:blipFill>
        <p:spPr>
          <a:xfrm>
            <a:off x="549360" y="49719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20120824.1915.goes13.x.ir1km.09LISAAC.55kts-995mb-168N-714W.100pc.jpg image"/>
          <p:cNvPicPr/>
          <p:nvPr/>
        </p:nvPicPr>
        <p:blipFill>
          <a:blip r:embed="rId11"/>
          <a:stretch/>
        </p:blipFill>
        <p:spPr>
          <a:xfrm>
            <a:off x="4495680" y="4952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" descr="20120824.2015.goes13.x.ir1km.09LISAAC.55kts-995mb-168N-714W.100pc.jpg image"/>
          <p:cNvPicPr/>
          <p:nvPr/>
        </p:nvPicPr>
        <p:blipFill>
          <a:blip r:embed="rId12"/>
          <a:stretch/>
        </p:blipFill>
        <p:spPr>
          <a:xfrm>
            <a:off x="6477120" y="49528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3"/>
          <p:cNvSpPr/>
          <p:nvPr/>
        </p:nvSpPr>
        <p:spPr>
          <a:xfrm>
            <a:off x="1695600" y="82080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09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3660840" y="83808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0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5642280" y="83808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1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7621560" y="83808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2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7"/>
          <p:cNvSpPr/>
          <p:nvPr/>
        </p:nvSpPr>
        <p:spPr>
          <a:xfrm>
            <a:off x="1700280" y="288612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3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8"/>
          <p:cNvSpPr/>
          <p:nvPr/>
        </p:nvSpPr>
        <p:spPr>
          <a:xfrm>
            <a:off x="3664080" y="289548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4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9"/>
          <p:cNvSpPr/>
          <p:nvPr/>
        </p:nvSpPr>
        <p:spPr>
          <a:xfrm>
            <a:off x="5645160" y="289548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5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"/>
          <p:cNvSpPr/>
          <p:nvPr/>
        </p:nvSpPr>
        <p:spPr>
          <a:xfrm>
            <a:off x="7624800" y="289548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6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1"/>
          <p:cNvSpPr/>
          <p:nvPr/>
        </p:nvSpPr>
        <p:spPr>
          <a:xfrm>
            <a:off x="1700280" y="496080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7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3664080" y="494352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8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3"/>
          <p:cNvSpPr/>
          <p:nvPr/>
        </p:nvSpPr>
        <p:spPr>
          <a:xfrm>
            <a:off x="5645160" y="494352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9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4"/>
          <p:cNvSpPr/>
          <p:nvPr/>
        </p:nvSpPr>
        <p:spPr>
          <a:xfrm>
            <a:off x="7624800" y="494352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0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5"/>
          <p:cNvSpPr/>
          <p:nvPr/>
        </p:nvSpPr>
        <p:spPr>
          <a:xfrm>
            <a:off x="2228040" y="15228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Example of transient MCS on August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2"/>
          <p:cNvGrpSpPr/>
          <p:nvPr/>
        </p:nvGrpSpPr>
        <p:grpSpPr>
          <a:xfrm>
            <a:off x="4249800" y="3870360"/>
            <a:ext cx="3341880" cy="2835000"/>
            <a:chOff x="4249800" y="3870360"/>
            <a:chExt cx="3341880" cy="2835000"/>
          </a:xfrm>
        </p:grpSpPr>
        <p:pic>
          <p:nvPicPr>
            <p:cNvPr id="82" name="Picture 1" descr="synopticmap_Surface20120822h.png"/>
            <p:cNvPicPr/>
            <p:nvPr/>
          </p:nvPicPr>
          <p:blipFill>
            <a:blip r:embed="rId1"/>
            <a:srcRect l="17216" t="11838" r="13923" b="0"/>
            <a:stretch/>
          </p:blipFill>
          <p:spPr>
            <a:xfrm>
              <a:off x="4249800" y="3870360"/>
              <a:ext cx="3334680" cy="282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Box 5"/>
            <p:cNvSpPr/>
            <p:nvPr/>
          </p:nvSpPr>
          <p:spPr>
            <a:xfrm>
              <a:off x="6949080" y="6428880"/>
              <a:ext cx="64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u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1"/>
          <p:cNvGrpSpPr/>
          <p:nvPr/>
        </p:nvGrpSpPr>
        <p:grpSpPr>
          <a:xfrm>
            <a:off x="846000" y="3870360"/>
            <a:ext cx="3363840" cy="2835000"/>
            <a:chOff x="846000" y="3870360"/>
            <a:chExt cx="3363840" cy="2835000"/>
          </a:xfrm>
        </p:grpSpPr>
        <p:pic>
          <p:nvPicPr>
            <p:cNvPr id="85" name="Picture 2" descr="synopticmap_925mb20120822h.png"/>
            <p:cNvPicPr/>
            <p:nvPr/>
          </p:nvPicPr>
          <p:blipFill>
            <a:blip r:embed="rId2"/>
            <a:srcRect l="17665" t="11838" r="13833" b="0"/>
            <a:stretch/>
          </p:blipFill>
          <p:spPr>
            <a:xfrm>
              <a:off x="846000" y="3870360"/>
              <a:ext cx="3318840" cy="282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6"/>
            <p:cNvSpPr/>
            <p:nvPr/>
          </p:nvSpPr>
          <p:spPr>
            <a:xfrm>
              <a:off x="3523320" y="6428880"/>
              <a:ext cx="68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925 hP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"/>
          <p:cNvGrpSpPr/>
          <p:nvPr/>
        </p:nvGrpSpPr>
        <p:grpSpPr>
          <a:xfrm>
            <a:off x="838080" y="593640"/>
            <a:ext cx="3381480" cy="2842920"/>
            <a:chOff x="838080" y="593640"/>
            <a:chExt cx="3381480" cy="2842920"/>
          </a:xfrm>
        </p:grpSpPr>
        <p:pic>
          <p:nvPicPr>
            <p:cNvPr id="88" name="Picture 4" descr="synopticmap_700mb20120822h.png"/>
            <p:cNvPicPr/>
            <p:nvPr/>
          </p:nvPicPr>
          <p:blipFill>
            <a:blip r:embed="rId3"/>
            <a:srcRect l="17845" t="11632" r="13474" b="0"/>
            <a:stretch/>
          </p:blipFill>
          <p:spPr>
            <a:xfrm>
              <a:off x="838080" y="593640"/>
              <a:ext cx="3327480" cy="28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>
              <a:off x="3533040" y="3160080"/>
              <a:ext cx="68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700 hP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0"/>
          <p:cNvGrpSpPr/>
          <p:nvPr/>
        </p:nvGrpSpPr>
        <p:grpSpPr>
          <a:xfrm>
            <a:off x="4240080" y="593640"/>
            <a:ext cx="3376800" cy="2833560"/>
            <a:chOff x="4240080" y="593640"/>
            <a:chExt cx="3376800" cy="2833560"/>
          </a:xfrm>
        </p:grpSpPr>
        <p:pic>
          <p:nvPicPr>
            <p:cNvPr id="91" name="Picture 3" descr="synopticmap_850mb20120822h.png"/>
            <p:cNvPicPr/>
            <p:nvPr/>
          </p:nvPicPr>
          <p:blipFill>
            <a:blip r:embed="rId4"/>
            <a:srcRect l="17037" t="11632" r="13923" b="0"/>
            <a:stretch/>
          </p:blipFill>
          <p:spPr>
            <a:xfrm>
              <a:off x="4240080" y="593640"/>
              <a:ext cx="33454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8"/>
            <p:cNvSpPr/>
            <p:nvPr/>
          </p:nvSpPr>
          <p:spPr>
            <a:xfrm>
              <a:off x="6930360" y="3150720"/>
              <a:ext cx="68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850 hP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17"/>
          <p:cNvSpPr/>
          <p:nvPr/>
        </p:nvSpPr>
        <p:spPr>
          <a:xfrm>
            <a:off x="2451960" y="7128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Dropsondes from 120822H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synopticmap_700mb20120823h2.png"/>
          <p:cNvPicPr/>
          <p:nvPr/>
        </p:nvPicPr>
        <p:blipFill>
          <a:blip r:embed="rId1"/>
          <a:srcRect l="22387" t="9430" r="20005" b="0"/>
          <a:stretch/>
        </p:blipFill>
        <p:spPr>
          <a:xfrm>
            <a:off x="1393920" y="496800"/>
            <a:ext cx="2913120" cy="3025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synopticmap_925mb20120823h2.png"/>
          <p:cNvPicPr/>
          <p:nvPr/>
        </p:nvPicPr>
        <p:blipFill>
          <a:blip r:embed="rId2"/>
          <a:srcRect l="21085" t="10190" r="20108" b="0"/>
          <a:stretch/>
        </p:blipFill>
        <p:spPr>
          <a:xfrm>
            <a:off x="1376280" y="3798720"/>
            <a:ext cx="2954520" cy="2982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synopticmap_Surface20120823h2.png"/>
          <p:cNvPicPr/>
          <p:nvPr/>
        </p:nvPicPr>
        <p:blipFill>
          <a:blip r:embed="rId3"/>
          <a:srcRect l="22113" t="9921" r="19970" b="0"/>
          <a:stretch/>
        </p:blipFill>
        <p:spPr>
          <a:xfrm>
            <a:off x="4784760" y="3790800"/>
            <a:ext cx="2911320" cy="2990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synopticmap_850mb20120823h2.png"/>
          <p:cNvPicPr/>
          <p:nvPr/>
        </p:nvPicPr>
        <p:blipFill>
          <a:blip r:embed="rId4"/>
          <a:srcRect l="22222" t="9895" r="20143" b="0"/>
          <a:stretch/>
        </p:blipFill>
        <p:spPr>
          <a:xfrm>
            <a:off x="4784760" y="514440"/>
            <a:ext cx="2895480" cy="2990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3564360" y="3152880"/>
            <a:ext cx="68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700 h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6934680" y="3149640"/>
            <a:ext cx="68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850 h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3563640" y="6411960"/>
            <a:ext cx="68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25 h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6931080" y="64087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2909160" y="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Dropsondes from 120823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20120823H2wind10.gif"/>
          <p:cNvPicPr/>
          <p:nvPr/>
        </p:nvPicPr>
        <p:blipFill>
          <a:blip r:embed="rId1"/>
          <a:srcRect l="20343" t="7219" r="23891" b="0"/>
          <a:stretch/>
        </p:blipFill>
        <p:spPr>
          <a:xfrm>
            <a:off x="4438800" y="3695760"/>
            <a:ext cx="3101760" cy="3200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20120823H2wind50.gif"/>
          <p:cNvPicPr/>
          <p:nvPr/>
        </p:nvPicPr>
        <p:blipFill>
          <a:blip r:embed="rId2"/>
          <a:srcRect l="18222" t="7219" r="24505" b="0"/>
          <a:stretch/>
        </p:blipFill>
        <p:spPr>
          <a:xfrm>
            <a:off x="4321080" y="566640"/>
            <a:ext cx="3175200" cy="316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20120822H1wind10.gif"/>
          <p:cNvPicPr/>
          <p:nvPr/>
        </p:nvPicPr>
        <p:blipFill>
          <a:blip r:embed="rId3"/>
          <a:srcRect l="16341" t="7433" r="21297" b="0"/>
          <a:stretch/>
        </p:blipFill>
        <p:spPr>
          <a:xfrm>
            <a:off x="717480" y="3695760"/>
            <a:ext cx="2852640" cy="3174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20120822H1wind50.gif"/>
          <p:cNvPicPr/>
          <p:nvPr/>
        </p:nvPicPr>
        <p:blipFill>
          <a:blip r:embed="rId4"/>
          <a:srcRect l="15269" t="7528" r="20145" b="0"/>
          <a:stretch/>
        </p:blipFill>
        <p:spPr>
          <a:xfrm>
            <a:off x="685800" y="574560"/>
            <a:ext cx="2933640" cy="314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20120822H1wind50.gif"/>
          <p:cNvPicPr/>
          <p:nvPr/>
        </p:nvPicPr>
        <p:blipFill>
          <a:blip r:embed="rId5"/>
          <a:srcRect l="82378" t="5726" r="7053" b="4712"/>
          <a:stretch/>
        </p:blipFill>
        <p:spPr>
          <a:xfrm>
            <a:off x="7713720" y="344520"/>
            <a:ext cx="515880" cy="32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20120822H1wind50.gif"/>
          <p:cNvPicPr/>
          <p:nvPr/>
        </p:nvPicPr>
        <p:blipFill>
          <a:blip r:embed="rId6"/>
          <a:srcRect l="82378" t="5707" r="7053" b="2066"/>
          <a:stretch/>
        </p:blipFill>
        <p:spPr>
          <a:xfrm>
            <a:off x="7713720" y="3502080"/>
            <a:ext cx="515880" cy="33735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1683720" y="3160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822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564880" y="3160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823H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1656720" y="-57240"/>
            <a:ext cx="579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Operational Doppler/dropsonde compo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rcRect l="15548" t="9586" r="19923" b="2303"/>
          <a:stretch/>
        </p:blipFill>
        <p:spPr>
          <a:xfrm>
            <a:off x="932040" y="3673440"/>
            <a:ext cx="2920680" cy="3222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rcRect l="16916" t="10902" r="21882" b="4632"/>
          <a:stretch/>
        </p:blipFill>
        <p:spPr>
          <a:xfrm>
            <a:off x="993600" y="655560"/>
            <a:ext cx="2770200" cy="3089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rcRect l="18012" t="9445" r="19809" b="3659"/>
          <a:stretch/>
        </p:blipFill>
        <p:spPr>
          <a:xfrm>
            <a:off x="4894200" y="3681360"/>
            <a:ext cx="2814840" cy="3178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4"/>
          <a:srcRect l="17621" t="9707" r="20200" b="3639"/>
          <a:stretch/>
        </p:blipFill>
        <p:spPr>
          <a:xfrm>
            <a:off x="4876920" y="604800"/>
            <a:ext cx="2814480" cy="31701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7"/>
          <p:cNvSpPr/>
          <p:nvPr/>
        </p:nvSpPr>
        <p:spPr>
          <a:xfrm>
            <a:off x="3052080" y="37353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3052080" y="6969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6904800" y="37353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6904800" y="6588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1912320" y="3920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822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5755680" y="3826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823H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2492640" y="-792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treamlines at two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15:36:19Z</dcterms:created>
  <dc:creator>Robert.Rogers</dc:creator>
  <dc:description/>
  <dc:language>en-US</dc:language>
  <cp:lastModifiedBy>Shirley Murillo</cp:lastModifiedBy>
  <dcterms:modified xsi:type="dcterms:W3CDTF">2012-09-05T13:26:18Z</dcterms:modified>
  <cp:revision>21</cp:revision>
  <dc:subject/>
  <dc:title>Slide 1</dc:title>
</cp:coreProperties>
</file>