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4DBF-8A1F-427E-9C5F-6CB119EF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D78-31E3-4014-9126-9434402E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E43-2AF1-45CC-81F8-91B87EB1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17D-A7ED-4423-B360-B88C407B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AF61-F6F0-4BBA-BA36-7FC4182B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4E8-4500-4B4F-BAA8-07499FF5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A8E-42A6-456A-B692-3BDDF1DA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046-3CE0-4BB8-A20C-125A2D37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717-DAF9-4516-9E18-3F6E4B55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B67-87F7-4019-8C2F-DD9ABC90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66C-8FD3-4679-A07F-4D60E174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6F8-B5F1-46CC-8654-C8D17FC9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FBED-0305-4054-AB8A-B6FC6714B50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0EBE-3984-4E17-ADE2-230CB86BAD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Experimental HWRF Genesis Model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Presented by Kevin Ye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3164-3DE2-4AEF-B183-2B0C3F434A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" y="762120"/>
            <a:ext cx="800100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Experimental HWRF Gene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evious HWRF 6h forecast is cycled with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GSI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always on for the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genes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ase (no vortex init., no ocean coupl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perational HWRF physics are replaced by the HFIP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Stream 1.5 physic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except with </a:t>
            </a:r>
            <a:r>
              <a:rPr b="0" lang="en-US" sz="2400" spc="-1" strike="noStrike">
                <a:solidFill>
                  <a:srgbClr val="ff00ff"/>
                </a:solidFill>
                <a:latin typeface="Cambria"/>
              </a:rPr>
              <a:t>2010 SA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for convection, and </a:t>
            </a:r>
            <a:r>
              <a:rPr b="0" lang="en-US" sz="2400" spc="-1" strike="noStrike">
                <a:solidFill>
                  <a:srgbClr val="ff00ff"/>
                </a:solidFill>
                <a:latin typeface="Cambria"/>
              </a:rPr>
              <a:t>no gravity-wave-drag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(bug found by Xuejin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5-day forecast takes ~ 90 min with 145 CPUs on Jet; Real-time runs are expected to start on 8/01 (Thiag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drian (2011) tracks of the HWRF genesis model are compared to those of GFS, GFDL, and HWR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kevin.yeh\My Documents\HWRF\d01basin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A6C6-F5A4-48A4-8C2C-22A0146908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5CAD-3DBF-4815-92DE-DCA61FE4DF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C:\Documents and Settings\kevin.yeh\My Documents\HWRF\hwgn_tracks.gif"/>
          <p:cNvPicPr/>
          <p:nvPr/>
        </p:nvPicPr>
        <p:blipFill>
          <a:blip r:embed="rId1"/>
          <a:stretch/>
        </p:blipFill>
        <p:spPr>
          <a:xfrm>
            <a:off x="914400" y="304920"/>
            <a:ext cx="3657600" cy="322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kevin.yeh\My Documents\HWRF\gfs_tracks.gif"/>
          <p:cNvPicPr/>
          <p:nvPr/>
        </p:nvPicPr>
        <p:blipFill>
          <a:blip r:embed="rId2"/>
          <a:stretch/>
        </p:blipFill>
        <p:spPr>
          <a:xfrm>
            <a:off x="4572000" y="304920"/>
            <a:ext cx="3657600" cy="322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kevin.yeh\My Documents\HWRF\hwrf_tracks.gif"/>
          <p:cNvPicPr/>
          <p:nvPr/>
        </p:nvPicPr>
        <p:blipFill>
          <a:blip r:embed="rId3"/>
          <a:stretch/>
        </p:blipFill>
        <p:spPr>
          <a:xfrm>
            <a:off x="914400" y="3505320"/>
            <a:ext cx="3657600" cy="322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Documents and Settings\kevin.yeh\My Documents\HWRF\gfdl_tracks.gif"/>
          <p:cNvPicPr/>
          <p:nvPr/>
        </p:nvPicPr>
        <p:blipFill>
          <a:blip r:embed="rId4"/>
          <a:stretch/>
        </p:blipFill>
        <p:spPr>
          <a:xfrm>
            <a:off x="4572000" y="3505320"/>
            <a:ext cx="3657600" cy="3227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1676520" y="2819520"/>
            <a:ext cx="2209680" cy="33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WRF Genesis Tr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715000" y="2819520"/>
            <a:ext cx="1447920" cy="33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FS Tr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057400" y="6019920"/>
            <a:ext cx="1447920" cy="33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WRF Tr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715000" y="6019920"/>
            <a:ext cx="1447920" cy="33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FDL Tr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3733920" y="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rian (20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F797-9A06-4CF7-9F5A-A9B3171E0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" y="914400"/>
            <a:ext cx="7924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perational HWRF tracks are largely improved by the genesis model for Adrian (201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xperimental HWRF genesis tracks are comparable to GFS tracks with needs of improvement for early cycle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al-time experiments are expected to start on 8/01 with Diapost graphics to be posted on AOML website &lt;https://storm.aoml.noaa.gov/real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0:13:59Z</dcterms:created>
  <dc:creator>gopal</dc:creator>
  <dc:description/>
  <dc:language>en-US</dc:language>
  <cp:lastModifiedBy>gopal</cp:lastModifiedBy>
  <dcterms:modified xsi:type="dcterms:W3CDTF">2011-07-21T02:00:03Z</dcterms:modified>
  <cp:revision>682</cp:revision>
  <dc:subject/>
  <dc:title>PowerPoint Presentation</dc:title>
</cp:coreProperties>
</file>