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3C0-7D7E-4EF0-B098-EF170A2E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9DA-8A91-4625-B66C-39B1C98D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162-7B5A-41DF-93DC-ADCFED1F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656-A8FF-4E6F-ADFF-84CAE5A9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187-DCC5-4659-A067-3A1AE23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1E6-DDEB-49DC-9E5C-3D2D3AD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BC6-B087-4495-80F5-96B15BC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CD7-DF4C-444D-AF4C-EDB87FE5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690-F555-48DF-AFB6-4DE1303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E5C-1B0B-4B4D-99C0-38CBCDA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AAE-5651-4FDD-90CC-76B17169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4D7-E00F-4839-9173-72C5F30E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436-A6EE-4DC2-9EC9-FFA226D5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rricane Adrian: GFD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initiated b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is Bender,GF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gopal\Desktop\MORRIS\2011060718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gopal\Desktop\MORRIS\2011060800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gopal\Desktop\MORRIS\2011060812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gopal\Desktop\MORRIS\winds.2011060718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gopal\Desktop\MORRIS\winds.2011060718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gopal\Desktop\MORRIS\winds.2011060800.nob.gif"/>
          <p:cNvPicPr/>
          <p:nvPr/>
        </p:nvPicPr>
        <p:blipFill>
          <a:blip r:embed="rId2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gopal\Desktop\MORRIS\winds.2011060812.nob.gif"/>
          <p:cNvPicPr/>
          <p:nvPr/>
        </p:nvPicPr>
        <p:blipFill>
          <a:blip r:embed="rId1"/>
          <a:stretch/>
        </p:blipFill>
        <p:spPr>
          <a:xfrm>
            <a:off x="-190440" y="-252360"/>
            <a:ext cx="9524880" cy="73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ADRIAN.gif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60800_00h.gif"/>
          <p:cNvPicPr/>
          <p:nvPr/>
        </p:nvPicPr>
        <p:blipFill>
          <a:blip r:embed="rId1"/>
          <a:stretch/>
        </p:blipFill>
        <p:spPr>
          <a:xfrm>
            <a:off x="76320" y="2743200"/>
            <a:ext cx="4500360" cy="363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060800_48h.gif"/>
          <p:cNvPicPr/>
          <p:nvPr/>
        </p:nvPicPr>
        <p:blipFill>
          <a:blip r:embed="rId2"/>
          <a:stretch/>
        </p:blipFill>
        <p:spPr>
          <a:xfrm>
            <a:off x="4724280" y="2743200"/>
            <a:ext cx="4419720" cy="3720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28600" y="1143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 0,  no bogus through storm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4648320" y="12193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 48h,  no bogus through storm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1:48:39Z</dcterms:created>
  <dc:creator>gopal</dc:creator>
  <dc:description/>
  <dc:language>en-US</dc:language>
  <cp:lastModifiedBy>administrator</cp:lastModifiedBy>
  <dcterms:modified xsi:type="dcterms:W3CDTF">2011-06-16T15:47:17Z</dcterms:modified>
  <cp:revision>5</cp:revision>
  <dc:subject/>
  <dc:title>Hurricane Adrian: GFDL Model</dc:title>
</cp:coreProperties>
</file>