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86B-6C23-48D8-A3BA-211F1C32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FA5-75AE-4663-9052-2F181A69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716-87F6-45A3-888D-68CDCB6E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B91-F9FE-47BF-9024-4D1B5BAE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F18-BA44-4470-BD7A-757272F0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AEA-649C-4A14-B53F-16EC74C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880-9299-4928-9870-94F65FC9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0AB-3C42-4D32-A1B6-7C530D8B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322-C729-44A1-9EA8-9015F8AF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C51-E12A-4167-A3DE-43F21302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008-9A34-44C2-8089-9CA5DEF0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F49-51A8-4F74-84BD-D6FECF6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8159-7AA8-46D1-B773-1E29A43DA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rricane Adrian 01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WRF No-Init 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Zhan Zhang and Vijay Tallapragada, EM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Sravya\Desktop\work\Adrian\hini.trak.ep012011.2011060718.gif"/>
          <p:cNvPicPr/>
          <p:nvPr/>
        </p:nvPicPr>
        <p:blipFill>
          <a:blip r:embed="rId1"/>
          <a:stretch/>
        </p:blipFill>
        <p:spPr>
          <a:xfrm>
            <a:off x="0" y="0"/>
            <a:ext cx="4572000" cy="353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Sravya\Desktop\work\Adrian\hwrf.trak.ep012011.2011060718.gif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3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Sravya\Desktop\work\Adrian\gfdl.trak.ep012011.2011060718.gif"/>
          <p:cNvPicPr/>
          <p:nvPr/>
        </p:nvPicPr>
        <p:blipFill>
          <a:blip r:embed="rId3"/>
          <a:stretch/>
        </p:blipFill>
        <p:spPr>
          <a:xfrm>
            <a:off x="2286000" y="3505320"/>
            <a:ext cx="465300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914400" y="20520"/>
            <a:ext cx="342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WRF No-Init Track Forecasts Adrian EP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549760" y="0"/>
            <a:ext cx="342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per. HWRF Track Forecasts Adrian EP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276720" y="3505320"/>
            <a:ext cx="342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per. GFDL Track Forecasts Adrian EP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Sravya\Desktop\work\Adrian\hini.int.ep012011.2011060718.gif"/>
          <p:cNvPicPr/>
          <p:nvPr/>
        </p:nvPicPr>
        <p:blipFill>
          <a:blip r:embed="rId1"/>
          <a:srcRect l="10372" t="14907" r="3457" b="10435"/>
          <a:stretch/>
        </p:blipFill>
        <p:spPr>
          <a:xfrm>
            <a:off x="152280" y="457200"/>
            <a:ext cx="43434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Sravya\Desktop\work\Adrian\hwrf.int.ep012011.2011060718.gif"/>
          <p:cNvPicPr/>
          <p:nvPr/>
        </p:nvPicPr>
        <p:blipFill>
          <a:blip r:embed="rId2"/>
          <a:srcRect l="11525" t="14907" r="3457" b="10435"/>
          <a:stretch/>
        </p:blipFill>
        <p:spPr>
          <a:xfrm>
            <a:off x="4572000" y="457200"/>
            <a:ext cx="43434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Sravya\Desktop\work\Adrian\gfdl.int.ep012011.2011060718.gif"/>
          <p:cNvPicPr/>
          <p:nvPr/>
        </p:nvPicPr>
        <p:blipFill>
          <a:blip r:embed="rId3"/>
          <a:srcRect l="11525" t="14907" r="3457" b="10435"/>
          <a:stretch/>
        </p:blipFill>
        <p:spPr>
          <a:xfrm>
            <a:off x="2514600" y="38862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276720" y="3505320"/>
            <a:ext cx="342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per. GFDL Intensity Forecasts Adrian EP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29200" y="0"/>
            <a:ext cx="3657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per. HWRF Intensity Forecasts Adrian EP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33520" y="73080"/>
            <a:ext cx="3657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WRF No-Init Intensity Forecasts Adrian EP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457200" y="4140360"/>
            <a:ext cx="8686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AVERAGE INTENSITY ERRORS (KT) FOR HOMOGENEOUS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00     12     24     36     48     72     96    1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HWRF       1.4   12.9   24.1   29.2   30.8   21.9   22.7     .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HINI      35.4   24.1   28.7   34.5   33.0   13.1   34.0     .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GFDL       7.2   18.2   21.3   25.1   23.0   28.0   27.3     .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#CASES       19     17     15     13     11      7      3      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80880" y="1150920"/>
            <a:ext cx="8382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average track errors (NM) FOR HOMOGENEOUS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00     12     24     36     48     72     96    1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HWRF       6.3   39.9   76.6  117.0  171.5  327.1  530.3     .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HIN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      7.7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29.1   50.1   68.9  102.8  242.2  499.0     .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GFDL       5.2   29.2   57.3   94.4  150.4  334.6  551.3     .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alibri"/>
              </a:rPr>
              <a:t>#CASES      19     17     15     13     11      7      3      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838080" y="3049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NI represents Operational HWRF  w/o initial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Sravya\Desktop\work\Adrian\adrian_asymmetry.gif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Sravya\Desktop\work\Adrian\adrian_sfc.gif"/>
          <p:cNvPicPr/>
          <p:nvPr/>
        </p:nvPicPr>
        <p:blipFill>
          <a:blip r:embed="rId1"/>
          <a:stretch/>
        </p:blipFill>
        <p:spPr>
          <a:xfrm>
            <a:off x="528480" y="0"/>
            <a:ext cx="808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22:10:31Z</dcterms:created>
  <dc:creator>Vijay Tallapragada</dc:creator>
  <dc:description/>
  <dc:language>en-US</dc:language>
  <cp:lastModifiedBy>gopal</cp:lastModifiedBy>
  <dcterms:modified xsi:type="dcterms:W3CDTF">2011-06-16T01:26:36Z</dcterms:modified>
  <cp:revision>5</cp:revision>
  <dc:subject/>
  <dc:title>Hurricane Adrian 01E</dc:title>
</cp:coreProperties>
</file>