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412-0BE5-4A38-BF17-48178A10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169-4C66-4280-AAF2-07EB26A0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1EC6A-70FE-4D5B-BE48-47FD3DA2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830E0-6837-4C20-B130-843C8A0B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7B61B-CC7E-4233-A89A-0C60C029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85C9E-D29C-47EA-942E-8A08405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9C660-A6D8-4296-A119-877528D3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BD558-FC6A-4273-9761-E1607C18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C07FB-9F1B-4A17-99D4-685FFED5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4A2CD-7E27-4C27-A63C-AE6D699C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33A0D-1954-43A4-9F28-274CF9B9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CB061-69F0-4778-B53C-B90A6861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9B7-A51B-4C1E-9743-40C4568A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3A152-5ED9-437D-916D-0758874B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F4A42-FF6E-49C1-865C-9878FFE6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068B2-DF5B-48E5-9203-C68100B3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19177-D26F-482A-BD6B-6D07C3FA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E474A-80DA-406D-85C8-B59B2BA8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D577D-C06A-4F7B-B268-8765975E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7EEA2-EA18-45B1-8D00-6B808903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369F1-7951-4FB9-B900-B4A01DA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B8715-2B47-414A-A8A3-8F3E5A5F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923BD-01D9-4BF7-8D4A-87DF210E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174-7066-43AF-96EC-4A3D3549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8A940-601C-4B6C-B086-04BDD033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77980-AF4B-4087-8148-3800F86A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DC7ED-92FC-4D2E-8E21-613309B0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FD926-69F1-4891-BCB4-B98C641F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70C98-8FB1-4555-A263-5325E055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5E26C-AD3F-47FB-93F9-1C666677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822FB-1150-43E3-8A1A-65DAC253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B0A0E-E49F-4173-9DED-735ACD18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F033F-86A1-470D-84A9-FC8AFFD8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EFB70-96BB-4191-8437-B9CF1C2E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E6D4-5C8A-44AC-9F42-F606746F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54A37-C0B8-4DE2-8190-F45DFED6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3A901-43F1-4B1E-BCB9-CD9DE7EE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6CEA6-A44C-4C3D-8944-FF4582CA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BFDB1-A58E-41DB-AFF5-580231A5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58542-2D4A-490A-AE51-807C1747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9E5CD-1557-4FD4-AF2E-7610347C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92811-9FC8-4658-AA3A-EF1A2BCA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58482-2BE1-4FDD-858E-BEAC7ACC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19774-EAF6-416E-BD8D-F6E36EC6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3153F-2CE4-4ADA-BC64-12668D60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F62C-A507-4DCE-98DC-FD139DA5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688A0-F6F3-470E-8BC2-3D5A2CB0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03379-53B7-498A-B856-2EAC64A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F83C2-8689-4BEF-9734-BCCB9ED1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7F9C0-2F14-4803-8286-3B1ADC58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EEB5A-276F-4EAE-9B11-D4AD7503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BC9A-CE76-4940-A90C-1C9F67BC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6D90-E04B-439A-BE00-A1229DE3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A18C-0476-434C-95DD-313A7633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9ED1-85BD-4F3F-904E-4457E6A4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6D7D-A8C7-4B52-A79B-2F46A483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3D1-1A2C-4B30-B1C0-6729EA50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113C-B349-4A27-A414-EE938154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624E-7218-4810-BE10-09C1090C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42CD-219D-45EA-B625-81963F56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7B73-BC1D-4F9D-B380-4088EF11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2CFC-D9B9-4865-96F4-3A7AE48C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2CAC7-B323-4BFA-B42D-F56663BA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4E08-E69E-4466-BD92-23F56914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C18E5-299F-4637-A78C-1895A276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9828-2068-4F34-A7B0-B97E8F3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FA90-EBEE-482E-A295-9DCB6C80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1FC-CEA8-4DB9-A5AA-70AEF8B7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8D78-6A29-41C2-96CB-EDF9234F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AB73E-2433-4A8E-8E62-101A3AB4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C0FE4-B6DB-4D0A-9AF2-ED81C622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ECFB-7D4D-4425-807D-0CAE81F3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2654-9603-4EDC-93A2-575D4351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A28BD-4A98-4E7B-B3B3-7DF051F8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54E1-81CF-40F0-A6ED-E5576DFC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181C1-BB8D-4060-A851-D204CF60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DB73-4EF9-453F-A737-B4B84121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ECBD-4047-49E1-B92C-4800908E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115-47B5-465E-AE93-633C95B9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2BFCC-25BF-49F5-882B-BA3D066B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BB9E6-CC84-409C-A8F3-8D399349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3FBD7-57E6-4D86-8D96-D0FFC5F9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BA44-B17C-437C-92B4-EE086633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94C2-AFCC-45CB-868C-E6CD6CD9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6599-928B-47D9-BFA8-0421DD6B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E497-6041-47A7-A407-D34E874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DBCBE-09BE-43D2-BDAF-381E59A2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CEEF8-F1FB-447B-9327-0EBBABA7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930E7-BCB8-4517-9D15-E7787AFF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95A-50A9-4145-AFC5-66AA05DF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43D96-B05B-4039-940B-C11C9B79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A1727-FDAE-478D-9354-E1B750CE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C1743-F05A-48EA-9B1B-769E4B2C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46046-2EBF-4C4F-8E59-058EB448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DF32F-B406-4831-953C-C59B0458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35269-5F1E-404B-8A7D-C580784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062BA-A69F-4C62-A4A8-1EEE68B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649EC-BA02-4DF0-B2AC-DB537074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28B2-BC1E-4D3B-ADF1-8F01E07B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A558-2223-4245-B952-43E9AA6B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AB1-0066-4101-887C-F13C0A06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29253-EBBA-4788-8317-323A2890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7F4D0-53BA-43FA-BC84-0CDD45A0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7E876-8BCB-44D1-B9B6-E0900471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7DF0-DE4C-48D6-83B1-A6824335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31FB9-6CD5-465F-B354-07AB5804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8ADD9-5722-4887-86AF-6FF09355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6975E-176A-48AA-B668-9994E6D9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92098-7473-4C04-9216-BCDF1030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2446-8165-4F75-ACC3-0C7C991D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03316-4E28-453E-A4FB-A0BBF5D3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3FD-B47A-4A85-A162-15670732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0C47B-6A62-42DE-904F-774C3779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7714A-EB21-45C6-8C62-4A491373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3611F-3CCE-49DE-A575-523C0D5B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EBC89-7573-4190-ADB8-A8260DD0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E9D1E-2317-4F2F-9412-0C332AC4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50A7A-1852-4599-9442-6E216A97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06AB3-F3E5-4352-A432-AC433883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5159A-C0BE-4AEF-AE00-2EF77204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FEAC7-346C-4544-A51A-F6EED234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2B955-FDCB-45CE-B9F1-1B553738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003-28FE-40B7-9AB7-64A3B6E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A04F-9A91-4594-AF20-5FB21645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C8D22-1D59-468D-B19B-BA39173D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491FB-45FF-4423-A8AF-CCA4922F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3BD98-561E-4FF3-9993-0B3544D6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8FCC4-4B9C-49B3-80F6-3E371D61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8A04C-E774-47A7-95B9-B04F5AEE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D880F-1C48-41D0-BF99-7D6BB4AC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2105B-E3F3-4C09-A971-EE9F1362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44947-D604-4743-A202-6BD6A97D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79078-B2AA-43BD-A996-A68256A0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33A-07AE-4BBF-828C-E92BE2B9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F55A4-042C-42B0-AE25-640F0B24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5EDB7-0DAC-456C-986E-56A8F22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41DF6-9232-4CA9-BAFC-709B9798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CA61A-1E0A-4130-973A-8BA85E59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31121-500F-4A1B-8B3E-6AC82B16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00650-3299-4595-9478-9A676E01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84591-19C9-4FBB-A7AC-676605C5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3499F-A23C-4A44-83FF-F6B89621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FD06D-B70C-485A-AF6E-F22F43E2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3A129-8010-4777-9A27-C76ED850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620C-084E-4365-9BE2-7CA6A8E9A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588A-CB81-414A-BC9A-405E1C08C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D3A5-BF3D-4F9D-8FE1-6A02E88BB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4F7C-177D-4ED3-977A-AE50E56EA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0907-2C50-4A36-AB72-1468E4DB2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CF17-9D45-49B4-8415-33C2224F6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D4EC-ACAA-4E8C-8FE5-9EAB1E813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BE5F-1707-4C73-B569-32B1C799B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13D4-C06A-4B5F-AAA4-B95670ABC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1767-4509-49C4-BCE3-C3403C2D1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A78E-F809-4AA5-AEFA-00ECC596B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FD2F-5690-482C-85F3-9D5223061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469800" y="152280"/>
            <a:ext cx="824544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Black"/>
              </a:rPr>
              <a:t>Megi runs starting at 2010101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d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45-km mesh, without NAV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Blu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45-km mesh, with NAV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Gold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-nest (45/15/5), without NAV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Oliv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15-km mesh, without NAV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Pink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iple-nest (45/15/5), with NAVDAS (Control r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megi"/>
          <p:cNvPicPr/>
          <p:nvPr/>
        </p:nvPicPr>
        <p:blipFill>
          <a:blip r:embed="rId1"/>
          <a:srcRect l="9368" t="40239" r="9751" b="31167"/>
          <a:stretch/>
        </p:blipFill>
        <p:spPr>
          <a:xfrm>
            <a:off x="304920" y="2286000"/>
            <a:ext cx="8542080" cy="39085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648320" y="6324480"/>
            <a:ext cx="4038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Hodur,N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22:26:16Z</dcterms:created>
  <dc:creator>Hodur, Dr. Richard, Contractor, Code 7533</dc:creator>
  <dc:description/>
  <dc:language>en-US</dc:language>
  <cp:lastModifiedBy>gopal</cp:lastModifiedBy>
  <dcterms:modified xsi:type="dcterms:W3CDTF">2011-06-16T02:09:29Z</dcterms:modified>
  <cp:revision>2</cp:revision>
  <dc:subject/>
  <dc:title>PowerPoint Presentation</dc:title>
</cp:coreProperties>
</file>