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877-8334-4BC3-B071-5FB1ECB6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826-D35A-4587-9E23-17B2538C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AA2-E20B-406B-850D-25CB37E0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C09-BC18-4E6B-9CCE-37FE651B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3C1-CB19-47FB-9458-17CB9F1C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F28-543B-4032-B7B2-BC583576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DFD-6F41-49BD-B48C-D9D2E56D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14C-7DE3-4080-9FF7-A02F0AC4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406-7144-4C79-8E7F-B177C7C3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433-3666-45BF-B5D8-D7537DAD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24A-AC78-4244-8F63-B931BF88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795-833D-402A-8D30-6F7D62C3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2B63-3F96-4AAC-BB15-06181EB0D57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1016-2731-42CF-AE7A-E2D32B47D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n Scale Modeling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evin Ye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OML/HRD &amp; C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47F4-20CF-4D35-8D1D-E7B273A642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57200" y="533520"/>
            <a:ext cx="8001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Basin-Scale Modeling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xed basin-scale domain (d01) at 27-km resolu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 with a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fixed inner domain (d02) on Florida at 9-km resolu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vious HWRF 6h forecast for d01 &amp; d02 are both cycled with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GSI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data assimilation always on for th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gene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ase (no vortex initialization, no ocean coupl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5-day genesis forecast takes ~ 2 hr w/ 110 CPUs on J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rl (2010) tracks of the genesis model are compared to (a) operational HWRF that uses GFS analysis env. flows, (b) experimental HWRF that cycles d01 &amp; d02 env. flows, with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 GSI only applied to deep cases, including a moving nest (d02) with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ortex initialization (no ocean coupling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CE97-44CA-4D07-A201-704067773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Documents and Settings\kevin.yeh\My Documents\HWRF\genesis-domain.gif"/>
          <p:cNvPicPr/>
          <p:nvPr/>
        </p:nvPicPr>
        <p:blipFill>
          <a:blip r:embed="rId1"/>
          <a:srcRect l="0" t="16932" r="0" b="12669"/>
          <a:stretch/>
        </p:blipFill>
        <p:spPr>
          <a:xfrm>
            <a:off x="0" y="1014480"/>
            <a:ext cx="9144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CFF6-56AA-4069-A4C8-6BDAF0A72C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C:\Documents and Settings\kevin.yeh\My Documents\HWRF\inner-domain.gif"/>
          <p:cNvPicPr/>
          <p:nvPr/>
        </p:nvPicPr>
        <p:blipFill>
          <a:blip r:embed="rId1"/>
          <a:srcRect l="7499" t="0" r="7499" b="0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124080" y="2133720"/>
            <a:ext cx="320040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419720" y="2209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B FILE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799-79F7-4BA9-9919-73593E3DD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Documents and Settings\kevin.yeh\My Documents\HWRF\operational-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0EE2-3503-426C-9A2D-06B3917BF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C:\Documents and Settings\kevin.yeh\My Documents\HWRF\experimental-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3E17-E48E-4F1E-AFFC-21BEA89DBC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:\Documents and Settings\kevin.yeh\My Documents\HWRF\genesis-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9B2A-A4A1-4662-B1CD-E4C48D8BF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" y="152280"/>
            <a:ext cx="792468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ummary &amp; Nex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WRF track forecast is improved by 30% for 3-day fcst, and 20% for 5-day fcst, based on 33 cases of Earl (20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t up real-time experiments with the genesis model, including retrospective runs from 6/01, 2011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vestigate possibilities to improve the track forecast of Adrian (2011) with the genesis mod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RIB files for the hi-res domain (9-km) will be provided to WFO (MLB) during the 2011 hurricane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apost graphics will be posted at AOML website &lt;https://storm.aoml.noaa.gov/real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Improv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environment flows with data assimilation …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Investigate vortex initialization with active storm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0:13:59Z</dcterms:created>
  <dc:creator>gopal</dc:creator>
  <dc:description/>
  <dc:language>en-US</dc:language>
  <cp:lastModifiedBy>azhang</cp:lastModifiedBy>
  <dcterms:modified xsi:type="dcterms:W3CDTF">2011-06-17T01:21:13Z</dcterms:modified>
  <cp:revision>661</cp:revision>
  <dc:subject/>
  <dc:title>PowerPoint Presentation</dc:title>
</cp:coreProperties>
</file>