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6F8-69D9-4AB9-9B6B-C4FE7A14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78B-D975-4393-949C-1B31A104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5D6-8C60-4346-8315-B4382993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B2F-85F2-40AB-930C-4D09E6E4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F23-44F2-4FCF-B545-48BE2464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97E-BA38-4A69-BAED-7E8A05AA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08B-D34C-4ED5-87F1-7149A141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749-1E73-4229-86F5-EE6F7435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B31-AADC-4829-B331-B6C3C5AB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7DC-2206-428C-B7EB-BC4249A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6B0-C8AF-4ACA-8F64-5A2B2BE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9F1-BB5E-4D16-B09B-9433CE1B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9CEB-183B-437B-94EA-50C491B89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3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TC HWRF work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haowu B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16 201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2 issu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is a problem with the operational co2_trans fi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ults alter the intensity forecast but do not seem to be systemat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decide which way to correct it: new co2_trans file or runtime compu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bably need to run more cases before deci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) Physics interoperability tes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interoperability so that DTC and others (EMC, HRD etc) can test physics for possible operational implem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) Physics interoperability test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liminary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40291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de manag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rge HWRF 2011 operational capability to community re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g fi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ysics interoperability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WRF Code Managemen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 On-going Collaboration between DTC and E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litate transfer of code  between EMC, DTC, HWRF developers and HWRF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the overhead in transferring co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ize human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 integrity of the c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) HWRF Code Managemen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w singl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WR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de repository fo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681120" y="1913040"/>
            <a:ext cx="7929360" cy="148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3657600"/>
            <a:ext cx="8458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ories in the top level of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wr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pository are the same as those in the current EMC HWRF reposi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directories, excep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sorc,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be populated from the current EMC HWRF repository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/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o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de directory contains SVN externals (similar to symbolic links) that point to Community repositories of WPS, WRF, UPP, GSI, hwrf-utilities (contains the vortex initialization), ncep-coupler, pomtc, and gfdl-vortextrack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ly, it contains a /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rectory that contains a script for building and installing all the source code in the structure required by EMC run script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) Merge HWRF 2011 operational capability to community reposi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WRF 2011 operational capability is  being merged into community reposito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-to-end tests have been conducted on Jet and Vapor, with NetCDF and binary I/O, cold start and cycled run, United and East Atlantic basins. Tests result showed identical foreca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 Bug fix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de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AS schem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u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Array variable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out of bound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Code crashed when compiled with PGI compil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Fixed (by Laur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de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AS sche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u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Uninitialized variab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kcnv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Serial and dmpar runs output not bit-by-bit identical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therefore cause WRF reg test to fail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             Fixed (by Shaowu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nary I/O on Linux and Coupler library on Linu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us: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xe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y Ti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      Co2 iss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HWRF GFDL radiation schemes for HWRF( by Lig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2 Issu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needs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mission coeffic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F has namelist option co2tf (=0 read from file co2_trans; =1 compute transmission coefficients at runti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 co2_trans is hardcoded to specific eta levels (file for 42 levels comes with HWR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2 Issu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WRF with co2tf=0 or co2tf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600200"/>
            <a:ext cx="54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ed results to be very similar. But get intensities 10 kt or more different, not syst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 atmosphere temperature is quite di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s eta levels not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Screen shot 2011-06-14 at 10.56.25 AM.png"/>
          <p:cNvPicPr/>
          <p:nvPr/>
        </p:nvPicPr>
        <p:blipFill>
          <a:blip r:embed="rId1"/>
          <a:stretch/>
        </p:blipFill>
        <p:spPr>
          <a:xfrm>
            <a:off x="6080040" y="1417680"/>
            <a:ext cx="2752920" cy="4708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6324480" y="3809880"/>
            <a:ext cx="2465640" cy="88920"/>
          </a:xfrm>
          <a:prstGeom prst="rect">
            <a:avLst/>
          </a:prstGeom>
          <a:solidFill>
            <a:srgbClr val="ffff00">
              <a:alpha val="12000"/>
            </a:srgbClr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2 Issu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1.png"/>
          <p:cNvPicPr/>
          <p:nvPr/>
        </p:nvPicPr>
        <p:blipFill>
          <a:blip r:embed="rId1"/>
          <a:srcRect l="11377" t="11177" r="2736" b="12111"/>
          <a:stretch/>
        </p:blipFill>
        <p:spPr>
          <a:xfrm>
            <a:off x="3657600" y="3278160"/>
            <a:ext cx="5029200" cy="347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2.png"/>
          <p:cNvPicPr/>
          <p:nvPr/>
        </p:nvPicPr>
        <p:blipFill>
          <a:blip r:embed="rId2"/>
          <a:srcRect l="10802" t="13040" r="3598" b="13974"/>
          <a:stretch/>
        </p:blipFill>
        <p:spPr>
          <a:xfrm>
            <a:off x="200160" y="1108080"/>
            <a:ext cx="4371840" cy="2882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5018040" y="1417680"/>
            <a:ext cx="30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HCOM – Community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HCO2 – New CO2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CTF – Runtime compu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" y="426240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rtually no impact on tr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systematic impact on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20:03:55Z</dcterms:created>
  <dc:creator>RAL</dc:creator>
  <dc:description/>
  <dc:language>en-US</dc:language>
  <cp:lastModifiedBy>shaowu.bao</cp:lastModifiedBy>
  <dcterms:modified xsi:type="dcterms:W3CDTF">2011-06-15T23:12:26Z</dcterms:modified>
  <cp:revision>22</cp:revision>
  <dc:subject/>
  <dc:title>DTC HWRF work update</dc:title>
</cp:coreProperties>
</file>