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9E8-5A0E-4543-9DA3-25E3CD95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D74-360A-4647-A23B-CECF0980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8F7-0210-4129-8151-81104862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F5F-D12B-4AE6-8462-E08E3478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094-91F3-4E95-8EF1-0F53D99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FB4-D5C7-4142-8283-674F0FF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C3D-7C13-48EA-B516-4E480246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B69-794B-4E22-A165-FC8C2D52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E28-902E-4545-9C76-B72529A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C61-F416-45F4-B678-821E13E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D66-4C2B-41B5-8D10-50DC6A1E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09F-F07D-473F-82CA-A3B2819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997-C103-4193-96E9-A650BC25AA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37C3-AFAF-4C04-8F7E-5A34B9446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887-3FC0-4DE2-8BF7-F47C859F6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" y="609480"/>
            <a:ext cx="7848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Basin-Scale Modeling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xed basin-scale domain for cycling environment flow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v. flows are cycled for all cases – operational model has cold starts for very weak cases (V10 &lt; 12 m/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GSI is only applied for deep cases according to TC vitals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erational model uses GFS analysis environment flow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7-km resolution in outer domain (d01) – currently with a 9-km moving nest as in the operational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5-day forecast takes ~ 100 min with 120 CPUs on J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2960-2962-4320-BBF9-B202C092C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C:\Documents and Settings\kevin.yeh\My Documents\HWRF-IC\AL-domain.gif"/>
          <p:cNvPicPr/>
          <p:nvPr/>
        </p:nvPicPr>
        <p:blipFill>
          <a:blip r:embed="rId1"/>
          <a:srcRect l="0" t="11112" r="0" b="13334"/>
          <a:stretch/>
        </p:blipFill>
        <p:spPr>
          <a:xfrm>
            <a:off x="0" y="7621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99B-C64C-4207-B7A1-D4F84F1BA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C:\Documents and Settings\kevin.yeh\My Documents\HWRF-IC\old-v10.gif"/>
          <p:cNvPicPr/>
          <p:nvPr/>
        </p:nvPicPr>
        <p:blipFill>
          <a:blip r:embed="rId1"/>
          <a:stretch/>
        </p:blipFill>
        <p:spPr>
          <a:xfrm>
            <a:off x="914400" y="152280"/>
            <a:ext cx="6858000" cy="325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kevin.yeh\My Documents\HWRF-IC\new-v10.gif"/>
          <p:cNvPicPr/>
          <p:nvPr/>
        </p:nvPicPr>
        <p:blipFill>
          <a:blip r:embed="rId2"/>
          <a:stretch/>
        </p:blipFill>
        <p:spPr>
          <a:xfrm>
            <a:off x="914400" y="3429000"/>
            <a:ext cx="6858000" cy="325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kevin.yeh\My Documents\HWRF-IC\v10-color.gif"/>
          <p:cNvPicPr/>
          <p:nvPr/>
        </p:nvPicPr>
        <p:blipFill>
          <a:blip r:embed="rId3"/>
          <a:stretch/>
        </p:blipFill>
        <p:spPr>
          <a:xfrm>
            <a:off x="7848720" y="533520"/>
            <a:ext cx="30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AFE-4C3C-4C45-A9C4-EFE59A605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Documents and Settings\kevin.yeh\My Documents\HWRF-IC\cycled-gh.gif"/>
          <p:cNvPicPr/>
          <p:nvPr/>
        </p:nvPicPr>
        <p:blipFill>
          <a:blip r:embed="rId1"/>
          <a:stretch/>
        </p:blipFill>
        <p:spPr>
          <a:xfrm>
            <a:off x="914400" y="152280"/>
            <a:ext cx="6858000" cy="325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kevin.yeh\My Documents\HWRF-IC\analysis-gh.gif"/>
          <p:cNvPicPr/>
          <p:nvPr/>
        </p:nvPicPr>
        <p:blipFill>
          <a:blip r:embed="rId2"/>
          <a:stretch/>
        </p:blipFill>
        <p:spPr>
          <a:xfrm>
            <a:off x="914400" y="3429000"/>
            <a:ext cx="6858000" cy="325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kevin.yeh\My Documents\HWRF-IC\gh-color.gif"/>
          <p:cNvPicPr/>
          <p:nvPr/>
        </p:nvPicPr>
        <p:blipFill>
          <a:blip r:embed="rId3"/>
          <a:stretch/>
        </p:blipFill>
        <p:spPr>
          <a:xfrm>
            <a:off x="7848720" y="533520"/>
            <a:ext cx="276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6B45-5333-443E-B418-DC761D17E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Documents and Settings\kevin.yeh\My Documents\HWRF-IC\cycled-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4250-7E61-4BB1-87A7-992973427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kevin.yeh\My Documents\HWRF-IC\analysis-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FAF-9C08-4457-8BE1-91982C399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609480"/>
            <a:ext cx="77724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Next Step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st environment-flow cycling with GSI always 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mplement basin-scale genesis model configuration at 27-km resolution with a 9-km static nest over Flor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IB files for both domains will be provided to WFO during the 2011 hurricane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mprov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environment flows with data assimila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0:13:59Z</dcterms:created>
  <dc:creator>gopal</dc:creator>
  <dc:description/>
  <dc:language>en-US</dc:language>
  <cp:lastModifiedBy>yeh</cp:lastModifiedBy>
  <dcterms:modified xsi:type="dcterms:W3CDTF">2011-05-19T02:41:45Z</dcterms:modified>
  <cp:revision>637</cp:revision>
  <dc:subject/>
  <dc:title>PowerPoint Presentation</dc:title>
</cp:coreProperties>
</file>