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15D-892E-462A-BA87-C711322E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6FA-35C3-43D5-B5E0-D04033A1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BC28-8D53-43AB-A720-639ACD07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D52A-1317-4223-886D-52896DD4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4E26-342D-4C38-873F-7EC2E175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11C2-8607-45BA-93D0-65A53863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856-D5CA-4E8F-819E-307B804C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0AB9-735B-426F-A21D-135C46B9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799-0D5E-4416-9E19-9439FFF3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CA7-62A9-460D-B941-7618827F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BCA8-2B60-4FC1-9FFA-CE2ADDF0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3F23-99F8-46AC-B8B6-EC7D0A2B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B7AC-E688-4E87-AF1A-0C35123FB859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F3D4-CD83-4975-B00C-F2C63624FD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2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7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FS Tropical Cyclone Composit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1C93-506C-4BC5-AE72-FA14B6131C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350532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llace Hogsett &amp; John Cangialos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H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6019920" y="1500120"/>
            <a:ext cx="28191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</a:rPr>
              <a:t>What does genesis look like in the GFS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he NHC Hurricane Specialists have some pre-established configurations to view model fields for genesi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.g., in NMAP they typically view: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850-hPa wind barb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850-hPa vorticity (shaded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SL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n oft-discussed topic is whether a particular forecast feature is a TC.  Does it show genesis? Or not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533520" y="1522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Forecast Problem: Genesis, or not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4641-66AD-4C1C-AA68-2C335F0A5CF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7" name="Group 11"/>
          <p:cNvGrpSpPr/>
          <p:nvPr/>
        </p:nvGrpSpPr>
        <p:grpSpPr>
          <a:xfrm>
            <a:off x="533520" y="1219320"/>
            <a:ext cx="5257800" cy="5172120"/>
            <a:chOff x="533520" y="1219320"/>
            <a:chExt cx="5257800" cy="5172120"/>
          </a:xfrm>
        </p:grpSpPr>
        <p:pic>
          <p:nvPicPr>
            <p:cNvPr id="48" name="Picture 8" descr=""/>
            <p:cNvPicPr/>
            <p:nvPr/>
          </p:nvPicPr>
          <p:blipFill>
            <a:blip r:embed="rId1"/>
            <a:srcRect l="8510" t="11272" r="28812" b="0"/>
            <a:stretch/>
          </p:blipFill>
          <p:spPr>
            <a:xfrm>
              <a:off x="533520" y="1219320"/>
              <a:ext cx="5257800" cy="5172120"/>
            </a:xfrm>
            <a:prstGeom prst="rect">
              <a:avLst/>
            </a:prstGeom>
            <a:ln w="25560">
              <a:solidFill>
                <a:srgbClr val="ffffff"/>
              </a:solidFill>
              <a:miter/>
            </a:ln>
          </p:spPr>
        </p:pic>
        <p:sp>
          <p:nvSpPr>
            <p:cNvPr id="49" name="TextBox 5"/>
            <p:cNvSpPr/>
            <p:nvPr/>
          </p:nvSpPr>
          <p:spPr>
            <a:xfrm>
              <a:off x="1583280" y="434196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Genesis?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cxnSp>
          <p:nvCxnSpPr>
            <p:cNvPr id="50" name="Straight Arrow Connector 2"/>
            <p:cNvCxnSpPr/>
            <p:nvPr/>
          </p:nvCxnSpPr>
          <p:spPr>
            <a:xfrm flipV="1">
              <a:off x="2895480" y="2588760"/>
              <a:ext cx="533880" cy="19152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51" name="Straight Arrow Connector 12"/>
            <p:cNvCxnSpPr/>
            <p:nvPr/>
          </p:nvCxnSpPr>
          <p:spPr>
            <a:xfrm flipH="1" flipV="1">
              <a:off x="1294920" y="2971080"/>
              <a:ext cx="1372320" cy="15325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arrow" w="med"/>
            </a:ln>
          </p:spPr>
        </p:cxnSp>
      </p:grpSp>
      <p:sp>
        <p:nvSpPr>
          <p:cNvPr id="52" name="TextBox 18"/>
          <p:cNvSpPr/>
          <p:nvPr/>
        </p:nvSpPr>
        <p:spPr>
          <a:xfrm>
            <a:off x="457200" y="6391440"/>
            <a:ext cx="554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72-h GFS forecast of 850mb vorticity (shaded), winds, and MSL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4"/>
          <p:cNvSpPr/>
          <p:nvPr/>
        </p:nvSpPr>
        <p:spPr>
          <a:xfrm>
            <a:off x="5416560" y="1271520"/>
            <a:ext cx="30481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. Select all cases from 2008/09/10  when NHC Best Track identifies the formation of a tropical depression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. Gather all operational GFS analyses (1° x 1° grids) for all selected cases.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 Pull 16° x 16° GFS fields, centered on the Best Track storm location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4. Calculate desired fields (just vorticity for now)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. Calculate mean of all cases; 94 for 2008/09/1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33520" y="1522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omposite Methodolog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F4C5-66EF-4E7A-B124-3077F36062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96840" y="1219320"/>
            <a:ext cx="1427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Input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: Individual GFS analyses at TD stag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7" name="Group 2"/>
          <p:cNvGrpSpPr/>
          <p:nvPr/>
        </p:nvGrpSpPr>
        <p:grpSpPr>
          <a:xfrm>
            <a:off x="2349360" y="1219320"/>
            <a:ext cx="2146320" cy="2147760"/>
            <a:chOff x="2349360" y="1219320"/>
            <a:chExt cx="2146320" cy="2147760"/>
          </a:xfrm>
        </p:grpSpPr>
        <p:grpSp>
          <p:nvGrpSpPr>
            <p:cNvPr id="58" name="Group 1"/>
            <p:cNvGrpSpPr/>
            <p:nvPr/>
          </p:nvGrpSpPr>
          <p:grpSpPr>
            <a:xfrm>
              <a:off x="2349360" y="1219320"/>
              <a:ext cx="1918080" cy="1951200"/>
              <a:chOff x="2349360" y="1219320"/>
              <a:chExt cx="1918080" cy="1951200"/>
            </a:xfrm>
          </p:grpSpPr>
          <p:pic>
            <p:nvPicPr>
              <p:cNvPr id="59" name="Picture 2" descr="C:\Users\wallace.a.hogsett\Desktop\composites\gen_composite_slp.gif"/>
              <p:cNvPicPr/>
              <p:nvPr/>
            </p:nvPicPr>
            <p:blipFill>
              <a:blip r:embed="rId1"/>
              <a:stretch/>
            </p:blipFill>
            <p:spPr>
              <a:xfrm>
                <a:off x="2349360" y="1219320"/>
                <a:ext cx="1003680" cy="1036800"/>
              </a:xfrm>
              <a:prstGeom prst="rect">
                <a:avLst/>
              </a:prstGeom>
              <a:ln w="25560">
                <a:solidFill>
                  <a:srgbClr val="ffffff"/>
                </a:solidFill>
                <a:miter/>
              </a:ln>
            </p:spPr>
          </p:pic>
          <p:pic>
            <p:nvPicPr>
              <p:cNvPr id="60" name="Picture 2" descr="C:\Users\wallace.a.hogsett\Desktop\composites\gen_composite_slp.gif"/>
              <p:cNvPicPr/>
              <p:nvPr/>
            </p:nvPicPr>
            <p:blipFill>
              <a:blip r:embed="rId2"/>
              <a:stretch/>
            </p:blipFill>
            <p:spPr>
              <a:xfrm>
                <a:off x="2501640" y="1371600"/>
                <a:ext cx="1003680" cy="1036800"/>
              </a:xfrm>
              <a:prstGeom prst="rect">
                <a:avLst/>
              </a:prstGeom>
              <a:ln w="25560">
                <a:solidFill>
                  <a:srgbClr val="ffffff"/>
                </a:solidFill>
                <a:miter/>
              </a:ln>
            </p:spPr>
          </p:pic>
          <p:pic>
            <p:nvPicPr>
              <p:cNvPr id="61" name="Picture 2" descr="C:\Users\wallace.a.hogsett\Desktop\composites\gen_composite_slp.gif"/>
              <p:cNvPicPr/>
              <p:nvPr/>
            </p:nvPicPr>
            <p:blipFill>
              <a:blip r:embed="rId3"/>
              <a:stretch/>
            </p:blipFill>
            <p:spPr>
              <a:xfrm>
                <a:off x="2653920" y="1523880"/>
                <a:ext cx="1003680" cy="1036800"/>
              </a:xfrm>
              <a:prstGeom prst="rect">
                <a:avLst/>
              </a:prstGeom>
              <a:ln w="25560">
                <a:solidFill>
                  <a:srgbClr val="ffffff"/>
                </a:solidFill>
                <a:miter/>
              </a:ln>
            </p:spPr>
          </p:pic>
          <p:pic>
            <p:nvPicPr>
              <p:cNvPr id="62" name="Picture 2" descr="C:\Users\wallace.a.hogsett\Desktop\composites\gen_composite_slp.gif"/>
              <p:cNvPicPr/>
              <p:nvPr/>
            </p:nvPicPr>
            <p:blipFill>
              <a:blip r:embed="rId4"/>
              <a:stretch/>
            </p:blipFill>
            <p:spPr>
              <a:xfrm>
                <a:off x="2806560" y="1676520"/>
                <a:ext cx="1003680" cy="1036800"/>
              </a:xfrm>
              <a:prstGeom prst="rect">
                <a:avLst/>
              </a:prstGeom>
              <a:ln w="25560">
                <a:solidFill>
                  <a:srgbClr val="ffffff"/>
                </a:solidFill>
                <a:miter/>
              </a:ln>
            </p:spPr>
          </p:pic>
          <p:pic>
            <p:nvPicPr>
              <p:cNvPr id="63" name="Picture 2" descr="C:\Users\wallace.a.hogsett\Desktop\composites\gen_composite_slp.gif"/>
              <p:cNvPicPr/>
              <p:nvPr/>
            </p:nvPicPr>
            <p:blipFill>
              <a:blip r:embed="rId5"/>
              <a:stretch/>
            </p:blipFill>
            <p:spPr>
              <a:xfrm>
                <a:off x="2958840" y="1828800"/>
                <a:ext cx="1003680" cy="1036800"/>
              </a:xfrm>
              <a:prstGeom prst="rect">
                <a:avLst/>
              </a:prstGeom>
              <a:ln w="25560">
                <a:solidFill>
                  <a:srgbClr val="ffffff"/>
                </a:solidFill>
                <a:miter/>
              </a:ln>
            </p:spPr>
          </p:pic>
          <p:pic>
            <p:nvPicPr>
              <p:cNvPr id="64" name="Picture 2" descr="C:\Users\wallace.a.hogsett\Desktop\composites\gen_composite_slp.gif"/>
              <p:cNvPicPr/>
              <p:nvPr/>
            </p:nvPicPr>
            <p:blipFill>
              <a:blip r:embed="rId6"/>
              <a:stretch/>
            </p:blipFill>
            <p:spPr>
              <a:xfrm>
                <a:off x="3111120" y="1981080"/>
                <a:ext cx="1003680" cy="1036800"/>
              </a:xfrm>
              <a:prstGeom prst="rect">
                <a:avLst/>
              </a:prstGeom>
              <a:ln w="25560">
                <a:solidFill>
                  <a:srgbClr val="ffffff"/>
                </a:solidFill>
                <a:miter/>
              </a:ln>
            </p:spPr>
          </p:pic>
          <p:pic>
            <p:nvPicPr>
              <p:cNvPr id="65" name="Picture 2" descr="C:\Users\wallace.a.hogsett\Desktop\composites\gen_composite_slp.gif"/>
              <p:cNvPicPr/>
              <p:nvPr/>
            </p:nvPicPr>
            <p:blipFill>
              <a:blip r:embed="rId7"/>
              <a:stretch/>
            </p:blipFill>
            <p:spPr>
              <a:xfrm>
                <a:off x="3263760" y="2133720"/>
                <a:ext cx="1003680" cy="1036800"/>
              </a:xfrm>
              <a:prstGeom prst="rect">
                <a:avLst/>
              </a:prstGeom>
              <a:ln w="25560">
                <a:solidFill>
                  <a:srgbClr val="ffffff"/>
                </a:solidFill>
                <a:miter/>
              </a:ln>
            </p:spPr>
          </p:pic>
        </p:grpSp>
        <p:pic>
          <p:nvPicPr>
            <p:cNvPr id="66" name="Picture 8" descr=""/>
            <p:cNvPicPr/>
            <p:nvPr/>
          </p:nvPicPr>
          <p:blipFill>
            <a:blip r:embed="rId8"/>
            <a:srcRect l="32422" t="16766" r="45905" b="51873"/>
            <a:stretch/>
          </p:blipFill>
          <p:spPr>
            <a:xfrm>
              <a:off x="3465000" y="2330280"/>
              <a:ext cx="1030680" cy="1036800"/>
            </a:xfrm>
            <a:prstGeom prst="rect">
              <a:avLst/>
            </a:prstGeom>
            <a:ln w="25560">
              <a:solidFill>
                <a:srgbClr val="ffffff"/>
              </a:solidFill>
              <a:miter/>
            </a:ln>
          </p:spPr>
        </p:pic>
      </p:grpSp>
      <p:cxnSp>
        <p:nvCxnSpPr>
          <p:cNvPr id="67" name="Straight Arrow Connector 16"/>
          <p:cNvCxnSpPr/>
          <p:nvPr/>
        </p:nvCxnSpPr>
        <p:spPr>
          <a:xfrm>
            <a:off x="837720" y="2347560"/>
            <a:ext cx="1080" cy="207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68" name="Picture 2" descr="C:\Users\wallace.a.hogsett\Desktop\composites\gen_composite_slp.gif"/>
          <p:cNvPicPr/>
          <p:nvPr/>
        </p:nvPicPr>
        <p:blipFill>
          <a:blip r:embed="rId9"/>
          <a:stretch/>
        </p:blipFill>
        <p:spPr>
          <a:xfrm>
            <a:off x="2394000" y="4114800"/>
            <a:ext cx="1992240" cy="20574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cxnSp>
        <p:nvCxnSpPr>
          <p:cNvPr id="69" name="Straight Arrow Connector 20"/>
          <p:cNvCxnSpPr/>
          <p:nvPr/>
        </p:nvCxnSpPr>
        <p:spPr>
          <a:xfrm>
            <a:off x="2349000" y="2261880"/>
            <a:ext cx="807480" cy="18169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0" name="Straight Arrow Connector 23"/>
          <p:cNvCxnSpPr/>
          <p:nvPr/>
        </p:nvCxnSpPr>
        <p:spPr>
          <a:xfrm flipH="1">
            <a:off x="3504960" y="3360600"/>
            <a:ext cx="451440" cy="7185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1" name="TextBox 4"/>
          <p:cNvSpPr/>
          <p:nvPr/>
        </p:nvSpPr>
        <p:spPr>
          <a:xfrm>
            <a:off x="152280" y="4495680"/>
            <a:ext cx="142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Output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omposite depiction of GFS genesi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Box 25"/>
          <p:cNvSpPr/>
          <p:nvPr/>
        </p:nvSpPr>
        <p:spPr>
          <a:xfrm rot="19092000">
            <a:off x="2513160" y="49402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posite genes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4"/>
          <p:cNvSpPr/>
          <p:nvPr/>
        </p:nvSpPr>
        <p:spPr>
          <a:xfrm>
            <a:off x="5943600" y="1325520"/>
            <a:ext cx="3052800" cy="35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Genesis Composite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~ 25kt 850 wind spe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~ 2 closed sfc isoba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~ 8 x 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alibri"/>
              </a:rPr>
              <a:t>-5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s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alibri"/>
              </a:rPr>
              <a:t>-1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850 vorticity max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~ P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Calibri"/>
              </a:rPr>
              <a:t>min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= 1009 hP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Note that the 850mb circulation is not extremely well-organized, e.g., winds on the southwest side are only 5 kts, suggesting surface winds in the model may not be well-organized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533520" y="1522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Results: Genesis Composi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DA60-C7E6-4EB3-9581-73E533DB63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C:\Users\wallace.a.hogsett\Desktop\composites\gen_composite_slp.gif"/>
          <p:cNvPicPr/>
          <p:nvPr/>
        </p:nvPicPr>
        <p:blipFill>
          <a:blip r:embed="rId1"/>
          <a:stretch/>
        </p:blipFill>
        <p:spPr>
          <a:xfrm>
            <a:off x="289080" y="914400"/>
            <a:ext cx="5553000" cy="57355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77" name="Picture 2" descr="C:\Users\wallace.a.hogsett\Desktop\composites\gen_composite_slp_zoom.gif"/>
          <p:cNvPicPr/>
          <p:nvPr/>
        </p:nvPicPr>
        <p:blipFill>
          <a:blip r:embed="rId2"/>
          <a:stretch/>
        </p:blipFill>
        <p:spPr>
          <a:xfrm>
            <a:off x="289080" y="914400"/>
            <a:ext cx="5553000" cy="57355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4"/>
          <p:cNvSpPr/>
          <p:nvPr/>
        </p:nvSpPr>
        <p:spPr>
          <a:xfrm>
            <a:off x="5867280" y="1325520"/>
            <a:ext cx="3052800" cy="35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Hurricane Composite (xx cases)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~ 40 kt 850hPa wind max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~ 6 closed sfc isoba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~ 22 x 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alibri"/>
              </a:rPr>
              <a:t>-5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s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alibri"/>
              </a:rPr>
              <a:t>-1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850hPa vorticity max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~ P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Calibri"/>
              </a:rPr>
              <a:t>min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= 1005 hP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- This could serve as qualitative intensity “guidance,” which the global models do not provide at present.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- Potential exists to compare this structure with that in mesoscale models, such as HWRF-x.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533520" y="1522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Results: Hurricane Composi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21A2-084B-4193-BF07-1166DB12EA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2" descr="C:\Users\wallace.a.hogsett\Desktop\composites\hurr_composite_slp.gif"/>
          <p:cNvPicPr/>
          <p:nvPr/>
        </p:nvPicPr>
        <p:blipFill>
          <a:blip r:embed="rId1"/>
          <a:stretch/>
        </p:blipFill>
        <p:spPr>
          <a:xfrm>
            <a:off x="304920" y="914400"/>
            <a:ext cx="5472000" cy="56530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82" name="Picture 3" descr="C:\Users\wallace.a.hogsett\Desktop\composites\hurr_composite_slp_zoom.gif"/>
          <p:cNvPicPr/>
          <p:nvPr/>
        </p:nvPicPr>
        <p:blipFill>
          <a:blip r:embed="rId2"/>
          <a:stretch/>
        </p:blipFill>
        <p:spPr>
          <a:xfrm>
            <a:off x="304920" y="914400"/>
            <a:ext cx="5495760" cy="56786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4"/>
          <p:cNvSpPr/>
          <p:nvPr/>
        </p:nvSpPr>
        <p:spPr>
          <a:xfrm>
            <a:off x="5842080" y="1324080"/>
            <a:ext cx="305280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Major Hurricane Composite (xx cases)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~ 55 kt 850hPa wind max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~ 14 closed sfc isoba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~ 42 x 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alibri"/>
              </a:rPr>
              <a:t>-5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s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alibri"/>
              </a:rPr>
              <a:t>-1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850hPa vorticity max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~ P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Calibri"/>
              </a:rPr>
              <a:t>min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= 997 hP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- Created only when hurricanes first reach 100 kt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533520" y="1522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Results: Major Hurricane Composi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D5B9-3C36-4E4C-BA20-7C25CDFE56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2" descr="C:\Users\wallace.a.hogsett\Desktop\composites\maj_composite_slp.gif"/>
          <p:cNvPicPr/>
          <p:nvPr/>
        </p:nvPicPr>
        <p:blipFill>
          <a:blip r:embed="rId1"/>
          <a:stretch/>
        </p:blipFill>
        <p:spPr>
          <a:xfrm>
            <a:off x="351000" y="914400"/>
            <a:ext cx="5440320" cy="56196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87" name="Picture 3" descr="C:\Users\wallace.a.hogsett\Desktop\composites\maj_composite_slp_zoom.gif"/>
          <p:cNvPicPr/>
          <p:nvPr/>
        </p:nvPicPr>
        <p:blipFill>
          <a:blip r:embed="rId2"/>
          <a:stretch/>
        </p:blipFill>
        <p:spPr>
          <a:xfrm>
            <a:off x="351000" y="914400"/>
            <a:ext cx="5440320" cy="56196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uture Dire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vide composite storms to specialists for some rough guidance on how GFS represents different portions of TC life cyc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ticularly genesis guid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composite from other operational models…  possibly mesoscale model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b-divide the composites into bas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vestigate more quantities (e.g., shear) to better understand the genesis problem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C9A2-3140-4389-9BE2-CA015B119F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2" descr="C:\Users\wallace.a.hogsett\Desktop\composites\gen_composite_slp_zoom.gif"/>
          <p:cNvPicPr/>
          <p:nvPr/>
        </p:nvPicPr>
        <p:blipFill>
          <a:blip r:embed="rId1"/>
          <a:stretch/>
        </p:blipFill>
        <p:spPr>
          <a:xfrm>
            <a:off x="6729480" y="457200"/>
            <a:ext cx="1709640" cy="1766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92" name="Picture 3" descr="C:\Users\wallace.a.hogsett\Desktop\composites\hurr_composite_slp_zoom.gif"/>
          <p:cNvPicPr/>
          <p:nvPr/>
        </p:nvPicPr>
        <p:blipFill>
          <a:blip r:embed="rId2"/>
          <a:stretch/>
        </p:blipFill>
        <p:spPr>
          <a:xfrm>
            <a:off x="6730920" y="2590920"/>
            <a:ext cx="1727280" cy="17841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93" name="Picture 3" descr="C:\Users\wallace.a.hogsett\Desktop\composites\maj_composite_slp_zoom.gif"/>
          <p:cNvPicPr/>
          <p:nvPr/>
        </p:nvPicPr>
        <p:blipFill>
          <a:blip r:embed="rId3"/>
          <a:stretch/>
        </p:blipFill>
        <p:spPr>
          <a:xfrm>
            <a:off x="6732720" y="4770360"/>
            <a:ext cx="1725480" cy="1782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21:58:32Z</dcterms:created>
  <dc:creator>csisko</dc:creator>
  <dc:description/>
  <dc:language>en-US</dc:language>
  <cp:lastModifiedBy>Wallace Hogsett</cp:lastModifiedBy>
  <dcterms:modified xsi:type="dcterms:W3CDTF">2011-05-18T21:28:46Z</dcterms:modified>
  <cp:revision>85</cp:revision>
  <dc:subject/>
  <dc:title>PowerPoint Presentation</dc:title>
</cp:coreProperties>
</file>