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7BF-E4C1-4EAA-86EC-ECA98ACE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546-6F2A-4F1A-92E1-64801BD4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7A0-2B53-4B94-A9C9-DC1CA508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55F-EC5D-4F68-A0A0-5F9C58DD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169-C9EB-46A5-98DF-960D32D2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111-25A7-4DF1-B93E-C42F68DA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829-ACFE-4136-85AB-8BC62D4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FC5-1EFB-45F5-8F26-3F5E79C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200-4CA8-495F-BE24-92A8D0C8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237-85C1-40A7-B756-C5F4597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9B4-DB10-4C20-A5CE-4B0FBDF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032-F5E1-4043-BBCE-B9C92AE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3F79-E078-47DA-B9B3-5651EF8C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MPS-TC Idealized TC tests (6-km 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765680" y="685800"/>
          <a:ext cx="4351320" cy="240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5680" y="685800"/>
                    <a:ext cx="43513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765680" y="3733920"/>
          <a:ext cx="4378320" cy="240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5680" y="3733920"/>
                    <a:ext cx="437832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0" y="914400"/>
            <a:ext cx="451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 boundary structure (&lt; 3 km) Comparisons between PBL2 and P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L2: 1.5-order turb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scheme (Mellor and Yamada 19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L3: Similar to PBL2, except using different mixing length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L, in collaboration with HRD, evaluating PBL parameterizations on TC intensity and structur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site data from the dropsonde observations provided by Jun Zhang at 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471720" y="63244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Jin, NRL Monte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utang3km_pbl3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330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utang3km_pbl2"/>
          <p:cNvPicPr/>
          <p:nvPr/>
        </p:nvPicPr>
        <p:blipFill>
          <a:blip r:embed="rId2"/>
          <a:stretch/>
        </p:blipFill>
        <p:spPr>
          <a:xfrm>
            <a:off x="4343400" y="6094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gential Winds (norma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3"/>
          <p:cNvSpPr/>
          <p:nvPr/>
        </p:nvSpPr>
        <p:spPr>
          <a:xfrm>
            <a:off x="1476360" y="4711680"/>
            <a:ext cx="130320" cy="1333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135880" y="42670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3"/>
          <p:cNvSpPr/>
          <p:nvPr/>
        </p:nvSpPr>
        <p:spPr>
          <a:xfrm>
            <a:off x="1285920" y="4454640"/>
            <a:ext cx="103320" cy="982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362320" y="914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x 69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248520" y="914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x 70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vt_dropsond"/>
          <p:cNvPicPr/>
          <p:nvPr/>
        </p:nvPicPr>
        <p:blipFill>
          <a:blip r:embed="rId3"/>
          <a:stretch/>
        </p:blipFill>
        <p:spPr>
          <a:xfrm>
            <a:off x="0" y="35542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973240" y="3886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vr_dropsond"/>
          <p:cNvPicPr/>
          <p:nvPr/>
        </p:nvPicPr>
        <p:blipFill>
          <a:blip r:embed="rId1"/>
          <a:stretch/>
        </p:blipFill>
        <p:spPr>
          <a:xfrm>
            <a:off x="457200" y="3747960"/>
            <a:ext cx="3657600" cy="311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urad3km_pbl3"/>
          <p:cNvPicPr/>
          <p:nvPr/>
        </p:nvPicPr>
        <p:blipFill>
          <a:blip r:embed="rId2"/>
          <a:stretch/>
        </p:blipFill>
        <p:spPr>
          <a:xfrm>
            <a:off x="533520" y="609480"/>
            <a:ext cx="3657600" cy="311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urad3km_pbl2"/>
          <p:cNvPicPr/>
          <p:nvPr/>
        </p:nvPicPr>
        <p:blipFill>
          <a:blip r:embed="rId3"/>
          <a:stretch/>
        </p:blipFill>
        <p:spPr>
          <a:xfrm>
            <a:off x="5181480" y="609480"/>
            <a:ext cx="3657600" cy="3110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al Winds (normaliz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982520" y="403848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 -19.2 m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133720" y="1219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-26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7467480" y="1143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-3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262320" y="392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3" descr="t3km_pbl3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33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t3km_pbl2"/>
          <p:cNvPicPr/>
          <p:nvPr/>
        </p:nvPicPr>
        <p:blipFill>
          <a:blip r:embed="rId2"/>
          <a:stretch/>
        </p:blipFill>
        <p:spPr>
          <a:xfrm>
            <a:off x="4876920" y="3808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1476360" y="4711680"/>
            <a:ext cx="130320" cy="1333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135880" y="42670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285920" y="4454640"/>
            <a:ext cx="103320" cy="982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124080" y="5335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543800" y="609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temp_dropsond"/>
          <p:cNvPicPr/>
          <p:nvPr/>
        </p:nvPicPr>
        <p:blipFill>
          <a:blip r:embed="rId3"/>
          <a:stretch/>
        </p:blipFill>
        <p:spPr>
          <a:xfrm>
            <a:off x="380880" y="35542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3354120" y="3809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5" descr="q3km_pbl3"/>
          <p:cNvPicPr/>
          <p:nvPr/>
        </p:nvPicPr>
        <p:blipFill>
          <a:blip r:embed="rId1"/>
          <a:stretch/>
        </p:blipFill>
        <p:spPr>
          <a:xfrm>
            <a:off x="457200" y="447840"/>
            <a:ext cx="3774960" cy="32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q3km_pbl2"/>
          <p:cNvPicPr/>
          <p:nvPr/>
        </p:nvPicPr>
        <p:blipFill>
          <a:blip r:embed="rId2"/>
          <a:stretch/>
        </p:blipFill>
        <p:spPr>
          <a:xfrm>
            <a:off x="4876920" y="501480"/>
            <a:ext cx="3773520" cy="321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1476360" y="4711680"/>
            <a:ext cx="130320" cy="1333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35880" y="42670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3"/>
          <p:cNvSpPr/>
          <p:nvPr/>
        </p:nvSpPr>
        <p:spPr>
          <a:xfrm>
            <a:off x="1285920" y="4454640"/>
            <a:ext cx="103320" cy="982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95480" y="83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162920" y="8380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q_dropsond"/>
          <p:cNvPicPr/>
          <p:nvPr/>
        </p:nvPicPr>
        <p:blipFill>
          <a:blip r:embed="rId3"/>
          <a:stretch/>
        </p:blipFill>
        <p:spPr>
          <a:xfrm>
            <a:off x="304920" y="3648240"/>
            <a:ext cx="3773520" cy="3209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3125520" y="3962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91440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ith BL analysis in relation to TC intensity and structure changes from using different BL sche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real TC cases from COAMPS forec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TC inner core structure from COAMPS-TC and compare them with the radar composite by Rogers (H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50:17Z</dcterms:created>
  <dc:creator>Dr. Yi Jin</dc:creator>
  <dc:description/>
  <dc:language>en-US</dc:language>
  <cp:lastModifiedBy>Frank Marks</cp:lastModifiedBy>
  <dcterms:modified xsi:type="dcterms:W3CDTF">2011-03-17T21:36:18Z</dcterms:modified>
  <cp:revision>35</cp:revision>
  <dc:subject/>
  <dc:title>Idealized TC tests</dc:title>
</cp:coreProperties>
</file>