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D8A5-C452-4088-B398-51D506BD1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C599-531C-44D9-9009-EFE4060E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3495-807F-46D9-A662-7549A064D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3DF1-39FB-40E7-B75A-53DCAD3BA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B3D3-895D-43AB-AC46-6DA29628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0E73-5D6C-4BF1-8927-C2B47B4B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3032-FBA5-4117-8785-8330EB62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421D-DFF0-46E7-8323-4C990F08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1FDF-D75D-4A7F-98D7-45AA450B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2140-7330-456E-A26B-F43CF269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BDB3-5151-4A90-963F-FB11B40C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2589-9FAF-42F1-BC15-85E6C729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F0D0-B827-416F-B2B2-0F43A2C8D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06800" y="2567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3361" t="3354" r="3361" b="14092"/>
          <a:stretch/>
        </p:blipFill>
        <p:spPr>
          <a:xfrm>
            <a:off x="0" y="0"/>
            <a:ext cx="914400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ffects of Lateral Diffusion &amp; Physics: Int. Skill (Stratified: H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20912" r="0" b="19094"/>
          <a:stretch/>
        </p:blipFill>
        <p:spPr>
          <a:xfrm>
            <a:off x="685800" y="503280"/>
            <a:ext cx="777240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ffects of Lateral Diffusion &amp; Physics: Int. Skill (Stratified: &lt;H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20912" r="0" b="19094"/>
          <a:stretch/>
        </p:blipFill>
        <p:spPr>
          <a:xfrm>
            <a:off x="685800" y="503280"/>
            <a:ext cx="777240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ffects of Lateral Diffusion &amp; Physics: Int. Bias (Stratified: &lt;H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0" t="11820" r="0" b="25458"/>
          <a:stretch/>
        </p:blipFill>
        <p:spPr>
          <a:xfrm>
            <a:off x="685800" y="473040"/>
            <a:ext cx="77724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ffects of Lateral Diffusion &amp; Physics: Int.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0" t="20912" r="0" b="19094"/>
          <a:stretch/>
        </p:blipFill>
        <p:spPr>
          <a:xfrm>
            <a:off x="685800" y="503280"/>
            <a:ext cx="777240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ffects of Lateral Diffusion &amp; Physics: Int. Skill (Stratified: H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0" t="20912" r="0" b="19094"/>
          <a:stretch/>
        </p:blipFill>
        <p:spPr>
          <a:xfrm>
            <a:off x="685800" y="503280"/>
            <a:ext cx="777240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ffects of Lateral Diffusion &amp; Physics: Int. Skill (Stratified: &lt;H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0" t="20912" r="0" b="19094"/>
          <a:stretch/>
        </p:blipFill>
        <p:spPr>
          <a:xfrm>
            <a:off x="685800" y="503280"/>
            <a:ext cx="777240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odel Spin-Up Problems (1 hr - 0 hr Maxw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0" t="22731" r="0" b="22731"/>
          <a:stretch/>
        </p:blipFill>
        <p:spPr>
          <a:xfrm>
            <a:off x="685800" y="68580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odel Spin-Up Problems (1 hr - 0 hr Maxw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0" t="22731" r="0" b="22731"/>
          <a:stretch/>
        </p:blipFill>
        <p:spPr>
          <a:xfrm>
            <a:off x="685800" y="68580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rcRect l="0" t="22731" r="0" b="22731"/>
          <a:stretch/>
        </p:blipFill>
        <p:spPr>
          <a:xfrm>
            <a:off x="685800" y="68580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ffects of Resolution &amp; Initialization: Track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0" t="20912" r="0" b="19094"/>
          <a:stretch/>
        </p:blipFill>
        <p:spPr>
          <a:xfrm>
            <a:off x="685800" y="503280"/>
            <a:ext cx="777240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ffects of Resolution &amp; Initialization: Int.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20912" r="0" b="19094"/>
          <a:stretch/>
        </p:blipFill>
        <p:spPr>
          <a:xfrm>
            <a:off x="685800" y="503280"/>
            <a:ext cx="777240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ffects of Resolution &amp; Initialization: Int. Skill (Stratified: H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0" t="20912" r="0" b="19094"/>
          <a:stretch/>
        </p:blipFill>
        <p:spPr>
          <a:xfrm>
            <a:off x="685800" y="503280"/>
            <a:ext cx="777240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ffects of Resolution &amp; Initialization: Int. Skill (Stratified: &lt;H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20912" r="0" b="19094"/>
          <a:stretch/>
        </p:blipFill>
        <p:spPr>
          <a:xfrm>
            <a:off x="685800" y="503280"/>
            <a:ext cx="777240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ffects of Resolution &amp; Initialization: Int. Bias (Stratified: &lt;H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11820" r="0" b="25458"/>
          <a:stretch/>
        </p:blipFill>
        <p:spPr>
          <a:xfrm>
            <a:off x="685800" y="471600"/>
            <a:ext cx="7772400" cy="63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006800" y="2567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3361" t="3354" r="3361" b="14092"/>
          <a:stretch/>
        </p:blipFill>
        <p:spPr>
          <a:xfrm>
            <a:off x="0" y="0"/>
            <a:ext cx="914400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ffects of Lateral Diffusion &amp; Physics: Track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20912" r="0" b="19094"/>
          <a:stretch/>
        </p:blipFill>
        <p:spPr>
          <a:xfrm>
            <a:off x="685800" y="503280"/>
            <a:ext cx="777240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ffects of Lateral Diffusion &amp; Physics: : Int.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0" t="20912" r="0" b="19094"/>
          <a:stretch/>
        </p:blipFill>
        <p:spPr>
          <a:xfrm>
            <a:off x="685800" y="503280"/>
            <a:ext cx="777240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4:27:13Z</dcterms:created>
  <dc:creator>Stanley Goldenberg</dc:creator>
  <dc:description/>
  <dc:language>en-US</dc:language>
  <cp:lastModifiedBy>Stanley Goldenberg</cp:lastModifiedBy>
  <dcterms:modified xsi:type="dcterms:W3CDTF">2011-02-17T15:55:00Z</dcterms:modified>
  <cp:revision>17</cp:revision>
  <dc:subject/>
  <dc:title>PowerPoint Presentation</dc:title>
</cp:coreProperties>
</file>