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5.wmf" ContentType="image/x-wmf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7CE-3B53-4CA0-874B-56791A24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FA5-0613-4DDA-A134-090BACF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C46-384C-463B-AB5E-1BAC6097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BC4-42F9-496E-8C5C-4A498EF3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0A2-9D00-40A7-ABA3-FB2AECC9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E92-4C05-442B-BBD1-A7CC1BFE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3B4-CB1C-416A-AF81-6C1EA2B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7DE-85F7-4AC6-B777-AC8BF5C2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449-C7BC-48FE-94A8-75C47C03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BC0-6888-40DF-9BB7-D6F4E2C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EA5-94FB-42F0-9FD8-A806E0F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0AE-00B3-4422-B4CF-EF5558A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A9E-147D-4DA0-BD52-05089454FA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ner-core diagnostics of HWRF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bert Rog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(with many others, e.g., John Gamache, Gopal, Sylvie Lorsolo, Frank Marks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ave Nolan, Paul Reasor, Jun Zhang, Xuejin Zhang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*thanks to Thiago Quirino and Kevin Yeh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/>
          <p:cNvSpPr/>
          <p:nvPr/>
        </p:nvSpPr>
        <p:spPr>
          <a:xfrm>
            <a:off x="3087720" y="5446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rticity (% of maxim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32"/>
          <p:cNvGrpSpPr/>
          <p:nvPr/>
        </p:nvGrpSpPr>
        <p:grpSpPr>
          <a:xfrm>
            <a:off x="1246320" y="1201680"/>
            <a:ext cx="2957400" cy="2303640"/>
            <a:chOff x="1246320" y="1201680"/>
            <a:chExt cx="2957400" cy="2303640"/>
          </a:xfrm>
        </p:grpSpPr>
        <p:pic>
          <p:nvPicPr>
            <p:cNvPr id="159" name="Picture 3" descr="vor_obs_norm.tif"/>
            <p:cNvPicPr/>
            <p:nvPr/>
          </p:nvPicPr>
          <p:blipFill>
            <a:blip r:embed="rId1"/>
            <a:stretch/>
          </p:blipFill>
          <p:spPr>
            <a:xfrm>
              <a:off x="1246320" y="1218960"/>
              <a:ext cx="29574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"/>
            <p:cNvSpPr/>
            <p:nvPr/>
          </p:nvSpPr>
          <p:spPr>
            <a:xfrm>
              <a:off x="2336400" y="1201680"/>
              <a:ext cx="65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ppl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18"/>
            <p:cNvSpPr/>
            <p:nvPr/>
          </p:nvSpPr>
          <p:spPr>
            <a:xfrm>
              <a:off x="2748600" y="1476360"/>
              <a:ext cx="100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5.1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TextBox 13"/>
          <p:cNvSpPr/>
          <p:nvPr/>
        </p:nvSpPr>
        <p:spPr>
          <a:xfrm>
            <a:off x="2976480" y="76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3"/>
          <p:cNvGrpSpPr/>
          <p:nvPr/>
        </p:nvGrpSpPr>
        <p:grpSpPr>
          <a:xfrm>
            <a:off x="47520" y="3726000"/>
            <a:ext cx="9023400" cy="2301840"/>
            <a:chOff x="47520" y="3726000"/>
            <a:chExt cx="9023400" cy="2301840"/>
          </a:xfrm>
        </p:grpSpPr>
        <p:grpSp>
          <p:nvGrpSpPr>
            <p:cNvPr id="164" name="Group 30"/>
            <p:cNvGrpSpPr/>
            <p:nvPr/>
          </p:nvGrpSpPr>
          <p:grpSpPr>
            <a:xfrm>
              <a:off x="47520" y="3726000"/>
              <a:ext cx="2959200" cy="2286000"/>
              <a:chOff x="47520" y="3726000"/>
              <a:chExt cx="2959200" cy="2286000"/>
            </a:xfrm>
          </p:grpSpPr>
          <p:pic>
            <p:nvPicPr>
              <p:cNvPr id="165" name="Picture 10" descr="vor_mod_norm_27-9-3_coac5.tif"/>
              <p:cNvPicPr/>
              <p:nvPr/>
            </p:nvPicPr>
            <p:blipFill>
              <a:blip r:embed="rId2"/>
              <a:stretch/>
            </p:blipFill>
            <p:spPr>
              <a:xfrm>
                <a:off x="47520" y="372600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TextBox 17"/>
              <p:cNvSpPr/>
              <p:nvPr/>
            </p:nvSpPr>
            <p:spPr>
              <a:xfrm>
                <a:off x="1582200" y="3978360"/>
                <a:ext cx="1000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4.1 x 10</a:t>
                </a:r>
                <a:r>
                  <a:rPr b="1" lang="en-US" sz="800" spc="-1" strike="noStrike" baseline="30000">
                    <a:solidFill>
                      <a:srgbClr val="ffffff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Box 4"/>
              <p:cNvSpPr/>
              <p:nvPr/>
            </p:nvSpPr>
            <p:spPr>
              <a:xfrm>
                <a:off x="792000" y="3726000"/>
                <a:ext cx="14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1"/>
            <p:cNvGrpSpPr/>
            <p:nvPr/>
          </p:nvGrpSpPr>
          <p:grpSpPr>
            <a:xfrm>
              <a:off x="6111720" y="3741840"/>
              <a:ext cx="2959200" cy="2286000"/>
              <a:chOff x="6111720" y="3741840"/>
              <a:chExt cx="2959200" cy="2286000"/>
            </a:xfrm>
          </p:grpSpPr>
          <p:pic>
            <p:nvPicPr>
              <p:cNvPr id="169" name="Picture 14" descr="vorcylav_n_MYJ-27-09-03km.tif"/>
              <p:cNvPicPr/>
              <p:nvPr/>
            </p:nvPicPr>
            <p:blipFill>
              <a:blip r:embed="rId3"/>
              <a:stretch/>
            </p:blipFill>
            <p:spPr>
              <a:xfrm>
                <a:off x="6111720" y="374184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Box 15"/>
              <p:cNvSpPr/>
              <p:nvPr/>
            </p:nvSpPr>
            <p:spPr>
              <a:xfrm>
                <a:off x="7625880" y="3986280"/>
                <a:ext cx="1000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6.4 x 10</a:t>
                </a:r>
                <a:r>
                  <a:rPr b="1" lang="en-US" sz="800" spc="-1" strike="noStrike" baseline="30000">
                    <a:solidFill>
                      <a:srgbClr val="ffffff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Box 4"/>
              <p:cNvSpPr/>
              <p:nvPr/>
            </p:nvSpPr>
            <p:spPr>
              <a:xfrm>
                <a:off x="6956640" y="374796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9"/>
            <p:cNvGrpSpPr/>
            <p:nvPr/>
          </p:nvGrpSpPr>
          <p:grpSpPr>
            <a:xfrm>
              <a:off x="3079440" y="3733920"/>
              <a:ext cx="2959200" cy="2286000"/>
              <a:chOff x="3079440" y="3733920"/>
              <a:chExt cx="2959200" cy="2286000"/>
            </a:xfrm>
          </p:grpSpPr>
          <p:pic>
            <p:nvPicPr>
              <p:cNvPr id="173" name="Picture 21" descr="vorcylav_n_YOUNG-27-09-03km.tif"/>
              <p:cNvPicPr/>
              <p:nvPr/>
            </p:nvPicPr>
            <p:blipFill>
              <a:blip r:embed="rId4"/>
              <a:stretch/>
            </p:blipFill>
            <p:spPr>
              <a:xfrm>
                <a:off x="307944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Box 16"/>
              <p:cNvSpPr/>
              <p:nvPr/>
            </p:nvSpPr>
            <p:spPr>
              <a:xfrm>
                <a:off x="4581000" y="3978360"/>
                <a:ext cx="1000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3.7 x 10</a:t>
                </a:r>
                <a:r>
                  <a:rPr b="1" lang="en-US" sz="800" spc="-1" strike="noStrike" baseline="30000">
                    <a:solidFill>
                      <a:srgbClr val="ffffff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Box 4"/>
              <p:cNvSpPr/>
              <p:nvPr/>
            </p:nvSpPr>
            <p:spPr>
              <a:xfrm>
                <a:off x="384372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1"/>
          <p:cNvGrpSpPr/>
          <p:nvPr/>
        </p:nvGrpSpPr>
        <p:grpSpPr>
          <a:xfrm>
            <a:off x="4954680" y="1219320"/>
            <a:ext cx="2958840" cy="2286000"/>
            <a:chOff x="4954680" y="1219320"/>
            <a:chExt cx="2958840" cy="2286000"/>
          </a:xfrm>
        </p:grpSpPr>
        <p:pic>
          <p:nvPicPr>
            <p:cNvPr id="177" name="Picture 20" descr="vorcylav_n_Real_data.tif"/>
            <p:cNvPicPr/>
            <p:nvPr/>
          </p:nvPicPr>
          <p:blipFill>
            <a:blip r:embed="rId5"/>
            <a:stretch/>
          </p:blipFill>
          <p:spPr>
            <a:xfrm>
              <a:off x="4954680" y="1219320"/>
              <a:ext cx="2958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14"/>
            <p:cNvSpPr/>
            <p:nvPr/>
          </p:nvSpPr>
          <p:spPr>
            <a:xfrm>
              <a:off x="6469560" y="1476360"/>
              <a:ext cx="100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ax 2.4 x 10</a:t>
              </a:r>
              <a:r>
                <a:rPr b="1" lang="en-US" sz="800" spc="-1" strike="noStrike" baseline="30000">
                  <a:solidFill>
                    <a:srgbClr val="ffffff"/>
                  </a:solidFill>
                  <a:latin typeface="Arial"/>
                </a:rPr>
                <a:t>-3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 1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Box 4"/>
            <p:cNvSpPr/>
            <p:nvPr/>
          </p:nvSpPr>
          <p:spPr>
            <a:xfrm>
              <a:off x="5946480" y="123516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6"/>
          <p:cNvSpPr/>
          <p:nvPr/>
        </p:nvSpPr>
        <p:spPr>
          <a:xfrm>
            <a:off x="1636920" y="60948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vergence (% of minimum, i.e., peak converg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976480" y="76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37"/>
          <p:cNvGrpSpPr/>
          <p:nvPr/>
        </p:nvGrpSpPr>
        <p:grpSpPr>
          <a:xfrm>
            <a:off x="49320" y="3733920"/>
            <a:ext cx="9018360" cy="2288880"/>
            <a:chOff x="49320" y="3733920"/>
            <a:chExt cx="9018360" cy="2288880"/>
          </a:xfrm>
        </p:grpSpPr>
        <p:grpSp>
          <p:nvGrpSpPr>
            <p:cNvPr id="183" name="Group 25"/>
            <p:cNvGrpSpPr/>
            <p:nvPr/>
          </p:nvGrpSpPr>
          <p:grpSpPr>
            <a:xfrm>
              <a:off x="49320" y="3737160"/>
              <a:ext cx="2958840" cy="2285640"/>
              <a:chOff x="49320" y="3737160"/>
              <a:chExt cx="2958840" cy="2285640"/>
            </a:xfrm>
          </p:grpSpPr>
          <p:pic>
            <p:nvPicPr>
              <p:cNvPr id="184" name="Picture 27" descr="divcylav_n_27-9-3_coac5.0.tif"/>
              <p:cNvPicPr/>
              <p:nvPr/>
            </p:nvPicPr>
            <p:blipFill>
              <a:blip r:embed="rId1"/>
              <a:stretch/>
            </p:blipFill>
            <p:spPr>
              <a:xfrm>
                <a:off x="49320" y="3737160"/>
                <a:ext cx="29588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Box 17"/>
              <p:cNvSpPr/>
              <p:nvPr/>
            </p:nvSpPr>
            <p:spPr>
              <a:xfrm>
                <a:off x="1530720" y="3984480"/>
                <a:ext cx="101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1.1 x 10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TextBox 4"/>
              <p:cNvSpPr/>
              <p:nvPr/>
            </p:nvSpPr>
            <p:spPr>
              <a:xfrm>
                <a:off x="793440" y="3745080"/>
                <a:ext cx="14382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7"/>
            <p:cNvGrpSpPr/>
            <p:nvPr/>
          </p:nvGrpSpPr>
          <p:grpSpPr>
            <a:xfrm>
              <a:off x="6108840" y="3733920"/>
              <a:ext cx="2958840" cy="2285640"/>
              <a:chOff x="6108840" y="3733920"/>
              <a:chExt cx="2958840" cy="2285640"/>
            </a:xfrm>
          </p:grpSpPr>
          <p:pic>
            <p:nvPicPr>
              <p:cNvPr id="188" name="Picture 28" descr="divcylav_n_MYJ-27-9-3.tif"/>
              <p:cNvPicPr/>
              <p:nvPr/>
            </p:nvPicPr>
            <p:blipFill>
              <a:blip r:embed="rId2"/>
              <a:stretch/>
            </p:blipFill>
            <p:spPr>
              <a:xfrm>
                <a:off x="6108840" y="3733920"/>
                <a:ext cx="29588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Box 15"/>
              <p:cNvSpPr/>
              <p:nvPr/>
            </p:nvSpPr>
            <p:spPr>
              <a:xfrm>
                <a:off x="7609320" y="3978360"/>
                <a:ext cx="101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2.4 x 10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6949080" y="374796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5"/>
            <p:cNvGrpSpPr/>
            <p:nvPr/>
          </p:nvGrpSpPr>
          <p:grpSpPr>
            <a:xfrm>
              <a:off x="3071880" y="3733920"/>
              <a:ext cx="2958840" cy="2285640"/>
              <a:chOff x="3071880" y="3733920"/>
              <a:chExt cx="2958840" cy="2285640"/>
            </a:xfrm>
          </p:grpSpPr>
          <p:pic>
            <p:nvPicPr>
              <p:cNvPr id="192" name="Picture 29" descr="divcylav_n_Young-27-9-3.tif"/>
              <p:cNvPicPr/>
              <p:nvPr/>
            </p:nvPicPr>
            <p:blipFill>
              <a:blip r:embed="rId3"/>
              <a:stretch/>
            </p:blipFill>
            <p:spPr>
              <a:xfrm>
                <a:off x="3071880" y="3733920"/>
                <a:ext cx="2958840" cy="22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Box 16"/>
              <p:cNvSpPr/>
              <p:nvPr/>
            </p:nvSpPr>
            <p:spPr>
              <a:xfrm>
                <a:off x="4569480" y="3983040"/>
                <a:ext cx="1012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0.8 x 10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-3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1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Box 4"/>
              <p:cNvSpPr/>
              <p:nvPr/>
            </p:nvSpPr>
            <p:spPr>
              <a:xfrm>
                <a:off x="384084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24"/>
          <p:cNvGrpSpPr/>
          <p:nvPr/>
        </p:nvGrpSpPr>
        <p:grpSpPr>
          <a:xfrm>
            <a:off x="4943520" y="1219320"/>
            <a:ext cx="2959200" cy="2286000"/>
            <a:chOff x="4943520" y="1219320"/>
            <a:chExt cx="2959200" cy="2286000"/>
          </a:xfrm>
        </p:grpSpPr>
        <p:pic>
          <p:nvPicPr>
            <p:cNvPr id="196" name="Picture 26" descr="divcylav_n_Real_data.tif"/>
            <p:cNvPicPr/>
            <p:nvPr/>
          </p:nvPicPr>
          <p:blipFill>
            <a:blip r:embed="rId4"/>
            <a:stretch/>
          </p:blipFill>
          <p:spPr>
            <a:xfrm>
              <a:off x="4943520" y="1219320"/>
              <a:ext cx="2959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14"/>
            <p:cNvSpPr/>
            <p:nvPr/>
          </p:nvSpPr>
          <p:spPr>
            <a:xfrm>
              <a:off x="6374160" y="1476360"/>
              <a:ext cx="1069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0.56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Box 4"/>
            <p:cNvSpPr/>
            <p:nvPr/>
          </p:nvSpPr>
          <p:spPr>
            <a:xfrm>
              <a:off x="5935320" y="124308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36"/>
          <p:cNvGrpSpPr/>
          <p:nvPr/>
        </p:nvGrpSpPr>
        <p:grpSpPr>
          <a:xfrm>
            <a:off x="1239840" y="1201680"/>
            <a:ext cx="2959200" cy="2303640"/>
            <a:chOff x="1239840" y="1201680"/>
            <a:chExt cx="2959200" cy="2303640"/>
          </a:xfrm>
        </p:grpSpPr>
        <p:grpSp>
          <p:nvGrpSpPr>
            <p:cNvPr id="200" name="Group 22"/>
            <p:cNvGrpSpPr/>
            <p:nvPr/>
          </p:nvGrpSpPr>
          <p:grpSpPr>
            <a:xfrm>
              <a:off x="1239840" y="1211040"/>
              <a:ext cx="2959200" cy="2294280"/>
              <a:chOff x="1239840" y="1211040"/>
              <a:chExt cx="2959200" cy="2294280"/>
            </a:xfrm>
          </p:grpSpPr>
          <p:pic>
            <p:nvPicPr>
              <p:cNvPr id="201" name="Picture 20" descr="divcylav_n_Doppler.tif"/>
              <p:cNvPicPr/>
              <p:nvPr/>
            </p:nvPicPr>
            <p:blipFill>
              <a:blip r:embed="rId5"/>
              <a:stretch/>
            </p:blipFill>
            <p:spPr>
              <a:xfrm>
                <a:off x="1239840" y="1211040"/>
                <a:ext cx="29581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2" descr="div_obs_norm.tif"/>
              <p:cNvPicPr/>
              <p:nvPr/>
            </p:nvPicPr>
            <p:blipFill>
              <a:blip r:embed="rId6"/>
              <a:srcRect l="0" t="88045" r="0" b="0"/>
              <a:stretch/>
            </p:blipFill>
            <p:spPr>
              <a:xfrm>
                <a:off x="1241640" y="3231720"/>
                <a:ext cx="2957400" cy="27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2" descr="div_obs_norm.tif"/>
              <p:cNvPicPr/>
              <p:nvPr/>
            </p:nvPicPr>
            <p:blipFill>
              <a:blip r:embed="rId7"/>
              <a:srcRect l="0" t="0" r="89341" b="0"/>
              <a:stretch/>
            </p:blipFill>
            <p:spPr>
              <a:xfrm>
                <a:off x="1241640" y="1211040"/>
                <a:ext cx="315360" cy="228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TextBox 4"/>
            <p:cNvSpPr/>
            <p:nvPr/>
          </p:nvSpPr>
          <p:spPr>
            <a:xfrm>
              <a:off x="2329920" y="1201680"/>
              <a:ext cx="65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ppl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Box 19"/>
            <p:cNvSpPr/>
            <p:nvPr/>
          </p:nvSpPr>
          <p:spPr>
            <a:xfrm>
              <a:off x="2709360" y="1476360"/>
              <a:ext cx="101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0.6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1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2"/>
          <p:cNvGrpSpPr/>
          <p:nvPr/>
        </p:nvGrpSpPr>
        <p:grpSpPr>
          <a:xfrm>
            <a:off x="1251000" y="1201680"/>
            <a:ext cx="2959200" cy="2303640"/>
            <a:chOff x="1251000" y="1201680"/>
            <a:chExt cx="2959200" cy="2303640"/>
          </a:xfrm>
        </p:grpSpPr>
        <p:pic>
          <p:nvPicPr>
            <p:cNvPr id="207" name="Picture 3" descr="angmomcylav_n_dopp_norm.tif"/>
            <p:cNvPicPr/>
            <p:nvPr/>
          </p:nvPicPr>
          <p:blipFill>
            <a:blip r:embed="rId1"/>
            <a:stretch/>
          </p:blipFill>
          <p:spPr>
            <a:xfrm>
              <a:off x="1251000" y="1218960"/>
              <a:ext cx="29592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18"/>
            <p:cNvSpPr/>
            <p:nvPr/>
          </p:nvSpPr>
          <p:spPr>
            <a:xfrm>
              <a:off x="2698560" y="1460160"/>
              <a:ext cx="1049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2.6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m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Box 4"/>
            <p:cNvSpPr/>
            <p:nvPr/>
          </p:nvSpPr>
          <p:spPr>
            <a:xfrm>
              <a:off x="2439720" y="1201680"/>
              <a:ext cx="65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ppl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TextBox 3"/>
          <p:cNvSpPr/>
          <p:nvPr/>
        </p:nvSpPr>
        <p:spPr>
          <a:xfrm>
            <a:off x="2457360" y="468360"/>
            <a:ext cx="41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gular momentum (% of maxim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3478680" y="838080"/>
            <a:ext cx="20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Note smaller radial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2976480" y="76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6"/>
          <p:cNvGrpSpPr/>
          <p:nvPr/>
        </p:nvGrpSpPr>
        <p:grpSpPr>
          <a:xfrm>
            <a:off x="44280" y="3733920"/>
            <a:ext cx="9018720" cy="2292120"/>
            <a:chOff x="44280" y="3733920"/>
            <a:chExt cx="9018720" cy="2292120"/>
          </a:xfrm>
        </p:grpSpPr>
        <p:grpSp>
          <p:nvGrpSpPr>
            <p:cNvPr id="214" name="Group 24"/>
            <p:cNvGrpSpPr/>
            <p:nvPr/>
          </p:nvGrpSpPr>
          <p:grpSpPr>
            <a:xfrm>
              <a:off x="44280" y="3733920"/>
              <a:ext cx="2958480" cy="2286000"/>
              <a:chOff x="44280" y="3733920"/>
              <a:chExt cx="2958480" cy="2286000"/>
            </a:xfrm>
          </p:grpSpPr>
          <p:pic>
            <p:nvPicPr>
              <p:cNvPr id="215" name="Picture 1" descr="angmomcylav_n_27-9-3_coac5.0.tif"/>
              <p:cNvPicPr/>
              <p:nvPr/>
            </p:nvPicPr>
            <p:blipFill>
              <a:blip r:embed="rId2"/>
              <a:stretch/>
            </p:blipFill>
            <p:spPr>
              <a:xfrm>
                <a:off x="44280" y="3733920"/>
                <a:ext cx="2958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TextBox 18"/>
              <p:cNvSpPr/>
              <p:nvPr/>
            </p:nvSpPr>
            <p:spPr>
              <a:xfrm>
                <a:off x="1491840" y="3970440"/>
                <a:ext cx="1049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x 5.1 x 10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m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Box 4"/>
              <p:cNvSpPr/>
              <p:nvPr/>
            </p:nvSpPr>
            <p:spPr>
              <a:xfrm>
                <a:off x="791280" y="3733920"/>
                <a:ext cx="14382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8" name="Picture 9" descr="angmomcylav_n_MYJ-27-9-3.tif"/>
            <p:cNvPicPr/>
            <p:nvPr/>
          </p:nvPicPr>
          <p:blipFill>
            <a:blip r:embed="rId3"/>
            <a:stretch/>
          </p:blipFill>
          <p:spPr>
            <a:xfrm>
              <a:off x="6104520" y="3740040"/>
              <a:ext cx="29584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18"/>
            <p:cNvSpPr/>
            <p:nvPr/>
          </p:nvSpPr>
          <p:spPr>
            <a:xfrm>
              <a:off x="7564320" y="3992400"/>
              <a:ext cx="1049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2.8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m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Box 4"/>
            <p:cNvSpPr/>
            <p:nvPr/>
          </p:nvSpPr>
          <p:spPr>
            <a:xfrm>
              <a:off x="6949440" y="3746520"/>
              <a:ext cx="120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al_MYJ-27-9-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35"/>
            <p:cNvGrpSpPr/>
            <p:nvPr/>
          </p:nvGrpSpPr>
          <p:grpSpPr>
            <a:xfrm>
              <a:off x="3079800" y="3733920"/>
              <a:ext cx="2958480" cy="2286000"/>
              <a:chOff x="3079800" y="3733920"/>
              <a:chExt cx="2958480" cy="2286000"/>
            </a:xfrm>
          </p:grpSpPr>
          <p:grpSp>
            <p:nvGrpSpPr>
              <p:cNvPr id="222" name="Group 34"/>
              <p:cNvGrpSpPr/>
              <p:nvPr/>
            </p:nvGrpSpPr>
            <p:grpSpPr>
              <a:xfrm>
                <a:off x="3079800" y="3733920"/>
                <a:ext cx="2958480" cy="2286000"/>
                <a:chOff x="3079800" y="3733920"/>
                <a:chExt cx="2958480" cy="2286000"/>
              </a:xfrm>
            </p:grpSpPr>
            <p:pic>
              <p:nvPicPr>
                <p:cNvPr id="223" name="Picture 11" descr="angmomcylav_n_Young-27-9-3.tif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79800" y="3733920"/>
                  <a:ext cx="295848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TextBox 18"/>
                <p:cNvSpPr/>
                <p:nvPr/>
              </p:nvSpPr>
              <p:spPr>
                <a:xfrm>
                  <a:off x="4533480" y="3983040"/>
                  <a:ext cx="1049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ax 4.3 x 10</a:t>
                  </a: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m</a:t>
                  </a:r>
                  <a:r>
                    <a:rPr b="1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/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TextBox 4"/>
              <p:cNvSpPr/>
              <p:nvPr/>
            </p:nvSpPr>
            <p:spPr>
              <a:xfrm>
                <a:off x="3825000" y="374184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22"/>
          <p:cNvGrpSpPr/>
          <p:nvPr/>
        </p:nvGrpSpPr>
        <p:grpSpPr>
          <a:xfrm>
            <a:off x="4950000" y="1214280"/>
            <a:ext cx="2958840" cy="2286000"/>
            <a:chOff x="4950000" y="1214280"/>
            <a:chExt cx="2958840" cy="2286000"/>
          </a:xfrm>
        </p:grpSpPr>
        <p:pic>
          <p:nvPicPr>
            <p:cNvPr id="227" name="Picture 23" descr="angmomcylav_n_Real_data.tif"/>
            <p:cNvPicPr/>
            <p:nvPr/>
          </p:nvPicPr>
          <p:blipFill>
            <a:blip r:embed="rId5"/>
            <a:stretch/>
          </p:blipFill>
          <p:spPr>
            <a:xfrm>
              <a:off x="4950000" y="1214280"/>
              <a:ext cx="2958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18"/>
            <p:cNvSpPr/>
            <p:nvPr/>
          </p:nvSpPr>
          <p:spPr>
            <a:xfrm>
              <a:off x="6393960" y="1466640"/>
              <a:ext cx="1049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9.4 x 10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m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Box 4"/>
            <p:cNvSpPr/>
            <p:nvPr/>
          </p:nvSpPr>
          <p:spPr>
            <a:xfrm>
              <a:off x="5922720" y="123012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804960" y="201600"/>
            <a:ext cx="7534080" cy="64580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9"/>
          <p:cNvSpPr/>
          <p:nvPr/>
        </p:nvSpPr>
        <p:spPr>
          <a:xfrm>
            <a:off x="2631960" y="1392120"/>
            <a:ext cx="309600" cy="4451400"/>
          </a:xfrm>
          <a:prstGeom prst="rect">
            <a:avLst/>
          </a:prstGeom>
          <a:solidFill>
            <a:srgbClr val="bfbfb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0"/>
          <p:cNvSpPr/>
          <p:nvPr/>
        </p:nvSpPr>
        <p:spPr>
          <a:xfrm>
            <a:off x="3618000" y="1371600"/>
            <a:ext cx="3544920" cy="4495680"/>
          </a:xfrm>
          <a:prstGeom prst="rect">
            <a:avLst/>
          </a:prstGeom>
          <a:solidFill>
            <a:srgbClr val="bfbfb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465560" y="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vective-scale statistics as f(proximity to RM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wcfad_dop_mult_reg3.tif"/>
          <p:cNvPicPr/>
          <p:nvPr/>
        </p:nvPicPr>
        <p:blipFill>
          <a:blip r:embed="rId1"/>
          <a:stretch/>
        </p:blipFill>
        <p:spPr>
          <a:xfrm>
            <a:off x="1227240" y="114300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wcfad_dop_mult_reg6.tif"/>
          <p:cNvPicPr/>
          <p:nvPr/>
        </p:nvPicPr>
        <p:blipFill>
          <a:blip r:embed="rId2"/>
          <a:stretch/>
        </p:blipFill>
        <p:spPr>
          <a:xfrm>
            <a:off x="5181480" y="1143000"/>
            <a:ext cx="354960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260440" y="773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Inner eye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341760" y="8002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Outer ra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235440" y="2438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10"/>
          <p:cNvGrpSpPr/>
          <p:nvPr/>
        </p:nvGrpSpPr>
        <p:grpSpPr>
          <a:xfrm>
            <a:off x="120600" y="3962520"/>
            <a:ext cx="8610480" cy="2743200"/>
            <a:chOff x="120600" y="3962520"/>
            <a:chExt cx="8610480" cy="2743200"/>
          </a:xfrm>
        </p:grpSpPr>
        <p:pic>
          <p:nvPicPr>
            <p:cNvPr id="240" name="Picture 4" descr="wcfad_mod_mult_reg3.tif"/>
            <p:cNvPicPr/>
            <p:nvPr/>
          </p:nvPicPr>
          <p:blipFill>
            <a:blip r:embed="rId3"/>
            <a:stretch/>
          </p:blipFill>
          <p:spPr>
            <a:xfrm>
              <a:off x="1226880" y="396252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" descr="wcfad_mod_mult_reg6.tif"/>
            <p:cNvPicPr/>
            <p:nvPr/>
          </p:nvPicPr>
          <p:blipFill>
            <a:blip r:embed="rId4"/>
            <a:stretch/>
          </p:blipFill>
          <p:spPr>
            <a:xfrm>
              <a:off x="5181480" y="3962520"/>
              <a:ext cx="3549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9"/>
            <p:cNvSpPr/>
            <p:nvPr/>
          </p:nvSpPr>
          <p:spPr>
            <a:xfrm>
              <a:off x="120600" y="50292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 Real-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Box 11"/>
          <p:cNvSpPr/>
          <p:nvPr/>
        </p:nvSpPr>
        <p:spPr>
          <a:xfrm>
            <a:off x="1241640" y="433440"/>
            <a:ext cx="72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velocity CFADs (%, no precipitation masking for HWRF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vorcfad_dop_mult_reg3.tif"/>
          <p:cNvPicPr/>
          <p:nvPr/>
        </p:nvPicPr>
        <p:blipFill>
          <a:blip r:embed="rId1"/>
          <a:stretch/>
        </p:blipFill>
        <p:spPr>
          <a:xfrm>
            <a:off x="1224000" y="113976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vorcfad_dop_mult_reg6.tif"/>
          <p:cNvPicPr/>
          <p:nvPr/>
        </p:nvPicPr>
        <p:blipFill>
          <a:blip r:embed="rId2"/>
          <a:stretch/>
        </p:blipFill>
        <p:spPr>
          <a:xfrm>
            <a:off x="5157720" y="1139760"/>
            <a:ext cx="3549600" cy="27432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2281320" y="7747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Inner eye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362280" y="8017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Outer rad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255960" y="24512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pp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92160" y="3954600"/>
            <a:ext cx="8615160" cy="2743200"/>
            <a:chOff x="92160" y="3954600"/>
            <a:chExt cx="8615160" cy="2743200"/>
          </a:xfrm>
        </p:grpSpPr>
        <p:pic>
          <p:nvPicPr>
            <p:cNvPr id="250" name="Picture 4" descr="vorcfad_mod_mult_reg3.tif"/>
            <p:cNvPicPr/>
            <p:nvPr/>
          </p:nvPicPr>
          <p:blipFill>
            <a:blip r:embed="rId3"/>
            <a:stretch/>
          </p:blipFill>
          <p:spPr>
            <a:xfrm>
              <a:off x="1223640" y="3954600"/>
              <a:ext cx="35499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" descr="vorcfad_mod_mult_reg6.tif"/>
            <p:cNvPicPr/>
            <p:nvPr/>
          </p:nvPicPr>
          <p:blipFill>
            <a:blip r:embed="rId4"/>
            <a:stretch/>
          </p:blipFill>
          <p:spPr>
            <a:xfrm>
              <a:off x="5157360" y="3954600"/>
              <a:ext cx="35499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9"/>
            <p:cNvSpPr/>
            <p:nvPr/>
          </p:nvSpPr>
          <p:spPr>
            <a:xfrm>
              <a:off x="92160" y="5041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WRFx Real-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TextBox 11"/>
          <p:cNvSpPr/>
          <p:nvPr/>
        </p:nvSpPr>
        <p:spPr>
          <a:xfrm>
            <a:off x="1317960" y="433440"/>
            <a:ext cx="72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vorticity CFADs (%, no precipitation masking for HWRF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465560" y="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vective-scale statistics as f(proximity to RM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2727720" y="62064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angential wind (% of maxim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33"/>
          <p:cNvGrpSpPr/>
          <p:nvPr/>
        </p:nvGrpSpPr>
        <p:grpSpPr>
          <a:xfrm>
            <a:off x="1246320" y="1201680"/>
            <a:ext cx="2957400" cy="2306520"/>
            <a:chOff x="1246320" y="1201680"/>
            <a:chExt cx="2957400" cy="2306520"/>
          </a:xfrm>
        </p:grpSpPr>
        <p:pic>
          <p:nvPicPr>
            <p:cNvPr id="257" name="Picture 1" descr="vt_obs_norm.tif"/>
            <p:cNvPicPr/>
            <p:nvPr/>
          </p:nvPicPr>
          <p:blipFill>
            <a:blip r:embed="rId1"/>
            <a:stretch/>
          </p:blipFill>
          <p:spPr>
            <a:xfrm>
              <a:off x="1246320" y="1222200"/>
              <a:ext cx="2957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4"/>
            <p:cNvSpPr/>
            <p:nvPr/>
          </p:nvSpPr>
          <p:spPr>
            <a:xfrm>
              <a:off x="2337480" y="120168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opson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Box 18"/>
            <p:cNvSpPr/>
            <p:nvPr/>
          </p:nvSpPr>
          <p:spPr>
            <a:xfrm>
              <a:off x="2930760" y="1492200"/>
              <a:ext cx="81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56.7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Box 1"/>
          <p:cNvSpPr/>
          <p:nvPr/>
        </p:nvSpPr>
        <p:spPr>
          <a:xfrm>
            <a:off x="2753640" y="1443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boundary-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52560" y="3733920"/>
            <a:ext cx="9002520" cy="2286000"/>
            <a:chOff x="52560" y="3733920"/>
            <a:chExt cx="9002520" cy="2286000"/>
          </a:xfrm>
        </p:grpSpPr>
        <p:grpSp>
          <p:nvGrpSpPr>
            <p:cNvPr id="262" name="Group 32"/>
            <p:cNvGrpSpPr/>
            <p:nvPr/>
          </p:nvGrpSpPr>
          <p:grpSpPr>
            <a:xfrm>
              <a:off x="52560" y="3733920"/>
              <a:ext cx="2958840" cy="2286000"/>
              <a:chOff x="52560" y="3733920"/>
              <a:chExt cx="2958840" cy="2286000"/>
            </a:xfrm>
          </p:grpSpPr>
          <p:pic>
            <p:nvPicPr>
              <p:cNvPr id="263" name="Picture 8" descr="vt_mod_norm_27-9-3_coac5.tif"/>
              <p:cNvPicPr/>
              <p:nvPr/>
            </p:nvPicPr>
            <p:blipFill>
              <a:blip r:embed="rId2"/>
              <a:stretch/>
            </p:blipFill>
            <p:spPr>
              <a:xfrm>
                <a:off x="52560" y="3733920"/>
                <a:ext cx="29588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Box 17"/>
              <p:cNvSpPr/>
              <p:nvPr/>
            </p:nvSpPr>
            <p:spPr>
              <a:xfrm>
                <a:off x="1757520" y="397512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71.8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TextBox 4"/>
              <p:cNvSpPr/>
              <p:nvPr/>
            </p:nvSpPr>
            <p:spPr>
              <a:xfrm>
                <a:off x="796680" y="3738600"/>
                <a:ext cx="14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1"/>
            <p:cNvGrpSpPr/>
            <p:nvPr/>
          </p:nvGrpSpPr>
          <p:grpSpPr>
            <a:xfrm>
              <a:off x="6096240" y="3733920"/>
              <a:ext cx="2958840" cy="2286000"/>
              <a:chOff x="6096240" y="3733920"/>
              <a:chExt cx="2958840" cy="2286000"/>
            </a:xfrm>
          </p:grpSpPr>
          <p:pic>
            <p:nvPicPr>
              <p:cNvPr id="267" name="Picture 12" descr="utcylav_n_PBL_MYJ-27-09-03km.tif"/>
              <p:cNvPicPr/>
              <p:nvPr/>
            </p:nvPicPr>
            <p:blipFill>
              <a:blip r:embed="rId3"/>
              <a:stretch/>
            </p:blipFill>
            <p:spPr>
              <a:xfrm>
                <a:off x="6096240" y="3733920"/>
                <a:ext cx="29588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Box 15"/>
              <p:cNvSpPr/>
              <p:nvPr/>
            </p:nvSpPr>
            <p:spPr>
              <a:xfrm>
                <a:off x="7803000" y="398772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66.9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TextBox 4"/>
              <p:cNvSpPr/>
              <p:nvPr/>
            </p:nvSpPr>
            <p:spPr>
              <a:xfrm>
                <a:off x="6941160" y="375264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0"/>
            <p:cNvGrpSpPr/>
            <p:nvPr/>
          </p:nvGrpSpPr>
          <p:grpSpPr>
            <a:xfrm>
              <a:off x="3079800" y="3733920"/>
              <a:ext cx="2958840" cy="2286000"/>
              <a:chOff x="3079800" y="3733920"/>
              <a:chExt cx="2958840" cy="2286000"/>
            </a:xfrm>
          </p:grpSpPr>
          <p:pic>
            <p:nvPicPr>
              <p:cNvPr id="271" name="Picture 18" descr="utcylav_n_YOUNG-27-09-03km.tif"/>
              <p:cNvPicPr/>
              <p:nvPr/>
            </p:nvPicPr>
            <p:blipFill>
              <a:blip r:embed="rId4"/>
              <a:stretch/>
            </p:blipFill>
            <p:spPr>
              <a:xfrm>
                <a:off x="3079800" y="3733920"/>
                <a:ext cx="29588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Box 16"/>
              <p:cNvSpPr/>
              <p:nvPr/>
            </p:nvSpPr>
            <p:spPr>
              <a:xfrm>
                <a:off x="4756320" y="398628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61.7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Box 4"/>
              <p:cNvSpPr/>
              <p:nvPr/>
            </p:nvSpPr>
            <p:spPr>
              <a:xfrm>
                <a:off x="384408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Group 22"/>
          <p:cNvGrpSpPr/>
          <p:nvPr/>
        </p:nvGrpSpPr>
        <p:grpSpPr>
          <a:xfrm>
            <a:off x="4965840" y="1219320"/>
            <a:ext cx="2958840" cy="2286000"/>
            <a:chOff x="4965840" y="1219320"/>
            <a:chExt cx="2958840" cy="2286000"/>
          </a:xfrm>
        </p:grpSpPr>
        <p:pic>
          <p:nvPicPr>
            <p:cNvPr id="275" name="Picture 21" descr="utcylav_n_Real_data.tif"/>
            <p:cNvPicPr/>
            <p:nvPr/>
          </p:nvPicPr>
          <p:blipFill>
            <a:blip r:embed="rId5"/>
            <a:stretch/>
          </p:blipFill>
          <p:spPr>
            <a:xfrm>
              <a:off x="4965840" y="1219320"/>
              <a:ext cx="2958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14"/>
            <p:cNvSpPr/>
            <p:nvPr/>
          </p:nvSpPr>
          <p:spPr>
            <a:xfrm>
              <a:off x="6671880" y="1460520"/>
              <a:ext cx="81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ax 66.0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Box 4"/>
            <p:cNvSpPr/>
            <p:nvPr/>
          </p:nvSpPr>
          <p:spPr>
            <a:xfrm>
              <a:off x="5954400" y="123516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5"/>
          <p:cNvSpPr/>
          <p:nvPr/>
        </p:nvSpPr>
        <p:spPr>
          <a:xfrm>
            <a:off x="1922760" y="54468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dial wind (% of minimum, i.e.,peak inf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32"/>
          <p:cNvGrpSpPr/>
          <p:nvPr/>
        </p:nvGrpSpPr>
        <p:grpSpPr>
          <a:xfrm>
            <a:off x="1249200" y="1219320"/>
            <a:ext cx="2957760" cy="2286000"/>
            <a:chOff x="1249200" y="1219320"/>
            <a:chExt cx="2957760" cy="2286000"/>
          </a:xfrm>
        </p:grpSpPr>
        <p:pic>
          <p:nvPicPr>
            <p:cNvPr id="280" name="Picture 24" descr="vr_Dropsonde.tif"/>
            <p:cNvPicPr/>
            <p:nvPr/>
          </p:nvPicPr>
          <p:blipFill>
            <a:blip r:embed="rId1"/>
            <a:stretch/>
          </p:blipFill>
          <p:spPr>
            <a:xfrm>
              <a:off x="1249200" y="1219320"/>
              <a:ext cx="295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4"/>
            <p:cNvSpPr/>
            <p:nvPr/>
          </p:nvSpPr>
          <p:spPr>
            <a:xfrm>
              <a:off x="2340360" y="1222200"/>
              <a:ext cx="84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opson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Box 23"/>
            <p:cNvSpPr/>
            <p:nvPr/>
          </p:nvSpPr>
          <p:spPr>
            <a:xfrm>
              <a:off x="2917080" y="1496880"/>
              <a:ext cx="82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19.2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TextBox 1"/>
          <p:cNvSpPr/>
          <p:nvPr/>
        </p:nvSpPr>
        <p:spPr>
          <a:xfrm>
            <a:off x="2753640" y="1443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boundary-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33"/>
          <p:cNvGrpSpPr/>
          <p:nvPr/>
        </p:nvGrpSpPr>
        <p:grpSpPr>
          <a:xfrm>
            <a:off x="44280" y="3733920"/>
            <a:ext cx="9010800" cy="2286000"/>
            <a:chOff x="44280" y="3733920"/>
            <a:chExt cx="9010800" cy="2286000"/>
          </a:xfrm>
        </p:grpSpPr>
        <p:grpSp>
          <p:nvGrpSpPr>
            <p:cNvPr id="285" name="Group 31"/>
            <p:cNvGrpSpPr/>
            <p:nvPr/>
          </p:nvGrpSpPr>
          <p:grpSpPr>
            <a:xfrm>
              <a:off x="44280" y="3733920"/>
              <a:ext cx="2959200" cy="2286000"/>
              <a:chOff x="44280" y="3733920"/>
              <a:chExt cx="2959200" cy="2286000"/>
            </a:xfrm>
          </p:grpSpPr>
          <p:pic>
            <p:nvPicPr>
              <p:cNvPr id="286" name="Picture 20" descr="urcylav_n_27-9-3_coac5.0.tif"/>
              <p:cNvPicPr/>
              <p:nvPr/>
            </p:nvPicPr>
            <p:blipFill>
              <a:blip r:embed="rId2"/>
              <a:stretch/>
            </p:blipFill>
            <p:spPr>
              <a:xfrm>
                <a:off x="4428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TextBox 21"/>
              <p:cNvSpPr/>
              <p:nvPr/>
            </p:nvSpPr>
            <p:spPr>
              <a:xfrm>
                <a:off x="1732680" y="397836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15.3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TextBox 4"/>
              <p:cNvSpPr/>
              <p:nvPr/>
            </p:nvSpPr>
            <p:spPr>
              <a:xfrm>
                <a:off x="788760" y="3741840"/>
                <a:ext cx="14382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095880" y="3733920"/>
              <a:ext cx="2959200" cy="2286000"/>
              <a:chOff x="6095880" y="3733920"/>
              <a:chExt cx="2959200" cy="2286000"/>
            </a:xfrm>
          </p:grpSpPr>
          <p:pic>
            <p:nvPicPr>
              <p:cNvPr id="290" name="Picture 16" descr="urcylav_n_MYJ-27-9-3.tif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TextBox 17"/>
              <p:cNvSpPr/>
              <p:nvPr/>
            </p:nvSpPr>
            <p:spPr>
              <a:xfrm>
                <a:off x="7782840" y="397512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24.8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TextBox 4"/>
              <p:cNvSpPr/>
              <p:nvPr/>
            </p:nvSpPr>
            <p:spPr>
              <a:xfrm>
                <a:off x="6940800" y="374004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9"/>
            <p:cNvGrpSpPr/>
            <p:nvPr/>
          </p:nvGrpSpPr>
          <p:grpSpPr>
            <a:xfrm>
              <a:off x="3071880" y="3733920"/>
              <a:ext cx="2959200" cy="2286000"/>
              <a:chOff x="3071880" y="3733920"/>
              <a:chExt cx="2959200" cy="2286000"/>
            </a:xfrm>
          </p:grpSpPr>
          <p:pic>
            <p:nvPicPr>
              <p:cNvPr id="294" name="Picture 18" descr="urcylav_n_Young-27-9-3.tif"/>
              <p:cNvPicPr/>
              <p:nvPr/>
            </p:nvPicPr>
            <p:blipFill>
              <a:blip r:embed="rId4"/>
              <a:stretch/>
            </p:blipFill>
            <p:spPr>
              <a:xfrm>
                <a:off x="307188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Box 19"/>
              <p:cNvSpPr/>
              <p:nvPr/>
            </p:nvSpPr>
            <p:spPr>
              <a:xfrm>
                <a:off x="4753800" y="397044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12.2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Box 4"/>
              <p:cNvSpPr/>
              <p:nvPr/>
            </p:nvSpPr>
            <p:spPr>
              <a:xfrm>
                <a:off x="383616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21"/>
          <p:cNvGrpSpPr/>
          <p:nvPr/>
        </p:nvGrpSpPr>
        <p:grpSpPr>
          <a:xfrm>
            <a:off x="4965840" y="1219320"/>
            <a:ext cx="2958840" cy="2286000"/>
            <a:chOff x="4965840" y="1219320"/>
            <a:chExt cx="2958840" cy="2286000"/>
          </a:xfrm>
        </p:grpSpPr>
        <p:pic>
          <p:nvPicPr>
            <p:cNvPr id="298" name="Picture 20" descr="urcylav_n_Real_data.tif"/>
            <p:cNvPicPr/>
            <p:nvPr/>
          </p:nvPicPr>
          <p:blipFill>
            <a:blip r:embed="rId5"/>
            <a:stretch/>
          </p:blipFill>
          <p:spPr>
            <a:xfrm>
              <a:off x="4965840" y="1219320"/>
              <a:ext cx="2958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14"/>
            <p:cNvSpPr/>
            <p:nvPr/>
          </p:nvSpPr>
          <p:spPr>
            <a:xfrm>
              <a:off x="6678720" y="1463760"/>
              <a:ext cx="82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12.9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Box 4"/>
            <p:cNvSpPr/>
            <p:nvPr/>
          </p:nvSpPr>
          <p:spPr>
            <a:xfrm>
              <a:off x="5957640" y="123516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1486800" y="620640"/>
            <a:ext cx="56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ta-v (% of minimum, i.e., of surface-layer val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1251000" y="1209600"/>
            <a:ext cx="2957400" cy="2298600"/>
            <a:chOff x="1251000" y="1209600"/>
            <a:chExt cx="2957400" cy="2298600"/>
          </a:xfrm>
        </p:grpSpPr>
        <p:pic>
          <p:nvPicPr>
            <p:cNvPr id="303" name="Picture 5" descr="thv_obs_norm.tif"/>
            <p:cNvPicPr/>
            <p:nvPr/>
          </p:nvPicPr>
          <p:blipFill>
            <a:blip r:embed="rId1"/>
            <a:stretch/>
          </p:blipFill>
          <p:spPr>
            <a:xfrm>
              <a:off x="1251000" y="1222200"/>
              <a:ext cx="2957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4"/>
            <p:cNvSpPr/>
            <p:nvPr/>
          </p:nvSpPr>
          <p:spPr>
            <a:xfrm>
              <a:off x="2342160" y="120960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ropsond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Box 19"/>
            <p:cNvSpPr/>
            <p:nvPr/>
          </p:nvSpPr>
          <p:spPr>
            <a:xfrm>
              <a:off x="3019320" y="147132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302.9 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TextBox 1"/>
          <p:cNvSpPr/>
          <p:nvPr/>
        </p:nvSpPr>
        <p:spPr>
          <a:xfrm>
            <a:off x="2753640" y="1443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boundary-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34"/>
          <p:cNvGrpSpPr/>
          <p:nvPr/>
        </p:nvGrpSpPr>
        <p:grpSpPr>
          <a:xfrm>
            <a:off x="47520" y="3733920"/>
            <a:ext cx="9007560" cy="2286000"/>
            <a:chOff x="47520" y="3733920"/>
            <a:chExt cx="9007560" cy="2286000"/>
          </a:xfrm>
        </p:grpSpPr>
        <p:grpSp>
          <p:nvGrpSpPr>
            <p:cNvPr id="308" name="Group 32"/>
            <p:cNvGrpSpPr/>
            <p:nvPr/>
          </p:nvGrpSpPr>
          <p:grpSpPr>
            <a:xfrm>
              <a:off x="47520" y="3733920"/>
              <a:ext cx="2959200" cy="2286000"/>
              <a:chOff x="47520" y="3733920"/>
              <a:chExt cx="2959200" cy="2286000"/>
            </a:xfrm>
          </p:grpSpPr>
          <p:pic>
            <p:nvPicPr>
              <p:cNvPr id="309" name="Picture 8" descr="thv_mod_norm_27-9-3_coac5.tif"/>
              <p:cNvPicPr/>
              <p:nvPr/>
            </p:nvPicPr>
            <p:blipFill>
              <a:blip r:embed="rId2"/>
              <a:stretch/>
            </p:blipFill>
            <p:spPr>
              <a:xfrm>
                <a:off x="4752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TextBox 17"/>
              <p:cNvSpPr/>
              <p:nvPr/>
            </p:nvSpPr>
            <p:spPr>
              <a:xfrm>
                <a:off x="1812960" y="3987720"/>
                <a:ext cx="74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304.5 K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Box 4"/>
              <p:cNvSpPr/>
              <p:nvPr/>
            </p:nvSpPr>
            <p:spPr>
              <a:xfrm>
                <a:off x="792000" y="3738600"/>
                <a:ext cx="14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31"/>
            <p:cNvGrpSpPr/>
            <p:nvPr/>
          </p:nvGrpSpPr>
          <p:grpSpPr>
            <a:xfrm>
              <a:off x="6095880" y="3733920"/>
              <a:ext cx="2959200" cy="2286000"/>
              <a:chOff x="6095880" y="3733920"/>
              <a:chExt cx="2959200" cy="2286000"/>
            </a:xfrm>
          </p:grpSpPr>
          <p:pic>
            <p:nvPicPr>
              <p:cNvPr id="313" name="Picture 10" descr="thevcylav_n_MYJ-27-09-03km.tif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TextBox 15"/>
              <p:cNvSpPr/>
              <p:nvPr/>
            </p:nvSpPr>
            <p:spPr>
              <a:xfrm>
                <a:off x="7869240" y="3967200"/>
                <a:ext cx="74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303.4 K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Box 4"/>
              <p:cNvSpPr/>
              <p:nvPr/>
            </p:nvSpPr>
            <p:spPr>
              <a:xfrm>
                <a:off x="6940800" y="374472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30"/>
            <p:cNvGrpSpPr/>
            <p:nvPr/>
          </p:nvGrpSpPr>
          <p:grpSpPr>
            <a:xfrm>
              <a:off x="3076200" y="3733920"/>
              <a:ext cx="2959200" cy="2286000"/>
              <a:chOff x="3076200" y="3733920"/>
              <a:chExt cx="2959200" cy="2286000"/>
            </a:xfrm>
          </p:grpSpPr>
          <p:pic>
            <p:nvPicPr>
              <p:cNvPr id="317" name="Picture 16" descr="thevcylav_n_YOUNG-27-09-03km.tif"/>
              <p:cNvPicPr/>
              <p:nvPr/>
            </p:nvPicPr>
            <p:blipFill>
              <a:blip r:embed="rId4"/>
              <a:stretch/>
            </p:blipFill>
            <p:spPr>
              <a:xfrm>
                <a:off x="3076200" y="37339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TextBox 16"/>
              <p:cNvSpPr/>
              <p:nvPr/>
            </p:nvSpPr>
            <p:spPr>
              <a:xfrm>
                <a:off x="4839840" y="3967200"/>
                <a:ext cx="74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303.5 K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TextBox 4"/>
              <p:cNvSpPr/>
              <p:nvPr/>
            </p:nvSpPr>
            <p:spPr>
              <a:xfrm>
                <a:off x="384048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Group 22"/>
          <p:cNvGrpSpPr/>
          <p:nvPr/>
        </p:nvGrpSpPr>
        <p:grpSpPr>
          <a:xfrm>
            <a:off x="4965840" y="1227240"/>
            <a:ext cx="2958840" cy="2286000"/>
            <a:chOff x="4965840" y="1227240"/>
            <a:chExt cx="2958840" cy="2286000"/>
          </a:xfrm>
        </p:grpSpPr>
        <p:pic>
          <p:nvPicPr>
            <p:cNvPr id="321" name="Picture 21" descr="thevcylav_n_Real_data.tif"/>
            <p:cNvPicPr/>
            <p:nvPr/>
          </p:nvPicPr>
          <p:blipFill>
            <a:blip r:embed="rId5"/>
            <a:stretch/>
          </p:blipFill>
          <p:spPr>
            <a:xfrm>
              <a:off x="4965840" y="1227240"/>
              <a:ext cx="2958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14"/>
            <p:cNvSpPr/>
            <p:nvPr/>
          </p:nvSpPr>
          <p:spPr>
            <a:xfrm>
              <a:off x="6734520" y="147636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306.5 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4"/>
            <p:cNvSpPr/>
            <p:nvPr/>
          </p:nvSpPr>
          <p:spPr>
            <a:xfrm>
              <a:off x="5949720" y="124308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imary circulation well-repres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yewall slopes more in model for all configurations compared to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gnitude of peak low-level inflow comparable, but inflow layer much deeper in model than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rtical velocity field qualitatively similar, but much weaker.  MYJ produces an axisymmetric vertical velocity of comparable magnitude to Doppler, at higher levels than GFS sche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orticity, divergence, angular momentum similar between model and observations, some indication that idealized runs produce deeper layer of high angular momentum at large ra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roader distribution of vertical velocity in observations, both in inner eyewall and outer ra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ertical vorticity more skewed in observations within eyewall compared with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ynamic” measures of PBL depth much deeper fo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xed-layer measure of PBL depth closer to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ch work has gone toward evaluating performance of numerical models using “traditional” metrics, e.g., position and intensity err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bust evaluations of inner-core structure needed to assess realism of numerical simulations, especially as grid lengths approach 1-3 km and fi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alth of TC inner-core data collected at HRD over the years provides excellent opportunity for evaluating high-resolution numerical mode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orm composites key to provide statistically robust measures (with obvious cavea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Content Placeholder 2"/>
          <p:cNvSpPr/>
          <p:nvPr/>
        </p:nvSpPr>
        <p:spPr>
          <a:xfrm>
            <a:off x="4572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inue expanding all databases (Doppler, dropsonde, HWRF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re intelligently subsample databases, e.g., better isolate steady-state cases, stratify by intensity, intensit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 asymmetric components to vortex-scale eval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valuate alternate model config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PBL, microphysical parameter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ent horizontal, vertical re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-152280" y="88596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use composites of tail Doppler radar and GPS dropsonde data from NOAA WP-3D radial penetrations in many storms to compare inner-core structures from mature hurricanes with those produced from various configurations of HWRF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variational analysis (Gamache 1997) of fields used to generate Cartesian grids of   3-D winds and reflectivity for Doppler analyses, with a horizontal grid spacing of 2 km and a vertical spacing of 0.5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cartesian data interpolated to cylindrical coordinates for axisymmetric calculations.  Storm center defined using simplex algorithm (Neldar and Mead, 1965) for Doppler data and model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compositing technique based on normalized radi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r* = r/|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max_2k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|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, where |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max_2k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| = radius of maximum axisymmetric wi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at 2 km al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049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cus here is on several scales within TC inner co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ymmetric vortex-sca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vective-scale statist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-258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oundary-layer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0" y="162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4876920" y="1765440"/>
            <a:ext cx="36604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0"/>
          <p:cNvGrpSpPr/>
          <p:nvPr/>
        </p:nvGrpSpPr>
        <p:grpSpPr>
          <a:xfrm>
            <a:off x="210960" y="1720800"/>
            <a:ext cx="4343400" cy="2743200"/>
            <a:chOff x="210960" y="1720800"/>
            <a:chExt cx="4343400" cy="2743200"/>
          </a:xfrm>
        </p:grpSpPr>
        <p:sp>
          <p:nvSpPr>
            <p:cNvPr id="49" name="Rectangle 9"/>
            <p:cNvSpPr/>
            <p:nvPr/>
          </p:nvSpPr>
          <p:spPr>
            <a:xfrm>
              <a:off x="210960" y="1720800"/>
              <a:ext cx="434340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" name="Picture 4" descr=""/>
            <p:cNvPicPr/>
            <p:nvPr/>
          </p:nvPicPr>
          <p:blipFill>
            <a:blip r:embed="rId1"/>
            <a:stretch/>
          </p:blipFill>
          <p:spPr>
            <a:xfrm>
              <a:off x="210960" y="1720800"/>
              <a:ext cx="4341240" cy="2742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1" name=""/>
          <p:cNvGraphicFramePr/>
          <p:nvPr/>
        </p:nvGraphicFramePr>
        <p:xfrm>
          <a:off x="4876920" y="1765440"/>
          <a:ext cx="3657600" cy="26668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</a:tblGrid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orm nam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to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tensity range (k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f son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rik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3 – 1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on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eorg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6 - 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itc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45 -  1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re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5 - 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nn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loy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9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 - 1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abi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1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sabe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5 - 1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ranc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1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nn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5 - 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Katri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8 - 1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13"/>
          <p:cNvSpPr/>
          <p:nvPr/>
        </p:nvSpPr>
        <p:spPr>
          <a:xfrm>
            <a:off x="1986840" y="14760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Observational databases used in compo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987120" y="10666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Doppler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5115960" y="107460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GPS dropsonde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898200" y="1477800"/>
            <a:ext cx="26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0 radar analyses in 8 different st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5457960" y="1498680"/>
            <a:ext cx="25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94 dropsondes in 13 different st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3339720" y="4464000"/>
            <a:ext cx="122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Rogers et al., MWR, 201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7395840" y="4400640"/>
            <a:ext cx="119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Zhang et al., MWR, 201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5410080" y="1371600"/>
            <a:ext cx="3581640" cy="4191120"/>
            <a:chOff x="5410080" y="1371600"/>
            <a:chExt cx="3581640" cy="4191120"/>
          </a:xfrm>
        </p:grpSpPr>
        <p:sp>
          <p:nvSpPr>
            <p:cNvPr id="60" name="Rectangle 2"/>
            <p:cNvSpPr/>
            <p:nvPr/>
          </p:nvSpPr>
          <p:spPr>
            <a:xfrm>
              <a:off x="5410080" y="1371600"/>
              <a:ext cx="357696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1" name="Object 3"/>
            <p:cNvGraphicFramePr/>
            <p:nvPr/>
          </p:nvGraphicFramePr>
          <p:xfrm>
            <a:off x="5433480" y="1402560"/>
            <a:ext cx="3558240" cy="416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33480" y="1402560"/>
                      <a:ext cx="3558240" cy="416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" name="TextBox 16"/>
          <p:cNvSpPr/>
          <p:nvPr/>
        </p:nvSpPr>
        <p:spPr>
          <a:xfrm>
            <a:off x="5416560" y="738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HWRFx Real-dat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5441040" y="109872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34 model output times in 16 runs of 5 different st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1980720" y="14760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imulation databases used in compo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925200" y="738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Idealized HWRFx ru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28600" y="1295280"/>
            <a:ext cx="47242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u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:9:3 km with GFS PBL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C=5.0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27:9:3 km with GFS PBL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ng Kwon’s modification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:9:3 km with MYJ PB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runs use Ferrier microphysics, SAS convection scheme on all mes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runs taken at 6-hourly intervals between 48 and 96 h during sim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257800" y="55627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ll runs at 27:9:3 km with GFS PBL, Ferrier microphysics and SAS convection on all mes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219320" y="1752480"/>
            <a:ext cx="602460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1450800" y="83340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ome summary statistics on vortex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39840" y="1760400"/>
            <a:ext cx="60199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2619000" y="54468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angential wind (% of maxim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2900160" y="76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38"/>
          <p:cNvGrpSpPr/>
          <p:nvPr/>
        </p:nvGrpSpPr>
        <p:grpSpPr>
          <a:xfrm>
            <a:off x="1247760" y="1201680"/>
            <a:ext cx="2957400" cy="2303640"/>
            <a:chOff x="1247760" y="1201680"/>
            <a:chExt cx="2957400" cy="2303640"/>
          </a:xfrm>
        </p:grpSpPr>
        <p:grpSp>
          <p:nvGrpSpPr>
            <p:cNvPr id="75" name="Group 26"/>
            <p:cNvGrpSpPr/>
            <p:nvPr/>
          </p:nvGrpSpPr>
          <p:grpSpPr>
            <a:xfrm>
              <a:off x="1247760" y="1201680"/>
              <a:ext cx="2957400" cy="2303640"/>
              <a:chOff x="1247760" y="1201680"/>
              <a:chExt cx="2957400" cy="2303640"/>
            </a:xfrm>
          </p:grpSpPr>
          <p:pic>
            <p:nvPicPr>
              <p:cNvPr id="76" name="Picture 1" descr="vt_obs_norm_deep.tif"/>
              <p:cNvPicPr/>
              <p:nvPr/>
            </p:nvPicPr>
            <p:blipFill>
              <a:blip r:embed="rId1"/>
              <a:stretch/>
            </p:blipFill>
            <p:spPr>
              <a:xfrm>
                <a:off x="1247760" y="1218960"/>
                <a:ext cx="2957400" cy="228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Box 4"/>
              <p:cNvSpPr/>
              <p:nvPr/>
            </p:nvSpPr>
            <p:spPr>
              <a:xfrm>
                <a:off x="2337840" y="1201680"/>
                <a:ext cx="659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ppl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2940120" y="146844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x 60.8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Freeform 33"/>
            <p:cNvSpPr/>
            <p:nvPr/>
          </p:nvSpPr>
          <p:spPr>
            <a:xfrm>
              <a:off x="2075760" y="1923120"/>
              <a:ext cx="104400" cy="982800"/>
            </a:xfrm>
            <a:custGeom>
              <a:avLst/>
              <a:gdLst/>
              <a:ahLst/>
              <a:rect l="l" t="t" r="r" b="b"/>
              <a:pathLst>
                <a:path w="104717" h="982653">
                  <a:moveTo>
                    <a:pt x="0" y="982653"/>
                  </a:moveTo>
                  <a:cubicBezTo>
                    <a:pt x="2337" y="868586"/>
                    <a:pt x="4675" y="754520"/>
                    <a:pt x="11220" y="657283"/>
                  </a:cubicBezTo>
                  <a:cubicBezTo>
                    <a:pt x="17765" y="560046"/>
                    <a:pt x="25244" y="498339"/>
                    <a:pt x="39269" y="399232"/>
                  </a:cubicBezTo>
                  <a:cubicBezTo>
                    <a:pt x="53294" y="300125"/>
                    <a:pt x="86017" y="125286"/>
                    <a:pt x="95367" y="62643"/>
                  </a:cubicBezTo>
                  <a:cubicBezTo>
                    <a:pt x="104717" y="0"/>
                    <a:pt x="100042" y="11687"/>
                    <a:pt x="95367" y="233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39"/>
          <p:cNvGrpSpPr/>
          <p:nvPr/>
        </p:nvGrpSpPr>
        <p:grpSpPr>
          <a:xfrm>
            <a:off x="4952880" y="1219320"/>
            <a:ext cx="2959200" cy="2286000"/>
            <a:chOff x="4952880" y="1219320"/>
            <a:chExt cx="2959200" cy="2286000"/>
          </a:xfrm>
        </p:grpSpPr>
        <p:grpSp>
          <p:nvGrpSpPr>
            <p:cNvPr id="81" name="Group 24"/>
            <p:cNvGrpSpPr/>
            <p:nvPr/>
          </p:nvGrpSpPr>
          <p:grpSpPr>
            <a:xfrm>
              <a:off x="4952880" y="1219320"/>
              <a:ext cx="2959200" cy="2286000"/>
              <a:chOff x="4952880" y="1219320"/>
              <a:chExt cx="2959200" cy="2286000"/>
            </a:xfrm>
          </p:grpSpPr>
          <p:pic>
            <p:nvPicPr>
              <p:cNvPr id="82" name="Picture 20" descr="utcylav_n_Real_data.tif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1219320"/>
                <a:ext cx="295920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Box 4"/>
              <p:cNvSpPr/>
              <p:nvPr/>
            </p:nvSpPr>
            <p:spPr>
              <a:xfrm>
                <a:off x="5944680" y="1235160"/>
                <a:ext cx="9396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eal_5stor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TextBox 14"/>
              <p:cNvSpPr/>
              <p:nvPr/>
            </p:nvSpPr>
            <p:spPr>
              <a:xfrm>
                <a:off x="6662520" y="146052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66.0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Freeform 34"/>
            <p:cNvSpPr/>
            <p:nvPr/>
          </p:nvSpPr>
          <p:spPr>
            <a:xfrm>
              <a:off x="5789520" y="1929960"/>
              <a:ext cx="134640" cy="987480"/>
            </a:xfrm>
            <a:custGeom>
              <a:avLst/>
              <a:gdLst/>
              <a:ahLst/>
              <a:rect l="l" t="t" r="r" b="b"/>
              <a:pathLst>
                <a:path w="134636" h="987327">
                  <a:moveTo>
                    <a:pt x="0" y="987327"/>
                  </a:moveTo>
                  <a:cubicBezTo>
                    <a:pt x="7012" y="932631"/>
                    <a:pt x="14024" y="877936"/>
                    <a:pt x="22439" y="807813"/>
                  </a:cubicBezTo>
                  <a:cubicBezTo>
                    <a:pt x="30854" y="737690"/>
                    <a:pt x="43008" y="633909"/>
                    <a:pt x="50488" y="566591"/>
                  </a:cubicBezTo>
                  <a:cubicBezTo>
                    <a:pt x="57968" y="499273"/>
                    <a:pt x="60773" y="457199"/>
                    <a:pt x="67318" y="403906"/>
                  </a:cubicBezTo>
                  <a:cubicBezTo>
                    <a:pt x="73863" y="350613"/>
                    <a:pt x="83212" y="291710"/>
                    <a:pt x="89757" y="246832"/>
                  </a:cubicBezTo>
                  <a:cubicBezTo>
                    <a:pt x="96302" y="201954"/>
                    <a:pt x="99107" y="175774"/>
                    <a:pt x="106587" y="134635"/>
                  </a:cubicBezTo>
                  <a:cubicBezTo>
                    <a:pt x="114067" y="93496"/>
                    <a:pt x="124351" y="46748"/>
                    <a:pt x="134636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2560" y="3733920"/>
            <a:ext cx="9030960" cy="2286000"/>
            <a:chOff x="52560" y="3733920"/>
            <a:chExt cx="9030960" cy="2286000"/>
          </a:xfrm>
        </p:grpSpPr>
        <p:grpSp>
          <p:nvGrpSpPr>
            <p:cNvPr id="87" name="Group 28"/>
            <p:cNvGrpSpPr/>
            <p:nvPr/>
          </p:nvGrpSpPr>
          <p:grpSpPr>
            <a:xfrm>
              <a:off x="52560" y="3733920"/>
              <a:ext cx="9030960" cy="2286000"/>
              <a:chOff x="52560" y="3733920"/>
              <a:chExt cx="9030960" cy="2286000"/>
            </a:xfrm>
          </p:grpSpPr>
          <p:pic>
            <p:nvPicPr>
              <p:cNvPr id="88" name="Picture 9" descr="utcylav_n_MYJ-27-09-03km.tif"/>
              <p:cNvPicPr/>
              <p:nvPr/>
            </p:nvPicPr>
            <p:blipFill>
              <a:blip r:embed="rId3"/>
              <a:stretch/>
            </p:blipFill>
            <p:spPr>
              <a:xfrm>
                <a:off x="6124680" y="3733920"/>
                <a:ext cx="29588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Box 4"/>
              <p:cNvSpPr/>
              <p:nvPr/>
            </p:nvSpPr>
            <p:spPr>
              <a:xfrm>
                <a:off x="6966360" y="374004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TextBox 15"/>
              <p:cNvSpPr/>
              <p:nvPr/>
            </p:nvSpPr>
            <p:spPr>
              <a:xfrm>
                <a:off x="7828200" y="397512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66.9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Group 27"/>
              <p:cNvGrpSpPr/>
              <p:nvPr/>
            </p:nvGrpSpPr>
            <p:grpSpPr>
              <a:xfrm>
                <a:off x="3092400" y="3733920"/>
                <a:ext cx="2958840" cy="2286000"/>
                <a:chOff x="3092400" y="3733920"/>
                <a:chExt cx="2958840" cy="2286000"/>
              </a:xfrm>
            </p:grpSpPr>
            <p:pic>
              <p:nvPicPr>
                <p:cNvPr id="92" name="Picture 16" descr="utcylav_n_deep_YOUNG-27-09-03km.tif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92400" y="3733920"/>
                  <a:ext cx="295884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Box 4"/>
                <p:cNvSpPr/>
                <p:nvPr/>
              </p:nvSpPr>
              <p:spPr>
                <a:xfrm>
                  <a:off x="3856680" y="3749760"/>
                  <a:ext cx="13420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deal_Young-27-9-3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TextBox 16"/>
                <p:cNvSpPr/>
                <p:nvPr/>
              </p:nvSpPr>
              <p:spPr>
                <a:xfrm>
                  <a:off x="4778640" y="3967200"/>
                  <a:ext cx="81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Max 61.7 m/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5"/>
              <p:cNvGrpSpPr/>
              <p:nvPr/>
            </p:nvGrpSpPr>
            <p:grpSpPr>
              <a:xfrm>
                <a:off x="52560" y="3733920"/>
                <a:ext cx="2958840" cy="2286000"/>
                <a:chOff x="52560" y="3733920"/>
                <a:chExt cx="2958840" cy="2286000"/>
              </a:xfrm>
            </p:grpSpPr>
            <p:pic>
              <p:nvPicPr>
                <p:cNvPr id="96" name="Picture 5" descr="vt_mod_norm_deep_27-9-3_coac5.tif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560" y="3733920"/>
                  <a:ext cx="295884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TextBox 4"/>
                <p:cNvSpPr/>
                <p:nvPr/>
              </p:nvSpPr>
              <p:spPr>
                <a:xfrm>
                  <a:off x="795240" y="3733920"/>
                  <a:ext cx="1438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deal_27-9-3_coac5.0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TextBox 17"/>
                <p:cNvSpPr/>
                <p:nvPr/>
              </p:nvSpPr>
              <p:spPr>
                <a:xfrm>
                  <a:off x="1756080" y="3970440"/>
                  <a:ext cx="81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Max 71.8 m/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Freeform 35"/>
            <p:cNvSpPr/>
            <p:nvPr/>
          </p:nvSpPr>
          <p:spPr>
            <a:xfrm>
              <a:off x="886320" y="4459680"/>
              <a:ext cx="173880" cy="953640"/>
            </a:xfrm>
            <a:custGeom>
              <a:avLst/>
              <a:gdLst/>
              <a:ahLst/>
              <a:rect l="l" t="t" r="r" b="b"/>
              <a:pathLst>
                <a:path w="173904" h="953668">
                  <a:moveTo>
                    <a:pt x="0" y="953668"/>
                  </a:moveTo>
                  <a:cubicBezTo>
                    <a:pt x="0" y="908322"/>
                    <a:pt x="0" y="884013"/>
                    <a:pt x="5610" y="834460"/>
                  </a:cubicBezTo>
                  <a:cubicBezTo>
                    <a:pt x="11220" y="784907"/>
                    <a:pt x="24309" y="711278"/>
                    <a:pt x="33659" y="656348"/>
                  </a:cubicBezTo>
                  <a:cubicBezTo>
                    <a:pt x="43009" y="601419"/>
                    <a:pt x="51423" y="553501"/>
                    <a:pt x="61708" y="504883"/>
                  </a:cubicBezTo>
                  <a:cubicBezTo>
                    <a:pt x="71993" y="456265"/>
                    <a:pt x="86017" y="407647"/>
                    <a:pt x="95367" y="364638"/>
                  </a:cubicBezTo>
                  <a:cubicBezTo>
                    <a:pt x="104717" y="321629"/>
                    <a:pt x="109391" y="283296"/>
                    <a:pt x="117806" y="246832"/>
                  </a:cubicBezTo>
                  <a:cubicBezTo>
                    <a:pt x="126221" y="210368"/>
                    <a:pt x="136505" y="186994"/>
                    <a:pt x="145855" y="145855"/>
                  </a:cubicBezTo>
                  <a:cubicBezTo>
                    <a:pt x="155205" y="104716"/>
                    <a:pt x="164554" y="52358"/>
                    <a:pt x="17390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6"/>
            <p:cNvSpPr/>
            <p:nvPr/>
          </p:nvSpPr>
          <p:spPr>
            <a:xfrm>
              <a:off x="3930480" y="4443120"/>
              <a:ext cx="209160" cy="975960"/>
            </a:xfrm>
            <a:custGeom>
              <a:avLst/>
              <a:gdLst/>
              <a:ahLst/>
              <a:rect l="l" t="t" r="r" b="b"/>
              <a:pathLst>
                <a:path w="209433" h="976108">
                  <a:moveTo>
                    <a:pt x="1870" y="976108"/>
                  </a:moveTo>
                  <a:cubicBezTo>
                    <a:pt x="10051" y="912998"/>
                    <a:pt x="0" y="883079"/>
                    <a:pt x="11220" y="807346"/>
                  </a:cubicBezTo>
                  <a:cubicBezTo>
                    <a:pt x="22440" y="731614"/>
                    <a:pt x="52982" y="598302"/>
                    <a:pt x="69188" y="521713"/>
                  </a:cubicBezTo>
                  <a:cubicBezTo>
                    <a:pt x="85394" y="445124"/>
                    <a:pt x="93497" y="403907"/>
                    <a:pt x="108456" y="347809"/>
                  </a:cubicBezTo>
                  <a:cubicBezTo>
                    <a:pt x="123415" y="291711"/>
                    <a:pt x="144920" y="233743"/>
                    <a:pt x="158945" y="185124"/>
                  </a:cubicBezTo>
                  <a:cubicBezTo>
                    <a:pt x="172970" y="136506"/>
                    <a:pt x="184189" y="86952"/>
                    <a:pt x="192604" y="56098"/>
                  </a:cubicBezTo>
                  <a:cubicBezTo>
                    <a:pt x="201019" y="25244"/>
                    <a:pt x="207096" y="9817"/>
                    <a:pt x="20943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37"/>
            <p:cNvSpPr/>
            <p:nvPr/>
          </p:nvSpPr>
          <p:spPr>
            <a:xfrm>
              <a:off x="6950520" y="4465440"/>
              <a:ext cx="218520" cy="964800"/>
            </a:xfrm>
            <a:custGeom>
              <a:avLst/>
              <a:gdLst/>
              <a:ahLst/>
              <a:rect l="l" t="t" r="r" b="b"/>
              <a:pathLst>
                <a:path w="218783" h="964889">
                  <a:moveTo>
                    <a:pt x="0" y="964889"/>
                  </a:moveTo>
                  <a:cubicBezTo>
                    <a:pt x="11219" y="910193"/>
                    <a:pt x="22439" y="855497"/>
                    <a:pt x="33659" y="796594"/>
                  </a:cubicBezTo>
                  <a:cubicBezTo>
                    <a:pt x="44879" y="737691"/>
                    <a:pt x="51424" y="683462"/>
                    <a:pt x="67318" y="611470"/>
                  </a:cubicBezTo>
                  <a:cubicBezTo>
                    <a:pt x="83212" y="539478"/>
                    <a:pt x="112197" y="432892"/>
                    <a:pt x="129026" y="364639"/>
                  </a:cubicBezTo>
                  <a:cubicBezTo>
                    <a:pt x="145855" y="296386"/>
                    <a:pt x="153335" y="262727"/>
                    <a:pt x="168294" y="201954"/>
                  </a:cubicBezTo>
                  <a:cubicBezTo>
                    <a:pt x="183253" y="141181"/>
                    <a:pt x="201018" y="70590"/>
                    <a:pt x="21878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905120" y="39204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dial wind (% of minimum, i.e.,peak inf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37"/>
          <p:cNvGrpSpPr/>
          <p:nvPr/>
        </p:nvGrpSpPr>
        <p:grpSpPr>
          <a:xfrm>
            <a:off x="1158840" y="841320"/>
            <a:ext cx="2955960" cy="2666880"/>
            <a:chOff x="1158840" y="841320"/>
            <a:chExt cx="2955960" cy="2666880"/>
          </a:xfrm>
        </p:grpSpPr>
        <p:sp>
          <p:nvSpPr>
            <p:cNvPr id="104" name="Rectangle 15"/>
            <p:cNvSpPr/>
            <p:nvPr/>
          </p:nvSpPr>
          <p:spPr>
            <a:xfrm>
              <a:off x="1158840" y="1145880"/>
              <a:ext cx="294012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Picture 1" descr="urcylav_dopp_deep.gif"/>
            <p:cNvPicPr/>
            <p:nvPr/>
          </p:nvPicPr>
          <p:blipFill>
            <a:blip r:embed="rId1"/>
            <a:stretch/>
          </p:blipFill>
          <p:spPr>
            <a:xfrm>
              <a:off x="1163160" y="1285920"/>
              <a:ext cx="2926440" cy="21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4"/>
            <p:cNvSpPr/>
            <p:nvPr/>
          </p:nvSpPr>
          <p:spPr>
            <a:xfrm>
              <a:off x="2253600" y="1145880"/>
              <a:ext cx="65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ppl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Box 14"/>
            <p:cNvSpPr/>
            <p:nvPr/>
          </p:nvSpPr>
          <p:spPr>
            <a:xfrm>
              <a:off x="2943360" y="1434960"/>
              <a:ext cx="76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4.4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27"/>
            <p:cNvSpPr/>
            <p:nvPr/>
          </p:nvSpPr>
          <p:spPr>
            <a:xfrm>
              <a:off x="1271160" y="841320"/>
              <a:ext cx="284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* Note weaker inflow for Doppler due to limited swath data below 1 k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TextBox 13"/>
          <p:cNvSpPr/>
          <p:nvPr/>
        </p:nvSpPr>
        <p:spPr>
          <a:xfrm>
            <a:off x="2976480" y="205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42"/>
          <p:cNvGrpSpPr/>
          <p:nvPr/>
        </p:nvGrpSpPr>
        <p:grpSpPr>
          <a:xfrm>
            <a:off x="60480" y="3657600"/>
            <a:ext cx="9002520" cy="2365200"/>
            <a:chOff x="60480" y="3657600"/>
            <a:chExt cx="9002520" cy="2365200"/>
          </a:xfrm>
        </p:grpSpPr>
        <p:grpSp>
          <p:nvGrpSpPr>
            <p:cNvPr id="111" name="Group 38"/>
            <p:cNvGrpSpPr/>
            <p:nvPr/>
          </p:nvGrpSpPr>
          <p:grpSpPr>
            <a:xfrm>
              <a:off x="60480" y="3657600"/>
              <a:ext cx="2939760" cy="2361960"/>
              <a:chOff x="60480" y="3657600"/>
              <a:chExt cx="2939760" cy="2361960"/>
            </a:xfrm>
          </p:grpSpPr>
          <p:sp>
            <p:nvSpPr>
              <p:cNvPr id="112" name="Rectangle 17"/>
              <p:cNvSpPr/>
              <p:nvPr/>
            </p:nvSpPr>
            <p:spPr>
              <a:xfrm>
                <a:off x="60480" y="3657600"/>
                <a:ext cx="2939760" cy="23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3" name="Picture 2" descr="urcylav_n_deep_27-9-3_coac5.0.gif"/>
              <p:cNvPicPr/>
              <p:nvPr/>
            </p:nvPicPr>
            <p:blipFill>
              <a:blip r:embed="rId2"/>
              <a:stretch/>
            </p:blipFill>
            <p:spPr>
              <a:xfrm>
                <a:off x="64800" y="3801960"/>
                <a:ext cx="2926080" cy="21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Box 21"/>
              <p:cNvSpPr/>
              <p:nvPr/>
            </p:nvSpPr>
            <p:spPr>
              <a:xfrm>
                <a:off x="1740600" y="393840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15.3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Box 4"/>
              <p:cNvSpPr/>
              <p:nvPr/>
            </p:nvSpPr>
            <p:spPr>
              <a:xfrm>
                <a:off x="796680" y="3674520"/>
                <a:ext cx="14382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9"/>
            <p:cNvGrpSpPr/>
            <p:nvPr/>
          </p:nvGrpSpPr>
          <p:grpSpPr>
            <a:xfrm>
              <a:off x="6120000" y="3657600"/>
              <a:ext cx="2943000" cy="2361960"/>
              <a:chOff x="6120000" y="3657600"/>
              <a:chExt cx="2943000" cy="2361960"/>
            </a:xfrm>
          </p:grpSpPr>
          <p:sp>
            <p:nvSpPr>
              <p:cNvPr id="117" name="Rectangle 19"/>
              <p:cNvSpPr/>
              <p:nvPr/>
            </p:nvSpPr>
            <p:spPr>
              <a:xfrm>
                <a:off x="6123240" y="3657600"/>
                <a:ext cx="2939760" cy="23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8" name="Picture 4" descr="urcylav_n_deep_MYJ-27-9-3.gif"/>
              <p:cNvPicPr/>
              <p:nvPr/>
            </p:nvPicPr>
            <p:blipFill>
              <a:blip r:embed="rId3"/>
              <a:stretch/>
            </p:blipFill>
            <p:spPr>
              <a:xfrm>
                <a:off x="6120000" y="3801960"/>
                <a:ext cx="2926080" cy="21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Box 17"/>
              <p:cNvSpPr/>
              <p:nvPr/>
            </p:nvSpPr>
            <p:spPr>
              <a:xfrm>
                <a:off x="7782840" y="394308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24.8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4"/>
              <p:cNvSpPr/>
              <p:nvPr/>
            </p:nvSpPr>
            <p:spPr>
              <a:xfrm>
                <a:off x="6941160" y="368100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41"/>
            <p:cNvGrpSpPr/>
            <p:nvPr/>
          </p:nvGrpSpPr>
          <p:grpSpPr>
            <a:xfrm>
              <a:off x="3079800" y="3660840"/>
              <a:ext cx="2939760" cy="2361960"/>
              <a:chOff x="3079800" y="3660840"/>
              <a:chExt cx="2939760" cy="2361960"/>
            </a:xfrm>
          </p:grpSpPr>
          <p:sp>
            <p:nvSpPr>
              <p:cNvPr id="122" name="Rectangle 20"/>
              <p:cNvSpPr/>
              <p:nvPr/>
            </p:nvSpPr>
            <p:spPr>
              <a:xfrm>
                <a:off x="3079800" y="3660840"/>
                <a:ext cx="2939760" cy="23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3" name="Picture 5" descr="urcylav_n_deep_Young-27-9-3.gif"/>
              <p:cNvPicPr/>
              <p:nvPr/>
            </p:nvPicPr>
            <p:blipFill>
              <a:blip r:embed="rId4"/>
              <a:stretch/>
            </p:blipFill>
            <p:spPr>
              <a:xfrm>
                <a:off x="3079800" y="3828240"/>
                <a:ext cx="2926080" cy="21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Box 19"/>
              <p:cNvSpPr/>
              <p:nvPr/>
            </p:nvSpPr>
            <p:spPr>
              <a:xfrm>
                <a:off x="4734720" y="3941640"/>
                <a:ext cx="823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in -12.2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Box 4"/>
              <p:cNvSpPr/>
              <p:nvPr/>
            </p:nvSpPr>
            <p:spPr>
              <a:xfrm>
                <a:off x="3817080" y="371304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29"/>
          <p:cNvGrpSpPr/>
          <p:nvPr/>
        </p:nvGrpSpPr>
        <p:grpSpPr>
          <a:xfrm>
            <a:off x="4876920" y="1143000"/>
            <a:ext cx="2957400" cy="2367000"/>
            <a:chOff x="4876920" y="1143000"/>
            <a:chExt cx="2957400" cy="2367000"/>
          </a:xfrm>
        </p:grpSpPr>
        <p:pic>
          <p:nvPicPr>
            <p:cNvPr id="127" name="Picture 28" descr="urcylav_n_Real_data.tif"/>
            <p:cNvPicPr/>
            <p:nvPr/>
          </p:nvPicPr>
          <p:blipFill>
            <a:blip r:embed="rId5"/>
            <a:srcRect l="3759" t="0" r="3159" b="5708"/>
            <a:stretch/>
          </p:blipFill>
          <p:spPr>
            <a:xfrm>
              <a:off x="4876920" y="1143000"/>
              <a:ext cx="295740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14"/>
            <p:cNvSpPr/>
            <p:nvPr/>
          </p:nvSpPr>
          <p:spPr>
            <a:xfrm>
              <a:off x="6593400" y="1436400"/>
              <a:ext cx="82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n -12.9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Box 4"/>
            <p:cNvSpPr/>
            <p:nvPr/>
          </p:nvSpPr>
          <p:spPr>
            <a:xfrm>
              <a:off x="5872680" y="119520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Right Arrow 45"/>
          <p:cNvSpPr/>
          <p:nvPr/>
        </p:nvSpPr>
        <p:spPr>
          <a:xfrm flipH="1">
            <a:off x="2286000" y="3076560"/>
            <a:ext cx="457200" cy="921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0000">
              <a:alpha val="39000"/>
            </a:srgbClr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ight Arrow 46"/>
          <p:cNvSpPr/>
          <p:nvPr/>
        </p:nvSpPr>
        <p:spPr>
          <a:xfrm>
            <a:off x="1833480" y="1852560"/>
            <a:ext cx="292320" cy="31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>
              <a:alpha val="30000"/>
            </a:srgbClr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ight Arrow 47"/>
          <p:cNvSpPr/>
          <p:nvPr/>
        </p:nvSpPr>
        <p:spPr>
          <a:xfrm flipH="1">
            <a:off x="2455920" y="2719440"/>
            <a:ext cx="102960" cy="18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>
              <a:alpha val="39000"/>
            </a:srgbClr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ight Arrow 48"/>
          <p:cNvSpPr/>
          <p:nvPr/>
        </p:nvSpPr>
        <p:spPr>
          <a:xfrm>
            <a:off x="2743200" y="2141640"/>
            <a:ext cx="15228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>
              <a:alpha val="30000"/>
            </a:srgbClr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2615040" y="54468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ertical velocity (% of maxim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2900160" y="763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ymmetric vortex-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2"/>
          <p:cNvGrpSpPr/>
          <p:nvPr/>
        </p:nvGrpSpPr>
        <p:grpSpPr>
          <a:xfrm>
            <a:off x="1247760" y="1219320"/>
            <a:ext cx="2959200" cy="2286000"/>
            <a:chOff x="1247760" y="1219320"/>
            <a:chExt cx="2959200" cy="2286000"/>
          </a:xfrm>
        </p:grpSpPr>
        <p:pic>
          <p:nvPicPr>
            <p:cNvPr id="137" name="Picture 3" descr="wcylav_Dopp_norm.tif"/>
            <p:cNvPicPr/>
            <p:nvPr/>
          </p:nvPicPr>
          <p:blipFill>
            <a:blip r:embed="rId1"/>
            <a:stretch/>
          </p:blipFill>
          <p:spPr>
            <a:xfrm>
              <a:off x="1247760" y="1219320"/>
              <a:ext cx="2959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8"/>
            <p:cNvSpPr/>
            <p:nvPr/>
          </p:nvSpPr>
          <p:spPr>
            <a:xfrm>
              <a:off x="2935800" y="1468440"/>
              <a:ext cx="81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x 3.01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4"/>
            <p:cNvSpPr/>
            <p:nvPr/>
          </p:nvSpPr>
          <p:spPr>
            <a:xfrm>
              <a:off x="2333160" y="1228680"/>
              <a:ext cx="659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ppl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5440" y="3733920"/>
            <a:ext cx="9007560" cy="2286000"/>
            <a:chOff x="55440" y="3733920"/>
            <a:chExt cx="9007560" cy="2286000"/>
          </a:xfrm>
        </p:grpSpPr>
        <p:grpSp>
          <p:nvGrpSpPr>
            <p:cNvPr id="141" name="Group 28"/>
            <p:cNvGrpSpPr/>
            <p:nvPr/>
          </p:nvGrpSpPr>
          <p:grpSpPr>
            <a:xfrm>
              <a:off x="55440" y="3733920"/>
              <a:ext cx="2958480" cy="2286000"/>
              <a:chOff x="55440" y="3733920"/>
              <a:chExt cx="2958480" cy="2286000"/>
            </a:xfrm>
          </p:grpSpPr>
          <p:pic>
            <p:nvPicPr>
              <p:cNvPr id="142" name="Picture 5" descr="wcylav_n_27-9-3_coac5.0.tif"/>
              <p:cNvPicPr/>
              <p:nvPr/>
            </p:nvPicPr>
            <p:blipFill>
              <a:blip r:embed="rId2"/>
              <a:stretch/>
            </p:blipFill>
            <p:spPr>
              <a:xfrm>
                <a:off x="55440" y="3733920"/>
                <a:ext cx="2958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Box 17"/>
              <p:cNvSpPr/>
              <p:nvPr/>
            </p:nvSpPr>
            <p:spPr>
              <a:xfrm>
                <a:off x="1761120" y="397044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1.50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Box 4"/>
              <p:cNvSpPr/>
              <p:nvPr/>
            </p:nvSpPr>
            <p:spPr>
              <a:xfrm>
                <a:off x="799920" y="3733920"/>
                <a:ext cx="143820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27-9-3_coac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6104520" y="3733920"/>
              <a:ext cx="2958480" cy="2286000"/>
              <a:chOff x="6104520" y="3733920"/>
              <a:chExt cx="2958480" cy="2286000"/>
            </a:xfrm>
          </p:grpSpPr>
          <p:pic>
            <p:nvPicPr>
              <p:cNvPr id="146" name="Picture 7" descr="wcylav_n_MYJ-27-9-3.tif"/>
              <p:cNvPicPr/>
              <p:nvPr/>
            </p:nvPicPr>
            <p:blipFill>
              <a:blip r:embed="rId3"/>
              <a:stretch/>
            </p:blipFill>
            <p:spPr>
              <a:xfrm>
                <a:off x="6104520" y="3733920"/>
                <a:ext cx="2958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15"/>
              <p:cNvSpPr/>
              <p:nvPr/>
            </p:nvSpPr>
            <p:spPr>
              <a:xfrm>
                <a:off x="7811640" y="397512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2.44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TextBox 4"/>
              <p:cNvSpPr/>
              <p:nvPr/>
            </p:nvSpPr>
            <p:spPr>
              <a:xfrm>
                <a:off x="6949440" y="3740040"/>
                <a:ext cx="120636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MYJ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30"/>
            <p:cNvGrpSpPr/>
            <p:nvPr/>
          </p:nvGrpSpPr>
          <p:grpSpPr>
            <a:xfrm>
              <a:off x="3085200" y="3733920"/>
              <a:ext cx="2958480" cy="2286000"/>
              <a:chOff x="3085200" y="3733920"/>
              <a:chExt cx="2958480" cy="2286000"/>
            </a:xfrm>
          </p:grpSpPr>
          <p:pic>
            <p:nvPicPr>
              <p:cNvPr id="150" name="Picture 8" descr="wcylav_n_Young-27-9-3.tif"/>
              <p:cNvPicPr/>
              <p:nvPr/>
            </p:nvPicPr>
            <p:blipFill>
              <a:blip r:embed="rId4"/>
              <a:stretch/>
            </p:blipFill>
            <p:spPr>
              <a:xfrm>
                <a:off x="3085200" y="3733920"/>
                <a:ext cx="2958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Box 16"/>
              <p:cNvSpPr/>
              <p:nvPr/>
            </p:nvSpPr>
            <p:spPr>
              <a:xfrm>
                <a:off x="4776480" y="3967200"/>
                <a:ext cx="81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Max 1.35 m/s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TextBox 4"/>
              <p:cNvSpPr/>
              <p:nvPr/>
            </p:nvSpPr>
            <p:spPr>
              <a:xfrm>
                <a:off x="3854520" y="3749760"/>
                <a:ext cx="13420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eal_Young-27-9-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1"/>
          <p:cNvGrpSpPr/>
          <p:nvPr/>
        </p:nvGrpSpPr>
        <p:grpSpPr>
          <a:xfrm>
            <a:off x="4952880" y="1219320"/>
            <a:ext cx="2959200" cy="2286000"/>
            <a:chOff x="4952880" y="1219320"/>
            <a:chExt cx="2959200" cy="2286000"/>
          </a:xfrm>
        </p:grpSpPr>
        <p:pic>
          <p:nvPicPr>
            <p:cNvPr id="154" name="Picture 4" descr="wcylav_n_Real_data.tif"/>
            <p:cNvPicPr/>
            <p:nvPr/>
          </p:nvPicPr>
          <p:blipFill>
            <a:blip r:embed="rId5"/>
            <a:stretch/>
          </p:blipFill>
          <p:spPr>
            <a:xfrm>
              <a:off x="4952880" y="1219320"/>
              <a:ext cx="29592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14"/>
            <p:cNvSpPr/>
            <p:nvPr/>
          </p:nvSpPr>
          <p:spPr>
            <a:xfrm>
              <a:off x="6662520" y="1460520"/>
              <a:ext cx="81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ax 1.00 m/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Box 4"/>
            <p:cNvSpPr/>
            <p:nvPr/>
          </p:nvSpPr>
          <p:spPr>
            <a:xfrm>
              <a:off x="5944680" y="1235160"/>
              <a:ext cx="93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_5stor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0:58:34Z</dcterms:created>
  <dc:creator>Robert.Rogers</dc:creator>
  <dc:description/>
  <dc:language>en-US</dc:language>
  <cp:lastModifiedBy>Robert.Rogers</cp:lastModifiedBy>
  <dcterms:modified xsi:type="dcterms:W3CDTF">2011-02-16T15:55:50Z</dcterms:modified>
  <cp:revision>237</cp:revision>
  <dc:subject/>
  <dc:title>Slide 1</dc:title>
</cp:coreProperties>
</file>