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B3FA-5D47-4B71-8382-27F72CF37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CD962E-546E-4B15-9735-DC1AA3907B42}" type="slidenum">
              <a:rPr b="0" lang="en-US" sz="1200" spc="-1" strike="noStrike">
                <a:solidFill>
                  <a:srgbClr val="000000"/>
                </a:solidFill>
                <a:latin typeface="Snap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06C94B-E38E-4273-B339-78D7DEE2B52F}" type="slidenum">
              <a:rPr b="0" lang="en-US" sz="1200" spc="-1" strike="noStrike">
                <a:solidFill>
                  <a:srgbClr val="000000"/>
                </a:solidFill>
                <a:latin typeface="Snap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AAE-B3B4-4A6A-A6FD-7EC25989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1E7-6A42-4B28-9BD9-E2D48360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20C-1FB1-41C3-909D-95CFBDF5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802-50AD-4A43-9369-D259BB69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6618-1E18-4C2B-94B8-96DD2B8F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8BDA-CFB8-4A65-8B55-AECD25E9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173E-9BC6-4037-9015-9E2E639F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F60A-436D-437B-97D6-B0BE6BCB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C9A-0C33-4993-8542-5564372C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019-B035-45C5-8473-590E94A6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4CA-9D57-4AF6-B5A2-6B6D1025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56FC-4C43-4357-9F15-975887DD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8452-A96A-4FF5-96A5-6F67B194F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609480"/>
            <a:ext cx="76960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Experiment Settings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ambria"/>
              </a:rPr>
              <a:t>RMW Control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RMW correction for all cases, 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using both observed 10m wind and minimum MSLP,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and extra 20-80% enhancement of bogus vortex. 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P49 Test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RMW+ROCI correction for TD/TS cases, 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and RMW+R34 correction for hurricane cases, using observed 10m wind but model-consistent min MSLP for V10 &gt; 25 m/s (49 kt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(beta_ct = 1, scale1 = 1)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P34 Test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RMW+ROCI correction for TD/TS cases, 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and RMW+R34 correction for hurricane cases, using observed 10m wind but model-consistent min MSLP for V10 &gt; 34 kt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(beta_ct = 1, scale1 = 1)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kevin.yeh\My Documents\HWRF-IC\Test0\earl2010_rmw_ctrl_tracks.gif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kevin.yeh\My Documents\HWRF-IC\earl2010b\earl2010_p49_test1_tracks.gif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kevin.yeh\My Documents\HWRF-IC\earl2010b\earl2010_p34_test1_tracks.gif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hart 1" descr=""/>
          <p:cNvPicPr/>
          <p:nvPr/>
        </p:nvPicPr>
        <p:blipFill>
          <a:blip r:embed="rId1"/>
          <a:stretch/>
        </p:blipFill>
        <p:spPr>
          <a:xfrm>
            <a:off x="-36360" y="-103320"/>
            <a:ext cx="9186840" cy="70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hart 1" descr=""/>
          <p:cNvPicPr/>
          <p:nvPr/>
        </p:nvPicPr>
        <p:blipFill>
          <a:blip r:embed="rId1"/>
          <a:stretch/>
        </p:blipFill>
        <p:spPr>
          <a:xfrm>
            <a:off x="-36360" y="-103320"/>
            <a:ext cx="9186840" cy="70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hart 1" descr=""/>
          <p:cNvPicPr/>
          <p:nvPr/>
        </p:nvPicPr>
        <p:blipFill>
          <a:blip r:embed="rId1"/>
          <a:stretch/>
        </p:blipFill>
        <p:spPr>
          <a:xfrm>
            <a:off x="-36360" y="-103320"/>
            <a:ext cx="9186840" cy="7064640"/>
          </a:xfrm>
          <a:prstGeom prst="rect">
            <a:avLst/>
          </a:prstGeom>
          <a:ln w="0">
            <a:noFill/>
          </a:ln>
        </p:spPr>
      </p:pic>
      <p:sp>
        <p:nvSpPr>
          <p:cNvPr id="55" name="Oval 2"/>
          <p:cNvSpPr/>
          <p:nvPr/>
        </p:nvSpPr>
        <p:spPr>
          <a:xfrm>
            <a:off x="5334120" y="1143000"/>
            <a:ext cx="2209680" cy="2057400"/>
          </a:xfrm>
          <a:prstGeom prst="ellipse">
            <a:avLst/>
          </a:prstGeom>
          <a:noFill/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457200" y="990720"/>
            <a:ext cx="8001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ad track forecast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 with P34 Test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ak cases are unnaturally intensified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with P34 Test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etter use model-consistent pressure for V10 &gt; 25 m/s (P49 Test) rather than for V10 &gt; 34 kt (P34 Test)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9:35:24Z</dcterms:created>
  <dc:creator>Administrator</dc:creator>
  <dc:description/>
  <dc:language>en-US</dc:language>
  <cp:lastModifiedBy>yeh</cp:lastModifiedBy>
  <cp:lastPrinted>2004-10-29T18:41:29Z</cp:lastPrinted>
  <dcterms:modified xsi:type="dcterms:W3CDTF">2011-02-16T20:55:45Z</dcterms:modified>
  <cp:revision>846</cp:revision>
  <dc:subject/>
  <dc:title>HIGH RESOLUTION fvGCM  RESULTS</dc:title>
</cp:coreProperties>
</file>