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3E71-101F-4C63-993A-F555D7F4E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D5F5-14D7-4AEF-9FB9-8CC34A07C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0CF0-D318-482C-884F-C1A2EE2EE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C5B5-847C-43BC-A0C6-613D1BE7B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2B4CEB-C406-4B45-82C2-222D51B09754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BD6-6285-42B3-B95D-0C864C82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16A-3033-40ED-AE8B-202DFEF2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E97-FB25-41D8-A4AB-F4A4E80F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FE7-E489-456E-8BB8-1CC1FDBD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E232-26CA-4642-9DFA-27080F44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3DF2-091C-4F49-8E8D-06DAC3F9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D37C-0C79-49B9-B243-959B8B0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2FCE-A926-4801-AC49-61B2E04F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69F7-18F8-4D0F-B96C-A0AF39EC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4232-6A06-4FC3-95D8-3AD3D797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9EBA-9551-412C-91B9-FC071C00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10D-E723-4D17-8CA1-8616E617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CBAD-F635-4930-84F7-D5B74090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312E-F59A-4A90-830A-C8651104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AB0F-42F0-462A-B70A-44AB6869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CF6B-D72D-406B-A26C-635AB2EB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7F02-BC91-4C5D-801B-B3781505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9C07-9C0C-48E9-93D4-A9483369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1ED3-7FAE-4EAF-A5FB-622B3496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DEACA-1CD3-400C-BB49-E45068E9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0941-099A-4F4E-A184-D4C1E4CA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6C43-596F-44A0-811F-2CDC0D98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473-4DED-49B2-B4E6-3E067AC9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E90E9-A8CB-4441-9F3E-D2A27730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5C6FB-4D59-4F82-B929-14BA7A8D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A8584-6C35-468E-966C-790BBB01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F1E65-8EF3-4D16-8889-E7ECD01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5D7F6-9526-4DFF-BB54-7DEBE912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4639E-BA3B-4A6B-A739-5A931C68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B55E-1BD9-49AC-B5B5-F09DDF16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C919E-D84D-46F6-AFFB-E2CCF600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D49B1-F3F7-4901-998B-86CC639A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F2192-0396-4C3D-9469-C8DADECE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88B-9B69-40D0-B976-189C5DAD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1BD53-C1EA-4020-AAFE-FBC5BB98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0B212-1A28-4350-8B1C-869FD514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6781E2-CF22-44AB-97DC-5400F290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AA1E1-7B33-49D7-A997-409C5F05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372E7E-5378-4D16-9BD4-6DC98B7F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443ED-6191-4CE2-B742-C6859FE0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08C79-99EF-43D1-9F2C-75D539E6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1E925-3C1D-4416-B6D0-92DF43E1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74B66-E128-442E-96D3-8892C530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500-7DF7-4BEF-8200-D40E08B7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287-FB02-4C97-9030-A7D9D1FA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6F8-59CE-4C37-A02B-429F612F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456-AAC2-4248-A389-963F5E38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EC8-0D46-45DA-A88B-4AAD40E2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2A9A-FEC1-42DE-831F-B93466E7E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F3EC-62C8-429A-BDA0-E81C6D99D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/11/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00A3-278A-45E2-9BF3-27772D86B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26CA-2089-4FEC-865C-98B7BD1544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rm-Size Correction f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WRF Vortex Initialization</a:t>
            </a:r>
            <a:br>
              <a:rPr sz="3200"/>
            </a:br>
            <a:br>
              <a:rPr sz="2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vin Yeh</a:t>
            </a:r>
            <a:br>
              <a:rPr sz="2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MAS/UM &amp; HRD/AOM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ami, Florida</a:t>
            </a:r>
            <a:br>
              <a:rPr sz="2400"/>
            </a:br>
            <a:br>
              <a:rPr sz="2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ion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C/NCEP &amp; HRD/AOM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October 2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2010)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omposite_t1"/>
          <p:cNvPicPr/>
          <p:nvPr/>
        </p:nvPicPr>
        <p:blipFill>
          <a:blip r:embed="rId1"/>
          <a:srcRect l="9000" t="0" r="0" b="6003"/>
          <a:stretch/>
        </p:blipFill>
        <p:spPr>
          <a:xfrm>
            <a:off x="1104840" y="743040"/>
            <a:ext cx="69343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omposite_mix1"/>
          <p:cNvPicPr/>
          <p:nvPr/>
        </p:nvPicPr>
        <p:blipFill>
          <a:blip r:embed="rId1"/>
          <a:srcRect l="9000" t="0" r="0" b="6003"/>
          <a:stretch/>
        </p:blipFill>
        <p:spPr>
          <a:xfrm>
            <a:off x="1104840" y="743040"/>
            <a:ext cx="69343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8" descr="HWRF_high_level_initialization_overview_withGSI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60962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6"/>
          <p:cNvSpPr/>
          <p:nvPr/>
        </p:nvSpPr>
        <p:spPr>
          <a:xfrm>
            <a:off x="5638680" y="4191120"/>
            <a:ext cx="2286000" cy="13107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gus vorte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used to modify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WRF vorte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nhance spin-up proc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previous forecast is weaker than observation.</a:t>
            </a:r>
            <a:endParaRPr b="0" lang="en-US" sz="16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6"/>
          <p:cNvSpPr/>
          <p:nvPr/>
        </p:nvSpPr>
        <p:spPr>
          <a:xfrm>
            <a:off x="685800" y="533520"/>
            <a:ext cx="373392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gus Vortex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mposite Storm)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xisymmetric U, V, Ps, T, r)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-Generated Prototype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ter Than Original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hance Spin-up Process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</p:txBody>
      </p:sp>
      <p:pic>
        <p:nvPicPr>
          <p:cNvPr id="176" name="Picture 2" descr="composite_uv1"/>
          <p:cNvPicPr/>
          <p:nvPr/>
        </p:nvPicPr>
        <p:blipFill>
          <a:blip r:embed="rId1"/>
          <a:srcRect l="9000" t="0" r="0" b="6003"/>
          <a:stretch/>
        </p:blipFill>
        <p:spPr>
          <a:xfrm>
            <a:off x="4724280" y="152280"/>
            <a:ext cx="4160880" cy="322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omposite_t1"/>
          <p:cNvPicPr/>
          <p:nvPr/>
        </p:nvPicPr>
        <p:blipFill>
          <a:blip r:embed="rId2"/>
          <a:srcRect l="9000" t="0" r="0" b="6003"/>
          <a:stretch/>
        </p:blipFill>
        <p:spPr>
          <a:xfrm>
            <a:off x="4724280" y="3429000"/>
            <a:ext cx="4160880" cy="322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omposite_mix1"/>
          <p:cNvPicPr/>
          <p:nvPr/>
        </p:nvPicPr>
        <p:blipFill>
          <a:blip r:embed="rId3"/>
          <a:srcRect l="9000" t="0" r="0" b="6003"/>
          <a:stretch/>
        </p:blipFill>
        <p:spPr>
          <a:xfrm>
            <a:off x="457200" y="3429000"/>
            <a:ext cx="4160880" cy="322272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24" descr=""/>
          <p:cNvPicPr/>
          <p:nvPr/>
        </p:nvPicPr>
        <p:blipFill>
          <a:blip r:embed="rId4"/>
          <a:stretch/>
        </p:blipFill>
        <p:spPr>
          <a:xfrm>
            <a:off x="4645080" y="378000"/>
            <a:ext cx="377640" cy="62208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25" descr=""/>
          <p:cNvPicPr/>
          <p:nvPr/>
        </p:nvPicPr>
        <p:blipFill>
          <a:blip r:embed="rId5"/>
          <a:stretch/>
        </p:blipFill>
        <p:spPr>
          <a:xfrm>
            <a:off x="4645080" y="3651120"/>
            <a:ext cx="377640" cy="62244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 26" descr=""/>
          <p:cNvPicPr/>
          <p:nvPr/>
        </p:nvPicPr>
        <p:blipFill>
          <a:blip r:embed="rId6"/>
          <a:stretch/>
        </p:blipFill>
        <p:spPr>
          <a:xfrm>
            <a:off x="378000" y="3651120"/>
            <a:ext cx="3776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m-Size Correction with Smooth Stre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3200400" y="1752480"/>
                <a:ext cx="20574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9"/>
              <p:cNvSpPr txBox="1"/>
              <p:nvPr/>
            </p:nvSpPr>
            <p:spPr>
              <a:xfrm>
                <a:off x="914400" y="1676520"/>
                <a:ext cx="1981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Δ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4"/>
              <p:cNvSpPr txBox="1"/>
              <p:nvPr/>
            </p:nvSpPr>
            <p:spPr>
              <a:xfrm>
                <a:off x="914400" y="2590920"/>
                <a:ext cx="2016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6"/>
              <p:cNvSpPr txBox="1"/>
              <p:nvPr/>
            </p:nvSpPr>
            <p:spPr>
              <a:xfrm>
                <a:off x="3200400" y="2590920"/>
                <a:ext cx="2184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5" name="Group 40"/>
          <p:cNvGrpSpPr/>
          <p:nvPr/>
        </p:nvGrpSpPr>
        <p:grpSpPr>
          <a:xfrm>
            <a:off x="228600" y="3733920"/>
            <a:ext cx="8458200" cy="914400"/>
            <a:chOff x="228600" y="3733920"/>
            <a:chExt cx="8458200" cy="914400"/>
          </a:xfrm>
        </p:grpSpPr>
        <p:grpSp>
          <p:nvGrpSpPr>
            <p:cNvPr id="196" name="Group 21"/>
            <p:cNvGrpSpPr/>
            <p:nvPr/>
          </p:nvGrpSpPr>
          <p:grpSpPr>
            <a:xfrm>
              <a:off x="228600" y="3733920"/>
              <a:ext cx="8458200" cy="838440"/>
              <a:chOff x="228600" y="3733920"/>
              <a:chExt cx="8458200" cy="838440"/>
            </a:xfrm>
          </p:grpSpPr>
          <p:sp>
            <p:nvSpPr>
              <p:cNvPr id="197" name="AutoShape 22"/>
              <p:cNvSpPr/>
              <p:nvPr/>
            </p:nvSpPr>
            <p:spPr>
              <a:xfrm>
                <a:off x="228600" y="3733920"/>
                <a:ext cx="845820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198" name="Line 23"/>
              <p:cNvSpPr/>
              <p:nvPr/>
            </p:nvSpPr>
            <p:spPr>
              <a:xfrm flipV="1">
                <a:off x="948240" y="4236840"/>
                <a:ext cx="7198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199" name="Line 24"/>
              <p:cNvSpPr/>
              <p:nvPr/>
            </p:nvSpPr>
            <p:spPr>
              <a:xfrm>
                <a:off x="948240" y="4069800"/>
                <a:ext cx="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0" name="Line 25"/>
              <p:cNvSpPr/>
              <p:nvPr/>
            </p:nvSpPr>
            <p:spPr>
              <a:xfrm>
                <a:off x="2028240" y="4069800"/>
                <a:ext cx="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1" name="Line 26"/>
              <p:cNvSpPr/>
              <p:nvPr/>
            </p:nvSpPr>
            <p:spPr>
              <a:xfrm>
                <a:off x="2747880" y="4068720"/>
                <a:ext cx="108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2" name="Line 27"/>
              <p:cNvSpPr/>
              <p:nvPr/>
            </p:nvSpPr>
            <p:spPr>
              <a:xfrm>
                <a:off x="5627160" y="4069800"/>
                <a:ext cx="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3" name="Line 28"/>
              <p:cNvSpPr/>
              <p:nvPr/>
            </p:nvSpPr>
            <p:spPr>
              <a:xfrm>
                <a:off x="7067160" y="4069800"/>
                <a:ext cx="108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4" name="Object 32"/>
                <p:cNvSpPr txBox="1"/>
                <p:nvPr/>
              </p:nvSpPr>
              <p:spPr>
                <a:xfrm>
                  <a:off x="1904760" y="4267440"/>
                  <a:ext cx="2584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Object 31"/>
                <p:cNvSpPr txBox="1"/>
                <p:nvPr/>
              </p:nvSpPr>
              <p:spPr>
                <a:xfrm>
                  <a:off x="2620800" y="4267440"/>
                  <a:ext cx="269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Object 30"/>
                <p:cNvSpPr txBox="1"/>
                <p:nvPr/>
              </p:nvSpPr>
              <p:spPr>
                <a:xfrm>
                  <a:off x="5486400" y="4267440"/>
                  <a:ext cx="357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Object 29"/>
                <p:cNvSpPr txBox="1"/>
                <p:nvPr/>
              </p:nvSpPr>
              <p:spPr>
                <a:xfrm>
                  <a:off x="6934320" y="4267440"/>
                  <a:ext cx="368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37"/>
                <p:cNvSpPr txBox="1"/>
                <p:nvPr/>
              </p:nvSpPr>
              <p:spPr>
                <a:xfrm>
                  <a:off x="867960" y="4320000"/>
                  <a:ext cx="19836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209" name="Straight Arrow Connector 31"/>
            <p:cNvCxnSpPr/>
            <p:nvPr/>
          </p:nvCxnSpPr>
          <p:spPr>
            <a:xfrm flipH="1" flipV="1">
              <a:off x="2132640" y="41144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</p:cxnSp>
        <p:cxnSp>
          <p:nvCxnSpPr>
            <p:cNvPr id="210" name="Straight Arrow Connector 33"/>
            <p:cNvCxnSpPr/>
            <p:nvPr/>
          </p:nvCxnSpPr>
          <p:spPr>
            <a:xfrm flipH="1" flipV="1">
              <a:off x="5790600" y="4114440"/>
              <a:ext cx="114372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</p:cxnSp>
        <p:sp>
          <p:nvSpPr>
            <p:cNvPr id="211" name="TextBox 38"/>
            <p:cNvSpPr/>
            <p:nvPr/>
          </p:nvSpPr>
          <p:spPr>
            <a:xfrm>
              <a:off x="1600200" y="37339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RMW)</a:t>
              </a:r>
              <a:endParaRPr b="0" lang="en-US" sz="1400" spc="-1" strike="noStrike">
                <a:solidFill>
                  <a:srgbClr val="000000"/>
                </a:solidFill>
                <a:latin typeface="Snap ITC"/>
              </a:endParaRPr>
            </a:p>
          </p:txBody>
        </p:sp>
        <p:sp>
          <p:nvSpPr>
            <p:cNvPr id="212" name="TextBox 39"/>
            <p:cNvSpPr/>
            <p:nvPr/>
          </p:nvSpPr>
          <p:spPr>
            <a:xfrm>
              <a:off x="5181480" y="37339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ROCI)</a:t>
              </a:r>
              <a:endParaRPr b="0" lang="en-US" sz="1400" spc="-1" strike="noStrike">
                <a:solidFill>
                  <a:srgbClr val="000000"/>
                </a:solidFill>
                <a:latin typeface="Snap ITC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3" name="Object 36"/>
              <p:cNvSpPr txBox="1"/>
              <p:nvPr/>
            </p:nvSpPr>
            <p:spPr>
              <a:xfrm>
                <a:off x="5715000" y="1876320"/>
                <a:ext cx="9144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r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7"/>
              <p:cNvSpPr txBox="1"/>
              <p:nvPr/>
            </p:nvSpPr>
            <p:spPr>
              <a:xfrm>
                <a:off x="5638680" y="2743200"/>
                <a:ext cx="2098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/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/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TextBox 37"/>
          <p:cNvSpPr/>
          <p:nvPr/>
        </p:nvSpPr>
        <p:spPr>
          <a:xfrm>
            <a:off x="838080" y="5029200"/>
            <a:ext cx="762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urrently using only RMW (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= constant): lacks of horizontal structure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-level pressure adjustment with gradient wind stream fun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838080" y="27432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erature adjustment with hydrostatic assumption: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4"/>
              <p:cNvSpPr txBox="1"/>
              <p:nvPr/>
            </p:nvSpPr>
            <p:spPr>
              <a:xfrm>
                <a:off x="2057400" y="3505320"/>
                <a:ext cx="5029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ΓΔ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ΔT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Δp</m:t>
                    </m:r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2"/>
          <p:cNvSpPr/>
          <p:nvPr/>
        </p:nvSpPr>
        <p:spPr>
          <a:xfrm>
            <a:off x="838080" y="4343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isture adjustment with unchanged relative humidity: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143000" y="5029200"/>
                <a:ext cx="3200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q</m:t>
                    </m:r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q</m:t>
                    </m:r>
                    <m:r>
                      <m:t xml:space="preserve">≈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4495680" y="5029200"/>
                <a:ext cx="35053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914400" y="1676520"/>
                <a:ext cx="1457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p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Δp</m:t>
                    </m:r>
                    <m:f>
                      <m:num>
                        <m:sSup>
                          <m:e>
                            <m:r>
                              <m:t xml:space="preserve">ψ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2514600" y="1600200"/>
                <a:ext cx="2286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ψ</m:t>
                        </m:r>
                      </m:e>
                      <m:sup/>
                    </m:s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∞</m:t>
                        </m:r>
                      </m:sub>
                      <m:sup>
                        <m:sSup>
                          <m:e>
                            <m:r>
                              <m:t xml:space="preserve">r</m:t>
                            </m:r>
                          </m:e>
                          <m:sup/>
                        </m:sSup>
                      </m:sup>
                      <m:e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/>
                            </m:sSup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</m:e>
                    </m:nary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  <m:sup/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1"/>
              <p:cNvSpPr txBox="1"/>
              <p:nvPr/>
            </p:nvSpPr>
            <p:spPr>
              <a:xfrm>
                <a:off x="4952880" y="1600200"/>
                <a:ext cx="3353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∞</m:t>
                        </m:r>
                      </m:sub>
                      <m:sup>
                        <m:sSup>
                          <m:e>
                            <m:r>
                              <m:t xml:space="preserve">r</m:t>
                            </m:r>
                          </m:e>
                          <m:sup/>
                        </m:sSup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/>
                            </m:sSup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/>
                                </m:sSup>
                              </m:den>
                            </m:f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/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/>
                                </m:sSup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/>
                            </m:sSup>
                            <m:r>
                              <m:t xml:space="preserve">)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p/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Chart 3" descr=""/>
          <p:cNvPicPr/>
          <p:nvPr/>
        </p:nvPicPr>
        <p:blipFill>
          <a:blip r:embed="rId1"/>
          <a:stretch/>
        </p:blipFill>
        <p:spPr>
          <a:xfrm>
            <a:off x="-36360" y="-6480"/>
            <a:ext cx="91868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Chart 3" descr=""/>
          <p:cNvPicPr/>
          <p:nvPr/>
        </p:nvPicPr>
        <p:blipFill>
          <a:blip r:embed="rId1"/>
          <a:stretch/>
        </p:blipFill>
        <p:spPr>
          <a:xfrm>
            <a:off x="-36360" y="-6480"/>
            <a:ext cx="91868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457200"/>
            <a:ext cx="792468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WRF 3.2 has been ported to Jet computer system with </a:t>
            </a:r>
            <a:r>
              <a:rPr b="0" lang="en-US" sz="2400" spc="-1" strike="noStrike">
                <a:solidFill>
                  <a:srgbClr val="3333cc"/>
                </a:solidFill>
                <a:latin typeface="Cambria"/>
              </a:rPr>
              <a:t>operational model configura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including GSI and POM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licated operational scripts are still buggy on Jet, more works are needed to ensure correct job execution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Implement smooth 2-parameter storm-size correction for both bogus and recycled vortic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Mini sensitivity test of new storm-size correction with Ana and Bill (2009) on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  <a:ea typeface="MS Mincho"/>
              </a:rPr>
              <a:t>false alarm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 and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  <a:ea typeface="MS Mincho"/>
              </a:rPr>
              <a:t>intensifica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Benchmark with 2008, 2009, 2010 storms as possible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ysical parameterization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omposite_uv1"/>
          <p:cNvPicPr/>
          <p:nvPr/>
        </p:nvPicPr>
        <p:blipFill>
          <a:blip r:embed="rId1"/>
          <a:srcRect l="9000" t="0" r="0" b="6003"/>
          <a:stretch/>
        </p:blipFill>
        <p:spPr>
          <a:xfrm>
            <a:off x="1104840" y="743040"/>
            <a:ext cx="69343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yeh</cp:lastModifiedBy>
  <cp:lastPrinted>2004-10-29T18:41:29Z</cp:lastPrinted>
  <dcterms:modified xsi:type="dcterms:W3CDTF">2010-10-20T21:53:49Z</dcterms:modified>
  <cp:revision>480</cp:revision>
  <dc:subject/>
  <dc:title>HIGH RESOLUTION fvGCM  RESULTS</dc:title>
</cp:coreProperties>
</file>