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322-FB72-4ACE-ADDD-514D632B0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DBDB-68BB-4EAB-9BE7-ADDCE5F06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4C71-8229-48F8-8675-7C72F841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780E7-54DF-4B24-950B-6BB50A2FE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DEA3-642D-48CB-ABC8-A45A8BE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92C6A-B946-4CF1-BDCD-253375D8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E901C-373D-463B-AF2D-DB94E74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4A37CD-4D38-42CF-8EAC-57F6DCA7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BD3D57-57A1-4DD3-A061-3FAA3C92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BCA82D-5A59-49C9-8450-A849D2E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B07D87-6FEA-48E3-95F4-FCE7D2B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1F99B-DF94-480A-A247-F03BB153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9735C-D69A-427C-9710-34106544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EF2D27-9EE1-431E-8239-75266277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9BE729-EFB0-481F-A367-C382D0B8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5E90-0904-47D3-BB81-EC2DF3D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E081FA-46C3-4F5D-BE16-C33B362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A7D6C7-A172-498F-8CA1-680D54A3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30F1B-255F-4CD0-B2FB-1C22A370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0A567-AEA6-4F95-BCD5-0465FECB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E54BDD-0D11-4E4C-B338-D93D1155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9C9DEB-E1BC-4EC0-8A2B-AF82DDE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0844CE-22EA-45DC-8847-70FB4EF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9D383D-3685-4C97-8B61-BE193A6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93CCB7-FAC3-47DF-AF51-EB3372F0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A2994D-9312-4BCF-BA29-990DFA23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17B1-8730-4B25-A61F-675DBE215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6AB710-AA41-4B9D-AC9C-40A3748B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C39027-2C39-48A1-AF76-FD627959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BF98EC-C493-402C-971B-03CFAFED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14F1B0-32B9-46C9-943F-24AE7E34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260211-6337-4461-85EE-5D046F5C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B6177B-0021-44CC-BAA1-24BF9B9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FEB6F9-2D76-4123-886C-7202D33C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EF982-606A-4363-A3DE-1724E04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A8734B-789C-4E0D-8F48-5C879165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0CBF2-F0C0-4A05-A441-94A766C2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4574C-98E8-4274-9EF3-6F39CEB8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F6BB0F-2097-48B1-A11E-6E3A93C4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68C3EB-C4AC-4428-BD89-82AD82D3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17E93-C3F0-47B1-9FDD-EC4AFA50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E9560F-A1DE-47DA-83E1-DF98FEE9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BC9246-E80F-4D94-BC3D-A1C66A63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5D8AA8-DC67-44E5-90BA-51D1127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3957E-068C-41A5-81F6-60FA720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4D8290-8CAA-44A9-B194-9B7DFBB1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387FF2-CA30-4795-A25D-5265B00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E60BD3-E25B-42CB-ADB7-19F444E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7313-682A-4A33-8DAB-8723A523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10447B-9CE7-468E-9F3D-F44BC5F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027091-DD2C-438D-A9C3-32E74AE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74EFC2-6405-4767-841B-197EE15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AFB2F0-6DA2-4D38-8EF1-97DA7B79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1D4492-FE3C-4A4F-BB4D-7F1AD24D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FB20-93D9-4809-A9C3-1B260D77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F6260-8FDC-40DB-B715-5D2E4EA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8CBCE-4E63-4210-8BC7-C2432658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C62F6-1613-43B1-AF5A-D436B57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8FF1-C1F4-43D6-95DC-F9C7914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10B6-3312-4EE0-8571-D1A40C8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F9729-41BA-4404-8469-ADF5514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7304D-532D-4EE1-A271-C2EE48A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CFD2E-88CC-49A6-BC31-7D442911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68904-9161-4F47-9D3E-F2B89CAA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31554-745A-4689-B264-636FF870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C55E1-9590-433E-AB41-A523A7CC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3FD8B-BA3F-481C-8621-8A28CB5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B865A-1E64-4A8F-AAAF-1A48C945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8AF36-6EFA-4665-85BA-F1639C0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7244D-DFA7-48E3-9C3E-B21E9E21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E61E5-CEE4-49FE-A788-45B16613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2D8BE-30D0-4AF4-8212-7DD29B6E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79367-6344-42BA-99D1-52788646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F8A57-E9E6-4D57-884C-CF9EA0E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02A2E-9960-4F27-BF80-5C8B07E7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355F0-3884-49F6-8898-7B371F3A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E2B9B-F54B-41FE-ABE9-A6FE8C0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0B250-5418-4BFC-AE9C-1DA3DB84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83705-03A2-4CE7-AAAD-EB732BB2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50D66-E346-45DA-AC42-1C262E9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7318D-FF6F-41C3-BC90-9C0B30B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5FFC-4CAB-44C9-9B52-A4312BE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12F9A-B707-427D-AF43-C23DAA66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DBA27-0DC7-4335-BC83-04CDB70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D0648-D68A-44CF-8105-0897D216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8CCFC-38EA-462F-BCF1-3EBF5E0D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8FBA8-B655-45BB-BC80-BA9C7688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11F78-8C2F-4DFF-8359-5D8CAF9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38537-F9D6-406B-8005-FF3AF6A0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1163D-4F54-4A6E-B3C7-88A02CD1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78E81-ADA4-442A-AFCA-D8D21222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31288-8A94-428E-BD67-DCF29B72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8CBF-55C4-4513-98B6-C13B7940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F859F-4EE0-4A41-A9F1-1770A874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4B89A-87C7-483D-9F68-C474D87B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09162-8D1D-4C8A-A55F-209499E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C44C2-BD86-4E5A-8747-7B5E78F4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74207-2488-4B49-80B6-1471532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C0C4A-34F9-471B-9B1A-296D40E3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369EA-C34A-4305-A51D-83390DCA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FE5A4-CFF9-475B-8DF4-C3A3885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4316A-903E-43FF-B3D7-65835D1A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C1622-2AE2-4384-8DE0-8F59E72E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ABF1-2298-4B2A-A8C3-00C0E37D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3D28B-8E7B-4FA3-B05C-941C60EB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2E96D-0AC4-4825-8408-D235AE46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EC21B-2532-45B1-B697-B6C0E0B7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7240B-13A4-4E25-B52A-6E7C621B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B7F6FE-2A34-4173-BA96-CEF20E3C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1660C-3602-403E-A4CA-94811B7F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6EE54-627B-422F-A869-D377572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FF9B7-AB45-4630-87D1-18B97C78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15D51-BEE3-48D7-905C-900A9EF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B7D67-4A9B-428A-91BF-E8EB1F6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1450-A76D-4C57-9597-907EA762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CAF6F-9938-4E00-BCA1-0EDAB64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E8FFD-FBB4-4A15-B5D1-ADE6D4C8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5B5A7-8A5D-4341-8925-ABB00B24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AB4BF-FF5E-49F2-BB67-A41AE896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20FD9-4A8E-4A6C-9167-E4AE21FA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C878-D967-4B6C-8888-E4EB85C1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F831C-CC4F-4E8B-8A21-54E972D8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1E260-02B5-449B-8D18-C422954C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8D563-1EFF-4E3B-86A5-41576243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CDE3F-FF81-436F-BC7F-F4AF8C25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1D0C-70EB-4A3A-97B6-444380C5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9C4FC-2614-4935-9638-0428385D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609FB-E1DC-4CC0-B493-B91670CB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F47FBA-15E6-4797-85B2-C687E38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40F36-99B9-4D23-A15C-9446B907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CBBAC-9BB2-4CCD-9391-32ACC39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97645E-AC8C-423E-B6C6-8EEC9943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C8C53-235E-4706-8A0C-8FABF07E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13DAC-FEF5-4191-9D3D-A28295B7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FF573-302C-4D5D-A0E7-A24DFD6B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818DA0-9CE5-44E0-AD45-3020206F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8987E-79D4-4E96-9637-416E33B8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C603C-8685-4953-9709-EE7D60CB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462DC-7CBD-4DFF-838F-E1688619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1A90B-1EF7-47AB-A31F-7A71951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B1A05-0784-4AAE-998A-5A8716B3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08273-59D2-4B20-97E6-B19DA7C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F038C-3E74-4F6F-8A34-147EC797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A89E2-9477-480D-9672-8C8AB9CF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3E33C-C028-4520-8687-988382A9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36427F-01C3-471A-824B-FAA2C2EF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3FC4B-54B9-4767-A128-9BBF1FD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442B-8BBD-4C21-9735-2F53F2C850E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74A5-1FC0-4997-B227-818A27B4C4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013-ACE9-48D0-9E16-FA24182CB12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50C4-BB27-4509-B569-6CDA43A024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2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6005-6187-4103-8094-109559B54EC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982-B82A-48A4-B100-BCB2278671C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65C-089D-44E0-9C63-C1CC35659BB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A83-E467-4358-B8CD-12B6AA4179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BA3E-BF69-47A3-A30C-E482F6B8621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3F5-9FE6-41A3-8386-6D44540906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9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69C3-9C77-4516-B275-071782BC4C9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3820-B169-44C3-8B90-02D464118A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4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5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7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7CE1-3F1C-4C37-90D7-8AB8F2992B3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9DB8-C108-48F1-8EA9-AA6B4103CFE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3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D3A-A5A1-47EF-81CA-2C739375089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0A3F-46C6-459F-84DF-EA4E525448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7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7045-F1C5-44C8-ABB4-2D6F1388EB5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5167-BE98-4301-B9E4-C41BEFB268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7B7-AFD5-4CA4-9CE7-551377483BA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805-8DB6-4B7A-BA94-19BD2BDDD8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0A17-5D38-4329-8FC9-E0ACDC596C2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F93-FB90-498B-837E-D8C8ED06F4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B16-E4E6-4DB0-B5C0-F6BC9CB35F0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4734-91ED-4704-A16A-6CBC544790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rricane activities at DTC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last 2 month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46" name="Picture 4" descr="dtc_wordmark_pms203.jpg"/>
          <p:cNvPicPr/>
          <p:nvPr/>
        </p:nvPicPr>
        <p:blipFill>
          <a:blip r:embed="rId1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Status report by the Developmental Testbed Cen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Ligia Bernarde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Subtitle 2"/>
          <p:cNvSpPr/>
          <p:nvPr/>
        </p:nvSpPr>
        <p:spPr>
          <a:xfrm>
            <a:off x="3048120" y="5943600"/>
            <a:ext cx="591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Perpetua"/>
              </a:rPr>
              <a:t>HRD Modeling Meeting, October 21 2010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mmunity Code and Support - I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0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90EB-D12A-4B02-8DFE-E81E9E0F62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lementing new tracker code from Tim Marchok (received 10/2010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2010 operational capability to WRF repository (R2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ed planning for Hurricane Tutorial in April 201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F release v3.3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 of GSI compon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mmunity Code and Support - II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DEC6-E269-4716-BC19-2400DEB528A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olled tests of HWRF using WRF v3.2 and v3.2.1 led to exposure of several bug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F v3.2.1 would not compile for HWRF on certain platforms.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 Fix by DT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PS v3.2.1 could not run with binary I/O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DT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vement of the nest had a problem leading to stripes in the forecast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EM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WD was not active when binary I/O was used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EM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run with a nest, HWRF does not produce same results when number of processors is changed. Differences are very small at the beginning (orde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K)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Not fix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8" descr="stripes.jpg"/>
          <p:cNvPicPr/>
          <p:nvPr/>
        </p:nvPicPr>
        <p:blipFill>
          <a:blip r:embed="rId1"/>
          <a:stretch/>
        </p:blipFill>
        <p:spPr>
          <a:xfrm>
            <a:off x="2362320" y="1219320"/>
            <a:ext cx="2857320" cy="5249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xample of stripes bu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82B2-88B0-4DE3-A092-1F7B000B41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Increments to njet testing infrastructure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131C-EB1B-443E-86E4-77493D0950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Content Placeholder 3"/>
          <p:cNvSpPr/>
          <p:nvPr/>
        </p:nvSpPr>
        <p:spPr>
          <a:xfrm>
            <a:off x="609480" y="1295280"/>
            <a:ext cx="7162920" cy="44960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Community GSI v2.0 to testing suite. Reported and fixed several GSI bugs in the proc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capability to run HWRF off GFS spectral forecast (prep_hybrid). Fixed a few bugs in the proc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sted on several c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Testing Activiti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1E6-88E7-4938-8A5E-DF158A5E8B7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ducted R2’ test on vapor (400 cas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oal: qualify the various changes done by DTC to vortex initialization code (bug fixes and platform generalizations) for 2011 implement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utcome: pas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extended regression tes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F4E-DFF7-4379-AFAE-0709CA934B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tect unintended changes in HWRF forecast due to evolution of code in  community repositori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ssure that only intended changes are taking place. Especially important for WRF repository since there are a  large number of developers. 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rrect problems in a timely manner by identifying problems earl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llow EMC to rely on Community code for testing and operation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uild an automated framework around the model, providing the ability to perform regression tests on all stages of the model.     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build, run and result information are stored in an easy-to-query database so as historical sets can be retrieve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extended reg test RESUL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72E3-ADDC-45B7-B3CC-6A9163AE81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914400" y="1600200"/>
          <a:ext cx="7772400" cy="340344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  <a:gridCol w="16765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capabilities added to WRF re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Beta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with WRF 3.2p: v3.2 plus known patches  as of 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1 (2010 baseline) added to WRF repository (r4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1 (r4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11p: v3.2.1 plus known patches as of 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11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2 (2010 operational) added to WRF repository (r44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urrent top of re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TextBox 5"/>
          <p:cNvSpPr/>
          <p:nvPr/>
        </p:nvSpPr>
        <p:spPr>
          <a:xfrm>
            <a:off x="1066680" y="5334120"/>
            <a:ext cx="7391520" cy="1191240"/>
          </a:xfrm>
          <a:prstGeom prst="rect">
            <a:avLst/>
          </a:prstGeom>
          <a:noFill/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tests performed for cold start Gustav 2008082718, 5-day forecast, on jet/Intel, with NetCDF I/O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uture tests will expand to other platforms and I/O formats, and include cycling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Upcoming activiti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84AD-205E-4056-A0A8-C358737182F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and community code to contain HWRF 2011 baselin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un 2011 baseline configuration on jet 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ify DTC testing platfor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reate a benchmark (Reference Configuration) of community co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 of HYCOM to DTC Testing sui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run of baseline using HY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2:37:49Z</dcterms:created>
  <dc:creator>nance</dc:creator>
  <dc:description/>
  <dc:language>en-US</dc:language>
  <cp:lastModifiedBy>xzhang</cp:lastModifiedBy>
  <cp:lastPrinted>2010-08-18T18:03:21Z</cp:lastPrinted>
  <dcterms:modified xsi:type="dcterms:W3CDTF">2010-10-21T08:11:28Z</dcterms:modified>
  <cp:revision>187</cp:revision>
  <dc:subject/>
  <dc:title>Task Title</dc:title>
</cp:coreProperties>
</file>