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5B0-601F-4306-91C1-52EC385F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3D8-D37C-4C28-A5E1-C9BA0A20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205-FE46-4FC2-A892-9CFB9021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D97-1AC7-4469-96E3-87987B43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875-3D74-4FF6-9D20-06AA2472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9D3-D688-46BF-AAAD-AC097EB1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EFE-DD1B-43C2-B874-653032CA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74C-8440-423E-ADF8-DCCA65B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9B1-E5E1-4A69-99A3-65278A1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5C8-8457-4E1D-9ACF-9F0BE67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CA9-8958-4ABB-A1EE-895E68F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3D6-5512-4926-A877-532DA10C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4734-EF63-4CDD-AAED-12948646E5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0621-0FB0-47BC-9C24-03843933A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RFv3.2 status update in H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RD Modeling Group and Collabo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de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has provided the new nesting code to EMC and EMC has merged the code in the repository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C has provided a repository code (Jet- version) to HRD including all operation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can obtain up-to-date code from EMC repository code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de running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C has put an operational version on jet and tested successfully at 9-3km and 27-9km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has independently tested it, and confirmed all functions were working. The results has not been further evalu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going Projects with v3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is working on several pro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rtex Initialization improv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nest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-sea interaction and surface process diagno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Nest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RD have run 27-9-3km configuration on jet with v3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 siz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utmost domain (27 km): same as operational dom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diate domain (9 km): same as operation dom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nermost domain ( 3 km): 2/3 of the mediate domai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sics options: all HWRF options except gravity wave drag option were switched on and wor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 and BC: GFS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cast wall clock: 2 hours and 6 minutes for 126 hrs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osed cases: IKE 1 case, BILL, Ana, Selected 2010 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rrent configuration: 77.5°×77.5°, 7.2°×6.0°, 4.8°×4.0° is sm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PEs required to complete with one hour wall clock but double PEs doesn’t work in this configu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osed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figuration: 77.5°×77.5°, 10.0°×10.0°, 7.2°×6.0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s issue: further test after increasing the domain size, need computer expert help to reach one hour wall cloc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32:45Z</dcterms:created>
  <dc:creator>xzhang</dc:creator>
  <dc:description/>
  <dc:language>en-US</dc:language>
  <cp:lastModifiedBy>Seminar</cp:lastModifiedBy>
  <dcterms:modified xsi:type="dcterms:W3CDTF">2010-10-21T14:57:51Z</dcterms:modified>
  <cp:revision>10</cp:revision>
  <dc:subject/>
  <dc:title>HWRFv3.2 status update in HRD</dc:title>
</cp:coreProperties>
</file>