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857B-95B2-4C7E-87D2-462EF80AE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53B0-4340-431C-B706-346D90394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90EA-0EB6-42D0-9A81-5700E2ED2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BC76-D199-48C0-871D-A2CA9A72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8B02A6-6D5F-4E05-A836-DF5B823401E2}" type="slidenum">
              <a:rPr b="0" lang="en-US" sz="1200" spc="-1" strike="noStrike">
                <a:solidFill>
                  <a:srgbClr val="000000"/>
                </a:solidFill>
                <a:latin typeface="Snap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16D-1E5D-4B8A-804E-56CBB34A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ABC-E9BF-4CCF-A2C3-103BE0D1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02E-05E7-4E7A-BFAE-D32C3F53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A4C-B48E-4FD4-B6B0-B8EB917A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EA94-103A-4A95-B521-00A8CC2B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11C4-CC4F-4671-A218-6155C5E9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D199-8B53-4098-AD56-378A12C0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3A8D-FC01-4EF6-8EFA-087C412F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5A53-CB60-46D4-AB71-B2E7EF92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EAD2-5E8E-4F83-9CBD-47204521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6523-7481-411B-BED6-78542FF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A06-8FFE-44E4-BD8E-F67CB75F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855C-B8A6-4EB1-959B-7A07D295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B6ED-CB0D-41BE-8B62-1565AF5D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3726-9F2D-4777-813E-4C549D92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7846-7F0A-4F62-AEDB-CA90D9B8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8812-10FA-4925-AC05-AACD328F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E43F-4EA4-4749-B92C-70A849BE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0EE0-2F9E-41B5-8C55-2CF5D659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943C-F159-4C32-8D42-8AAFDF82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BA3F-0B39-4A3B-B247-2E9A12C1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1C46-0924-4697-9759-50C12925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189-64F3-457C-88A7-D715F32B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AFD1E-B97E-46DE-9563-0E458250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F94A-51AE-4D6F-A0A6-7E4FDD1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5315-89AB-4233-8B38-9ED323A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55D2D-B33C-49AE-A4DE-E3DA4D25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8CB5-81D3-4856-8C92-0B8E7885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797D-8224-4DBB-8D29-12E8E427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1030-16DC-40FC-8056-E12962B8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E4E68-90CE-4337-86C2-39D7E783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EA9C1-C7E1-4C67-B2BB-BBAB5582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F760E-3F83-4D04-B1E9-6846EDD2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04E-C19C-48BB-A8D0-9C9FFE3E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07214-1A9F-49DA-862A-CC5717C1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4F42D-508C-4EF4-B50C-BF53A8E4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99B78-3236-42E2-89EC-E4A4E070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47BEC-2DA7-46CB-BCE5-C4F37B1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02E45-E0A0-4E1A-9F3C-E0FA633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5B3E4-B1B8-45C6-850F-167C12F7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17C01-4405-4D7A-AEDC-5D8E78A8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7E8A3-BE6F-4D25-AC8B-6D998439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5BC0E-ABF8-459C-BF3C-1FE3D602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703-F9F3-40A6-999E-A81DCB07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C6C-6DF5-49FA-8F47-1FE216B3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35B-89E9-49D7-B53B-BD61F7E1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005-1F2A-4AAE-8B81-65AC3C3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33E-DC39-4E72-A503-ADB1E331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4D35-DAC7-4593-90FB-0C6BFD679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7FD4-C147-48C5-AF88-8DA076458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/11/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9933-6B4C-4BBD-91FA-9508450B3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647D-77BC-4CCB-8791-0A23BC4565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rm-Size Correction f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WRF Vortex Initialization</a:t>
            </a:r>
            <a:br>
              <a:rPr sz="3200"/>
            </a:br>
            <a:br>
              <a:rPr sz="2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vin Yeh</a:t>
            </a:r>
            <a:br>
              <a:rPr sz="2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MAS/UM &amp; HRD/AOM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ami, Florida</a:t>
            </a:r>
            <a:br>
              <a:rPr sz="2400"/>
            </a:br>
            <a:br>
              <a:rPr sz="2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ion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C/NCEP &amp; HRD/AO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October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2010)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omposite_t1"/>
          <p:cNvPicPr/>
          <p:nvPr/>
        </p:nvPicPr>
        <p:blipFill>
          <a:blip r:embed="rId1"/>
          <a:srcRect l="9000" t="0" r="0" b="6003"/>
          <a:stretch/>
        </p:blipFill>
        <p:spPr>
          <a:xfrm>
            <a:off x="1104840" y="743040"/>
            <a:ext cx="6934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omposite_mix1"/>
          <p:cNvPicPr/>
          <p:nvPr/>
        </p:nvPicPr>
        <p:blipFill>
          <a:blip r:embed="rId1"/>
          <a:srcRect l="9000" t="0" r="0" b="6003"/>
          <a:stretch/>
        </p:blipFill>
        <p:spPr>
          <a:xfrm>
            <a:off x="1104840" y="743040"/>
            <a:ext cx="6934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8" descr="HWRF_high_level_initialization_overview_withGSI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60962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6"/>
          <p:cNvSpPr/>
          <p:nvPr/>
        </p:nvSpPr>
        <p:spPr>
          <a:xfrm>
            <a:off x="5638680" y="4191120"/>
            <a:ext cx="2286000" cy="1310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gus vorte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used to modif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WRF vorte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nhance spin-up proce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previous forecast is weaker than observation.</a:t>
            </a:r>
            <a:endParaRPr b="0" lang="en-US" sz="16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6"/>
          <p:cNvSpPr/>
          <p:nvPr/>
        </p:nvSpPr>
        <p:spPr>
          <a:xfrm>
            <a:off x="685800" y="533520"/>
            <a:ext cx="3733920" cy="237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gus Vortex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posite Storm)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xisymmetric U, V, Ps, T, r)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-Generated Prototype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Than Original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hance Spin-up Process</a:t>
            </a:r>
            <a:endParaRPr b="0" lang="en-US" sz="1800" spc="-1" strike="noStrike">
              <a:solidFill>
                <a:srgbClr val="000000"/>
              </a:solidFill>
              <a:latin typeface="Snap ITC"/>
            </a:endParaRPr>
          </a:p>
        </p:txBody>
      </p:sp>
      <p:pic>
        <p:nvPicPr>
          <p:cNvPr id="176" name="Picture 2" descr="composite_uv1"/>
          <p:cNvPicPr/>
          <p:nvPr/>
        </p:nvPicPr>
        <p:blipFill>
          <a:blip r:embed="rId1"/>
          <a:srcRect l="9000" t="0" r="0" b="6003"/>
          <a:stretch/>
        </p:blipFill>
        <p:spPr>
          <a:xfrm>
            <a:off x="4724280" y="152280"/>
            <a:ext cx="4160880" cy="322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omposite_t1"/>
          <p:cNvPicPr/>
          <p:nvPr/>
        </p:nvPicPr>
        <p:blipFill>
          <a:blip r:embed="rId2"/>
          <a:srcRect l="9000" t="0" r="0" b="6003"/>
          <a:stretch/>
        </p:blipFill>
        <p:spPr>
          <a:xfrm>
            <a:off x="4724280" y="3429000"/>
            <a:ext cx="4160880" cy="322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omposite_mix1"/>
          <p:cNvPicPr/>
          <p:nvPr/>
        </p:nvPicPr>
        <p:blipFill>
          <a:blip r:embed="rId3"/>
          <a:srcRect l="9000" t="0" r="0" b="6003"/>
          <a:stretch/>
        </p:blipFill>
        <p:spPr>
          <a:xfrm>
            <a:off x="457200" y="3429000"/>
            <a:ext cx="4160880" cy="322272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24" descr=""/>
          <p:cNvPicPr/>
          <p:nvPr/>
        </p:nvPicPr>
        <p:blipFill>
          <a:blip r:embed="rId4"/>
          <a:stretch/>
        </p:blipFill>
        <p:spPr>
          <a:xfrm>
            <a:off x="4645080" y="378000"/>
            <a:ext cx="377640" cy="6220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25" descr=""/>
          <p:cNvPicPr/>
          <p:nvPr/>
        </p:nvPicPr>
        <p:blipFill>
          <a:blip r:embed="rId5"/>
          <a:stretch/>
        </p:blipFill>
        <p:spPr>
          <a:xfrm>
            <a:off x="4645080" y="3651120"/>
            <a:ext cx="377640" cy="62244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26" descr=""/>
          <p:cNvPicPr/>
          <p:nvPr/>
        </p:nvPicPr>
        <p:blipFill>
          <a:blip r:embed="rId6"/>
          <a:stretch/>
        </p:blipFill>
        <p:spPr>
          <a:xfrm>
            <a:off x="378000" y="3651120"/>
            <a:ext cx="3776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m-Size Correction with Smooth Stre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3200400" y="1752480"/>
                <a:ext cx="20574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9"/>
              <p:cNvSpPr txBox="1"/>
              <p:nvPr/>
            </p:nvSpPr>
            <p:spPr>
              <a:xfrm>
                <a:off x="914400" y="1676520"/>
                <a:ext cx="1981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4"/>
              <p:cNvSpPr txBox="1"/>
              <p:nvPr/>
            </p:nvSpPr>
            <p:spPr>
              <a:xfrm>
                <a:off x="914400" y="2590920"/>
                <a:ext cx="2016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6"/>
              <p:cNvSpPr txBox="1"/>
              <p:nvPr/>
            </p:nvSpPr>
            <p:spPr>
              <a:xfrm>
                <a:off x="3200400" y="2590920"/>
                <a:ext cx="2184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5" name="Group 40"/>
          <p:cNvGrpSpPr/>
          <p:nvPr/>
        </p:nvGrpSpPr>
        <p:grpSpPr>
          <a:xfrm>
            <a:off x="228600" y="3733920"/>
            <a:ext cx="8458200" cy="914400"/>
            <a:chOff x="228600" y="3733920"/>
            <a:chExt cx="8458200" cy="914400"/>
          </a:xfrm>
        </p:grpSpPr>
        <p:grpSp>
          <p:nvGrpSpPr>
            <p:cNvPr id="196" name="Group 21"/>
            <p:cNvGrpSpPr/>
            <p:nvPr/>
          </p:nvGrpSpPr>
          <p:grpSpPr>
            <a:xfrm>
              <a:off x="228600" y="3733920"/>
              <a:ext cx="8458200" cy="838440"/>
              <a:chOff x="228600" y="3733920"/>
              <a:chExt cx="8458200" cy="838440"/>
            </a:xfrm>
          </p:grpSpPr>
          <p:sp>
            <p:nvSpPr>
              <p:cNvPr id="197" name="AutoShape 22"/>
              <p:cNvSpPr/>
              <p:nvPr/>
            </p:nvSpPr>
            <p:spPr>
              <a:xfrm>
                <a:off x="228600" y="3733920"/>
                <a:ext cx="845820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198" name="Line 23"/>
              <p:cNvSpPr/>
              <p:nvPr/>
            </p:nvSpPr>
            <p:spPr>
              <a:xfrm flipV="1">
                <a:off x="948240" y="4236840"/>
                <a:ext cx="7198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199" name="Line 24"/>
              <p:cNvSpPr/>
              <p:nvPr/>
            </p:nvSpPr>
            <p:spPr>
              <a:xfrm>
                <a:off x="948240" y="406980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0" name="Line 25"/>
              <p:cNvSpPr/>
              <p:nvPr/>
            </p:nvSpPr>
            <p:spPr>
              <a:xfrm>
                <a:off x="2028240" y="406980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1" name="Line 26"/>
              <p:cNvSpPr/>
              <p:nvPr/>
            </p:nvSpPr>
            <p:spPr>
              <a:xfrm>
                <a:off x="2747880" y="4068720"/>
                <a:ext cx="108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2" name="Line 27"/>
              <p:cNvSpPr/>
              <p:nvPr/>
            </p:nvSpPr>
            <p:spPr>
              <a:xfrm>
                <a:off x="5627160" y="406980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  <p:sp>
            <p:nvSpPr>
              <p:cNvPr id="203" name="Line 28"/>
              <p:cNvSpPr/>
              <p:nvPr/>
            </p:nvSpPr>
            <p:spPr>
              <a:xfrm>
                <a:off x="7067160" y="4069800"/>
                <a:ext cx="108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Snap ITC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04" name="Object 32"/>
                <p:cNvSpPr txBox="1"/>
                <p:nvPr/>
              </p:nvSpPr>
              <p:spPr>
                <a:xfrm>
                  <a:off x="1904760" y="4267440"/>
                  <a:ext cx="258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Object 31"/>
                <p:cNvSpPr txBox="1"/>
                <p:nvPr/>
              </p:nvSpPr>
              <p:spPr>
                <a:xfrm>
                  <a:off x="2620800" y="4267440"/>
                  <a:ext cx="269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Object 30"/>
                <p:cNvSpPr txBox="1"/>
                <p:nvPr/>
              </p:nvSpPr>
              <p:spPr>
                <a:xfrm>
                  <a:off x="5486400" y="4267440"/>
                  <a:ext cx="357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Object 29"/>
                <p:cNvSpPr txBox="1"/>
                <p:nvPr/>
              </p:nvSpPr>
              <p:spPr>
                <a:xfrm>
                  <a:off x="6934320" y="4267440"/>
                  <a:ext cx="368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37"/>
                <p:cNvSpPr txBox="1"/>
                <p:nvPr/>
              </p:nvSpPr>
              <p:spPr>
                <a:xfrm>
                  <a:off x="867960" y="4320000"/>
                  <a:ext cx="19836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209" name="Straight Arrow Connector 31"/>
            <p:cNvCxnSpPr/>
            <p:nvPr/>
          </p:nvCxnSpPr>
          <p:spPr>
            <a:xfrm flipH="1" flipV="1">
              <a:off x="2132640" y="4114440"/>
              <a:ext cx="53388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</p:cxnSp>
        <p:cxnSp>
          <p:nvCxnSpPr>
            <p:cNvPr id="210" name="Straight Arrow Connector 33"/>
            <p:cNvCxnSpPr/>
            <p:nvPr/>
          </p:nvCxnSpPr>
          <p:spPr>
            <a:xfrm flipH="1" flipV="1">
              <a:off x="5790600" y="4114440"/>
              <a:ext cx="1143720" cy="21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lg" type="triangle" w="med"/>
            </a:ln>
          </p:spPr>
        </p:cxnSp>
        <p:sp>
          <p:nvSpPr>
            <p:cNvPr id="211" name="TextBox 38"/>
            <p:cNvSpPr/>
            <p:nvPr/>
          </p:nvSpPr>
          <p:spPr>
            <a:xfrm>
              <a:off x="1600200" y="37339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RMW)</a:t>
              </a:r>
              <a:endParaRPr b="0" lang="en-US" sz="1400" spc="-1" strike="noStrike">
                <a:solidFill>
                  <a:srgbClr val="000000"/>
                </a:solidFill>
                <a:latin typeface="Snap ITC"/>
              </a:endParaRPr>
            </a:p>
          </p:txBody>
        </p:sp>
        <p:sp>
          <p:nvSpPr>
            <p:cNvPr id="212" name="TextBox 39"/>
            <p:cNvSpPr/>
            <p:nvPr/>
          </p:nvSpPr>
          <p:spPr>
            <a:xfrm>
              <a:off x="5181480" y="37339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ROCI)</a:t>
              </a:r>
              <a:endParaRPr b="0" lang="en-US" sz="1400" spc="-1" strike="noStrike">
                <a:solidFill>
                  <a:srgbClr val="000000"/>
                </a:solidFill>
                <a:latin typeface="Snap ITC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3" name="Object 36"/>
              <p:cNvSpPr txBox="1"/>
              <p:nvPr/>
            </p:nvSpPr>
            <p:spPr>
              <a:xfrm>
                <a:off x="5715000" y="1876320"/>
                <a:ext cx="9144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7"/>
              <p:cNvSpPr txBox="1"/>
              <p:nvPr/>
            </p:nvSpPr>
            <p:spPr>
              <a:xfrm>
                <a:off x="5638680" y="2743200"/>
                <a:ext cx="2098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/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/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Box 37"/>
          <p:cNvSpPr/>
          <p:nvPr/>
        </p:nvSpPr>
        <p:spPr>
          <a:xfrm>
            <a:off x="838080" y="5029200"/>
            <a:ext cx="7620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urrently using only RMW (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constant): lacks of horizontal structure.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-level pressure adjustment with gradient wind stream fun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838080" y="27432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e adjustment with hydrostatic assumption: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4"/>
              <p:cNvSpPr txBox="1"/>
              <p:nvPr/>
            </p:nvSpPr>
            <p:spPr>
              <a:xfrm>
                <a:off x="2057400" y="3505320"/>
                <a:ext cx="5029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ΓΔ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ΔT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Δp</m:t>
                    </m:r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2"/>
          <p:cNvSpPr/>
          <p:nvPr/>
        </p:nvSpPr>
        <p:spPr>
          <a:xfrm>
            <a:off x="838080" y="4343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isture adjustment with unchanged relative humidity:</a:t>
            </a:r>
            <a:endParaRPr b="0" lang="en-US" sz="2000" spc="-1" strike="noStrike">
              <a:solidFill>
                <a:srgbClr val="000000"/>
              </a:solidFill>
              <a:latin typeface="Snap IT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143000" y="502920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q</m:t>
                    </m:r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q</m:t>
                    </m:r>
                    <m:r>
                      <m:t xml:space="preserve">≈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(</m:t>
                    </m:r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4495680" y="5029200"/>
                <a:ext cx="35053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914400" y="1676520"/>
                <a:ext cx="14572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p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Δp</m:t>
                    </m:r>
                    <m:f>
                      <m:num>
                        <m:sSup>
                          <m:e>
                            <m:r>
                              <m:t xml:space="preserve">ψ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2514600" y="1600200"/>
                <a:ext cx="2286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ψ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∞</m:t>
                        </m:r>
                      </m:sub>
                      <m:sup>
                        <m:sSup>
                          <m:e>
                            <m:r>
                              <m:t xml:space="preserve">r</m:t>
                            </m:r>
                          </m:e>
                          <m:sup/>
                        </m:sSup>
                      </m:sup>
                      <m:e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</m:e>
                    </m:nary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  <m:sup/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1"/>
              <p:cNvSpPr txBox="1"/>
              <p:nvPr/>
            </p:nvSpPr>
            <p:spPr>
              <a:xfrm>
                <a:off x="4952880" y="1600200"/>
                <a:ext cx="3353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∞</m:t>
                        </m:r>
                      </m:sub>
                      <m:sup>
                        <m:sSup>
                          <m:e>
                            <m:r>
                              <m:t xml:space="preserve">r</m:t>
                            </m:r>
                          </m:e>
                          <m:sup/>
                        </m:sSup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/>
                                </m:sSup>
                              </m:den>
                            </m:f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/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/>
                                </m:sSup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p/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Chart 3" descr=""/>
          <p:cNvPicPr/>
          <p:nvPr/>
        </p:nvPicPr>
        <p:blipFill>
          <a:blip r:embed="rId1"/>
          <a:stretch/>
        </p:blipFill>
        <p:spPr>
          <a:xfrm>
            <a:off x="-36360" y="-6480"/>
            <a:ext cx="91868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Chart 3" descr=""/>
          <p:cNvPicPr/>
          <p:nvPr/>
        </p:nvPicPr>
        <p:blipFill>
          <a:blip r:embed="rId1"/>
          <a:stretch/>
        </p:blipFill>
        <p:spPr>
          <a:xfrm>
            <a:off x="-36360" y="-6480"/>
            <a:ext cx="918684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457200"/>
            <a:ext cx="792468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WRF 3.2 has been ported to Jet computer system with </a:t>
            </a:r>
            <a:r>
              <a:rPr b="0" lang="en-US" sz="2400" spc="-1" strike="noStrike">
                <a:solidFill>
                  <a:srgbClr val="3333cc"/>
                </a:solidFill>
                <a:latin typeface="Cambria"/>
              </a:rPr>
              <a:t>operational model configura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including GSI and POM. 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icated operational scripts are still buggy on Jet, more works are needed to ensure correct job execution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Implement smooth 2-parameter storm-size correction for both bogus and recycled vortic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Mini sensitivity test of new storm-size correction with Ana and Bill (2009) on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MS Mincho"/>
              </a:rPr>
              <a:t>false alarm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 and </a:t>
            </a:r>
            <a:r>
              <a:rPr b="0" lang="en-US" sz="2400" spc="-1" strike="noStrike">
                <a:solidFill>
                  <a:srgbClr val="00b050"/>
                </a:solidFill>
                <a:latin typeface="Cambria"/>
                <a:ea typeface="MS Mincho"/>
              </a:rPr>
              <a:t>intensifica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Benchmark with 2008, 2009, 2010 storms as possible.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nap ITC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☞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ysical parameterization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MS Mincho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omposite_uv1"/>
          <p:cNvPicPr/>
          <p:nvPr/>
        </p:nvPicPr>
        <p:blipFill>
          <a:blip r:embed="rId1"/>
          <a:srcRect l="9000" t="0" r="0" b="6003"/>
          <a:stretch/>
        </p:blipFill>
        <p:spPr>
          <a:xfrm>
            <a:off x="1104840" y="743040"/>
            <a:ext cx="69343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10-10-20T21:53:49Z</dcterms:modified>
  <cp:revision>480</cp:revision>
  <dc:subject/>
  <dc:title>HIGH RESOLUTION fvGCM  RESULTS</dc:title>
</cp:coreProperties>
</file>