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65A29-C139-47AC-9AC4-6A078438EF3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E3380-0893-45DF-8D23-1522088BD4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FC787-879E-442D-9826-B1FD240809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9D91D-1B31-4441-9684-A284536B70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554ED-5042-42A4-97AE-0B3639AC3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1D8AE30-B043-4643-86F1-07F017FB6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31CFFE-48F0-4927-BE17-42415F1A1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411C68F-BEC1-4DA3-89D1-4DF85123B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466211B-4FDB-4C16-9947-98505442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72FCC3A-CF89-431D-96D1-99984C14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0E2B5FE-CEB8-44A1-993B-22A509B8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765C20C-1BB9-4562-9545-EE033CFD5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A2D063-F4AB-4BA7-83B3-1F0B39448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0219DD1-9C33-4014-8B87-3769B821C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613413C-2282-4080-A206-AAD3D27E9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E1F2F-FCC0-4135-BECA-CEAE651E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1B0E035-BA5C-442D-998D-F6527917B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795DA0A-D8CF-4A5D-B34C-37AA6DAF6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48030F0-CF0F-4853-A890-675D4436C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93F6BB5-6926-4D20-B9D5-41B54BCC0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B9300FC-17AC-464E-AFE2-DDB9CA0E2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3A3E2AA-0A21-4D65-A7AD-2E2E7FF7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4410D0E-F164-4E10-9A0E-FF93CD612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42DDDE9-1E40-49DD-8432-A7408238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4799500-323E-4415-A244-454F5A8A0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0041BBA-D45D-40C2-B01A-835C34248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9CF9D-0FE9-42E6-B62D-5AC5D3E7D42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1E9C5C4-6C6D-454A-8C27-D12C9B1B6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CA1B174-A40D-4B2D-8BCA-A2DA25EF7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524AC40-0793-4A62-AD64-974349963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C202306-0335-40FD-A903-3AAB42189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4512C59-8530-4306-8DFE-53E347CBD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9823CA3-93D0-4EE4-AA83-62BB2EBB1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39642BC-7E4A-4932-9ACA-6A02AE5EF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0B5D393-ECC8-423C-8FC3-782314A0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280E41C-B149-43EF-A644-3AD8E1EA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6127738-3B70-4C66-ACAE-CE8F86779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5DF65C-FB84-46A5-A43B-B21D6D299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C1755A2-30B2-46D5-AF17-862E8342D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1C99E48-7CBA-4F69-A414-3153C5D9D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4ABB38B-90DD-42C5-A7D4-0BA1D9A2C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6D99D08-39CF-4681-A378-20EE1C966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50D17BF-038B-43D5-809E-7051ED9E2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F5D7D3B-1C67-41E7-9C65-EB4FF7B2F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F8C55DA-4522-44C0-B1A1-105A039F2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125C2CA-0AFE-4BAF-9719-2D52E073B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B15173E-9180-4434-AD51-D4593FDAA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FCAAF54-1A43-41FB-89E9-04653B20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886A8A-146D-48CC-B374-34B1F685B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34307B1-4881-48A5-AFF6-EC64CBBAB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7E7C046-1105-4330-8E1E-5A12DAA6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42D5AFD-4985-4BE8-B756-A67E01EF5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B00F508-B655-465E-BF60-057267966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577E580-5B88-4F6B-8F5F-C497D3E6E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457D16-DBA8-469C-96FD-77C5C7864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F76213-D66A-4E2B-A2E1-EC167C0F1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62A16A-E423-4C99-9233-4EE9248E2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F7D0DE-555C-4E68-9B41-F1688C84E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849C14-F43E-4F3D-AA55-060F1F70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CE18D-9A98-4FA4-8FA8-2DCC689D0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EE3F6D-4CCF-4555-ABD5-80036CB8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79A949-AC0E-416A-A7A2-99886D76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554612-5816-4B6B-BF8E-4113EBF89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CF415F-150F-43D3-98F4-C12F7079E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61C70B-A83D-4A47-909A-1085C07E7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D3887A-6B9F-415E-B728-F26F3ACD7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BAE75F-4250-416C-9092-7EEBE10DE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286B34-EB1B-4DF4-8024-4634D48D3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67B2CC-0625-4061-9F36-9755CE244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A7B458-A395-4B28-8706-A237D8445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19C32-A0AE-4508-80D9-FB683AC86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069AB9-2BFE-4628-B989-96A24C588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3637C2-98E1-4778-B53E-53780EC2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B6684F-21EB-49AC-BE2D-AA47DC6DC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ADF198-C486-4476-9D6A-080428A7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FC8141-0DE7-4A5D-95B2-FC7DAECCA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DA8DB7-CBB7-4B93-83DA-9E8530FEB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3ACE01-57AF-4945-8A77-A8B9AD9F9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AEA3D9-5C9F-45F4-BEB2-4A32B1849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B8B409-8B66-41AD-9E6E-7CC99B8E0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8F7CE4-B958-4138-9A24-03D09005C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92F66-3A41-475D-AD0A-39915A2DA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CBC1B0-C52D-4746-B3BE-A26D033D7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D51D3E-35C9-4DB3-B25D-79FB4662F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264EC3-3B1C-46E8-B5EF-BAE588825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BF41D6-FDC6-4498-910B-A74BAD351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66CB09-9755-4190-B15B-9493820CC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D0EBDB-A611-4DB2-AC8A-C45B522C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9B1A03-1D0B-474A-A18B-B94B2C861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7175C9-9DEE-4A93-8D8F-3C41D37B5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4FA2B4-191E-4D5C-9983-2792E2414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73A730-009F-4662-A4EC-CBD52D5B5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7C138-7704-41A1-A5F3-3AFF8090B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AC14F2-F578-4E21-A03B-188D032AE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A9525B-9B2D-40F7-B12E-CE3F3916E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254E0F-5866-4814-95BE-BFA3840C8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1ADE86-1B8E-4B86-9E03-6F8A53729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2D4D84-7397-4C23-A5C3-4328567BD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709E55-94E4-4182-AD94-D699B8902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26C814-8330-45B3-8689-AECD9FFD1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C2AD84-F24C-493D-A850-CA37ABF1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AC83EE-187D-43C0-BF41-D0231FF0A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24436F-FA06-494B-AAF0-97097E5DC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F60C6-03EE-4D6E-8348-35A82C2B4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841776-98CD-4A2F-8A4F-E58474AFA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DAC745-9FF1-4FDE-A175-2D6C09E8B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086D52-D6BF-423F-B8D3-C47075CFC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128E67-01DC-4A23-9075-E78ACBAB9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546219-13E1-4263-A756-2491DDE31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8625A8-C9CE-44A7-932C-1B0C87C92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1E544C-4499-49E7-90DC-3D17EB2D2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7B0FF8-F034-4835-B65E-C3A7DB48B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D92420-0479-427B-8BD7-7B181BAC6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5D5613-C6E1-4D6E-A13D-71E75ECD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8CC13-3EB5-4315-B27D-2F11C4846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B5C982-2283-436A-AAB7-4523D632A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A4CBFE-5768-4B59-939A-9B63C0377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33CDAD-25D3-4446-8686-EC2A91756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65590A-1122-4C75-90C9-795E3F108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7CD4D3-9FA2-4EBC-9AEA-FE253A59E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85D432-7D09-4D31-A843-5481A2470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AB4D30-3C9C-4D8C-8764-8350ADCAE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194FD7-050C-427B-93A7-BFB16FF13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F30191-58BE-49DC-AF03-5F856E809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2C481F-09E5-4DFF-A372-351B0404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7897B-C1F3-462C-B901-7A7ED772F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A43008-54C8-4C72-85AC-F33A68141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57935C-98B9-448F-8C34-FA6AB3F94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8C5635-8A2E-4A66-8239-1FBCA362D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F90941-04FE-4327-9E40-BDB0484C0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60FE9A-43C9-44A7-9601-FCDDD7E4C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5F0C20B-B9A2-494F-9EF3-2213E2441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343175C-9BF9-433A-AC91-CB2F2FBFA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7DF4FF-9DD6-41BA-A840-83ABFF60D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9C3D99F-ADCD-4F3C-8835-B944DFE2B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162450-52CB-40F3-B1D6-509263E99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22E4B-35A8-4607-B67E-C65E77444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DF004A-A8FC-41B6-B380-BD2D46CE8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482603-F44F-401C-BF70-39DBB3B01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E97EE85-B408-42EB-AFF7-8CC7C3EB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AAEDF2-62C2-4A56-8039-2AB0EB1A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D670CB1-3D67-458D-ACBA-500838B4E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C52C8C-230F-4750-A974-97E627A68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53AC895-7223-484F-8580-685C72E23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23BC499-D11C-4146-9E3E-475462D7F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A1D7406-5952-4213-8A8F-EDA1C991F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C9CAEDE-0553-454F-A2CE-09127353D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B9B67-DB4C-46DA-8F40-5F799243F08D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5401080" y="623916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E1B42-3952-4031-A119-F79B937D37D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9" descr="dtc_wordmark_pms203.jpg"/>
          <p:cNvPicPr/>
          <p:nvPr/>
        </p:nvPicPr>
        <p:blipFill>
          <a:blip r:embed="rId2"/>
          <a:stretch/>
        </p:blipFill>
        <p:spPr>
          <a:xfrm>
            <a:off x="0" y="6081840"/>
            <a:ext cx="2895480" cy="776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4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05" name="Picture 9" descr="dtc_wordmark_pms203.jpg"/>
          <p:cNvPicPr/>
          <p:nvPr/>
        </p:nvPicPr>
        <p:blipFill>
          <a:blip r:embed="rId2"/>
          <a:stretch/>
        </p:blipFill>
        <p:spPr>
          <a:xfrm>
            <a:off x="0" y="6081840"/>
            <a:ext cx="2895480" cy="776160"/>
          </a:xfrm>
          <a:prstGeom prst="rect">
            <a:avLst/>
          </a:prstGeom>
          <a:ln w="0">
            <a:noFill/>
          </a:ln>
        </p:spPr>
      </p:pic>
      <p:sp>
        <p:nvSpPr>
          <p:cNvPr id="406" name="Rectangle 10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7" name="Rectangle 11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8" name="Rectangle 14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A653C-54B3-41E8-AD70-3A560CC4BB40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8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EA585-9A9E-4B5C-9AC7-B645807E3A6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52" name="Picture 9" descr="dtc_wordmark_pms203.jpg"/>
          <p:cNvPicPr/>
          <p:nvPr/>
        </p:nvPicPr>
        <p:blipFill>
          <a:blip r:embed="rId2"/>
          <a:stretch/>
        </p:blipFill>
        <p:spPr>
          <a:xfrm>
            <a:off x="0" y="6081840"/>
            <a:ext cx="2895480" cy="77616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3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9D6A6-784C-493C-8417-7EB1EA51E31F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3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32"/>
          </p:nvPr>
        </p:nvSpPr>
        <p:spPr>
          <a:xfrm>
            <a:off x="5401080" y="623916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A4F0A-11F3-46D6-9D1C-36F1DA573A1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5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96" name="Picture 9" descr="dtc_wordmark_pms203.jpg"/>
          <p:cNvPicPr/>
          <p:nvPr/>
        </p:nvPicPr>
        <p:blipFill>
          <a:blip r:embed="rId2"/>
          <a:stretch/>
        </p:blipFill>
        <p:spPr>
          <a:xfrm>
            <a:off x="0" y="6081840"/>
            <a:ext cx="2895480" cy="776160"/>
          </a:xfrm>
          <a:prstGeom prst="rect">
            <a:avLst/>
          </a:prstGeom>
          <a:ln w="0">
            <a:noFill/>
          </a:ln>
        </p:spPr>
      </p:pic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3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B7C28-07E2-45E2-9AE4-D634634DC358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ftr" idx="3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sldNum" idx="35"/>
          </p:nvPr>
        </p:nvSpPr>
        <p:spPr>
          <a:xfrm>
            <a:off x="5401080" y="623916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B2A2C-1871-44B8-9F3C-5E0AF5773B7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Rounded Rectangle 11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Rectangle 14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Rectangle 15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Rectangle 16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D02D5-6093-4284-AB19-6B448E584C85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5"/>
          </p:nvPr>
        </p:nvSpPr>
        <p:spPr>
          <a:xfrm>
            <a:off x="5401080" y="623916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487F2-24B2-46B4-B270-AF99F14315C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0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91" name="Picture 9" descr="dtc_wordmark_pms203.jpg"/>
          <p:cNvPicPr/>
          <p:nvPr/>
        </p:nvPicPr>
        <p:blipFill>
          <a:blip r:embed="rId2"/>
          <a:stretch/>
        </p:blipFill>
        <p:spPr>
          <a:xfrm>
            <a:off x="0" y="6081840"/>
            <a:ext cx="2895480" cy="7761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483C1-0652-4D7F-94C8-27436016BA6F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8"/>
          </p:nvPr>
        </p:nvSpPr>
        <p:spPr>
          <a:xfrm>
            <a:off x="5401080" y="623916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43014-6E82-4C99-9ED4-1D760DD057D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134" name="Rounded Rectangle 11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135" name="Rounded Rectangle 11" descr=""/>
            <p:cNvPicPr/>
            <p:nvPr/>
          </p:nvPicPr>
          <p:blipFill>
            <a:blip r:embed="rId2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137" name="Rectangle 14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Rectangle 15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Rectangle 16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9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CB92F-8810-41B4-8A18-D6C93AB2D917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0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1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7587D-27CE-4378-AFAF-D6A36F54598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2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183" name="Picture 9" descr="dtc_wordmark_pms203.jpg"/>
          <p:cNvPicPr/>
          <p:nvPr/>
        </p:nvPicPr>
        <p:blipFill>
          <a:blip r:embed="rId2"/>
          <a:stretch/>
        </p:blipFill>
        <p:spPr>
          <a:xfrm>
            <a:off x="0" y="6081840"/>
            <a:ext cx="2895480" cy="77616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C4FD6-070F-468C-BA66-CF6A58C41D0A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3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4"/>
          </p:nvPr>
        </p:nvSpPr>
        <p:spPr>
          <a:xfrm>
            <a:off x="5401080" y="623916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5DAC7-3577-48EC-B333-CD1C50B2E3D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27" name="Picture 9" descr="dtc_wordmark_pms203.jpg"/>
          <p:cNvPicPr/>
          <p:nvPr/>
        </p:nvPicPr>
        <p:blipFill>
          <a:blip r:embed="rId2"/>
          <a:stretch/>
        </p:blipFill>
        <p:spPr>
          <a:xfrm>
            <a:off x="0" y="6081840"/>
            <a:ext cx="2895480" cy="77616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5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F67C0-FED6-4A40-8748-4D47D453FEAA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6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7"/>
          </p:nvPr>
        </p:nvSpPr>
        <p:spPr>
          <a:xfrm>
            <a:off x="5401080" y="623916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B2F9C-85D0-481E-927E-4562B053B69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0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1" name="Picture 9" descr="dtc_wordmark_pms203.jpg"/>
          <p:cNvPicPr/>
          <p:nvPr/>
        </p:nvPicPr>
        <p:blipFill>
          <a:blip r:embed="rId2"/>
          <a:stretch/>
        </p:blipFill>
        <p:spPr>
          <a:xfrm>
            <a:off x="0" y="6081840"/>
            <a:ext cx="2895480" cy="77616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F3ECE-F7AE-4C6C-ADA1-2D3435D9A924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19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20"/>
          </p:nvPr>
        </p:nvSpPr>
        <p:spPr>
          <a:xfrm>
            <a:off x="5401080" y="623916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27EED-0E0F-4261-8D0E-763F0601A3A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4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15" name="Picture 9" descr="dtc_wordmark_pms203.jpg"/>
          <p:cNvPicPr/>
          <p:nvPr/>
        </p:nvPicPr>
        <p:blipFill>
          <a:blip r:embed="rId2"/>
          <a:stretch/>
        </p:blipFill>
        <p:spPr>
          <a:xfrm>
            <a:off x="0" y="6081840"/>
            <a:ext cx="2895480" cy="77616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2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636DC-7DFD-4BB5-A896-1F3073438C12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3"/>
          </p:nvPr>
        </p:nvSpPr>
        <p:spPr>
          <a:xfrm>
            <a:off x="5401080" y="623916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8941E-E66D-497D-BF68-6531A456D0B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59" name="Picture 9" descr="dtc_wordmark_pms203.jpg"/>
          <p:cNvPicPr/>
          <p:nvPr/>
        </p:nvPicPr>
        <p:blipFill>
          <a:blip r:embed="rId2"/>
          <a:stretch/>
        </p:blipFill>
        <p:spPr>
          <a:xfrm>
            <a:off x="0" y="6081840"/>
            <a:ext cx="2895480" cy="77616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1" name="Rounded Rectangle 11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2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43B99-02E0-45EA-873E-609D19A4E1F6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2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26"/>
          </p:nvPr>
        </p:nvSpPr>
        <p:spPr>
          <a:xfrm>
            <a:off x="5401080" y="623916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EF618-FC9F-4A51-8BF0-DE6981A0784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Hurricane activities at DTC: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last 2 months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pic>
        <p:nvPicPr>
          <p:cNvPr id="546" name="Picture 4" descr="dtc_wordmark_pms203.jpg"/>
          <p:cNvPicPr/>
          <p:nvPr/>
        </p:nvPicPr>
        <p:blipFill>
          <a:blip r:embed="rId1"/>
          <a:stretch/>
        </p:blipFill>
        <p:spPr>
          <a:xfrm>
            <a:off x="0" y="6081840"/>
            <a:ext cx="2895480" cy="776160"/>
          </a:xfrm>
          <a:prstGeom prst="rect">
            <a:avLst/>
          </a:prstGeom>
          <a:ln w="0">
            <a:noFill/>
          </a:ln>
        </p:spPr>
      </p:pic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Perpetua"/>
              </a:rPr>
              <a:t>Status report by the Developmental Testbed Cente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Perpetua"/>
              </a:rPr>
              <a:t>Ligia Bernarde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8" name="Subtitle 2"/>
          <p:cNvSpPr/>
          <p:nvPr/>
        </p:nvSpPr>
        <p:spPr>
          <a:xfrm>
            <a:off x="3048120" y="5943600"/>
            <a:ext cx="59133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Perpetua"/>
              </a:rPr>
              <a:t>HRD Modeling Meeting, October 21 2010</a:t>
            </a:r>
            <a:endParaRPr b="0" lang="en-US" sz="27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ommunity Code and Support - I 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50" name="Slide Number Placeholder 2"/>
          <p:cNvSpPr/>
          <p:nvPr/>
        </p:nvSpPr>
        <p:spPr>
          <a:xfrm>
            <a:off x="5334120" y="6172200"/>
            <a:ext cx="457200" cy="4572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58E31-66A0-4FCE-A6F4-7FAEEC7AC4F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mplementing new tracker code from Tim Marchok (received 10/2010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dded 2010 operational capability to WRF repository (R2)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tarted planning for Hurricane Tutorial in April 2011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WRF release v3.3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ddition of GSI component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ommunity Code and Support - II 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53" name="Slide Number Placeholder 2"/>
          <p:cNvSpPr/>
          <p:nvPr/>
        </p:nvSpPr>
        <p:spPr>
          <a:xfrm>
            <a:off x="5334120" y="6172200"/>
            <a:ext cx="457200" cy="4572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E7509-7670-40E0-A56F-3816824AB5B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40120" indent="-24012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ntrolled tests of HWRF using WRF v3.2 and v3.2.1 led to exposure of several bug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481680" indent="-200880"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WRF v3.2.1 would not compile for HWRF on certain platforms.</a:t>
            </a:r>
            <a:r>
              <a:rPr b="0" lang="en-US" sz="2400" spc="-1" strike="noStrike">
                <a:solidFill>
                  <a:srgbClr val="1f497d"/>
                </a:solidFill>
                <a:latin typeface="Perpetua"/>
              </a:rPr>
              <a:t> Fix by DTC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1680" indent="-200880"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WPS v3.2.1 could not run with binary I/O. </a:t>
            </a:r>
            <a:r>
              <a:rPr b="0" lang="en-US" sz="2400" spc="-1" strike="noStrike">
                <a:solidFill>
                  <a:srgbClr val="1f497d"/>
                </a:solidFill>
                <a:latin typeface="Perpetua"/>
              </a:rPr>
              <a:t>Fix by DTC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1680" indent="-200880"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Movement of the nest had a problem leading to stripes in the forecast. </a:t>
            </a:r>
            <a:r>
              <a:rPr b="0" lang="en-US" sz="2400" spc="-1" strike="noStrike">
                <a:solidFill>
                  <a:srgbClr val="1f497d"/>
                </a:solidFill>
                <a:latin typeface="Perpetua"/>
              </a:rPr>
              <a:t>Fix by EMC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1680" indent="-200880"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GWD was not active when binary I/O was used. </a:t>
            </a:r>
            <a:r>
              <a:rPr b="0" lang="en-US" sz="2400" spc="-1" strike="noStrike">
                <a:solidFill>
                  <a:srgbClr val="1f497d"/>
                </a:solidFill>
                <a:latin typeface="Perpetua"/>
              </a:rPr>
              <a:t>Fix by EMC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1680" indent="-200880"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When run with a nest, HWRF does not produce same results when number of processors is changed. Differences are very small at the beginning (order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Perpetua"/>
              </a:rPr>
              <a:t>-4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K). </a:t>
            </a:r>
            <a:r>
              <a:rPr b="0" lang="en-US" sz="2400" spc="-1" strike="noStrike">
                <a:solidFill>
                  <a:srgbClr val="1f497d"/>
                </a:solidFill>
                <a:latin typeface="Perpetua"/>
              </a:rPr>
              <a:t>Not fixed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723240" indent="-200880">
              <a:spcBef>
                <a:spcPts val="374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8" descr="stripes.jpg"/>
          <p:cNvPicPr/>
          <p:nvPr/>
        </p:nvPicPr>
        <p:blipFill>
          <a:blip r:embed="rId1"/>
          <a:stretch/>
        </p:blipFill>
        <p:spPr>
          <a:xfrm>
            <a:off x="2362320" y="1219320"/>
            <a:ext cx="2857320" cy="5249880"/>
          </a:xfrm>
          <a:prstGeom prst="rect">
            <a:avLst/>
          </a:prstGeom>
          <a:ln w="0">
            <a:noFill/>
          </a:ln>
        </p:spPr>
      </p:pic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Example of stripes bug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57" name="Slide Number Placeholder 2"/>
          <p:cNvSpPr/>
          <p:nvPr/>
        </p:nvSpPr>
        <p:spPr>
          <a:xfrm>
            <a:off x="5334120" y="6172200"/>
            <a:ext cx="457200" cy="4572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8C42E-68B5-41DD-927C-4D40BD38A70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147600"/>
            <a:ext cx="8229600" cy="8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Book"/>
              </a:rPr>
              <a:t>Increments to njet testing infrastructure </a:t>
            </a:r>
            <a:endParaRPr b="0" lang="en-US" sz="36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59" name="Slide Number Placeholder 4"/>
          <p:cNvSpPr/>
          <p:nvPr/>
        </p:nvSpPr>
        <p:spPr>
          <a:xfrm>
            <a:off x="5334120" y="6172200"/>
            <a:ext cx="457200" cy="4572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CEB85-5352-458C-A291-0DE6F583853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60" name="Content Placeholder 3"/>
          <p:cNvSpPr/>
          <p:nvPr/>
        </p:nvSpPr>
        <p:spPr>
          <a:xfrm>
            <a:off x="609480" y="1295280"/>
            <a:ext cx="7162920" cy="449604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dded Community GSI v2.0 to testing suite. Reported and fixed several GSI bugs in the proces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dded capability to run HWRF off GFS spectral forecast (prep_hybrid). Fixed a few bugs in the proces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ested on several case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Testing Activities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62" name="Slide Number Placeholder 2"/>
          <p:cNvSpPr/>
          <p:nvPr/>
        </p:nvSpPr>
        <p:spPr>
          <a:xfrm>
            <a:off x="5334120" y="6172200"/>
            <a:ext cx="457200" cy="4572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72BE7-2C63-4548-891D-994637DDAD7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nducted R2’ test on vapor (400 cases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Goal: qualify the various changes done by DTC to vortex initialization code (bug fixes and platform generalizations) for 2011 implementation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Outcome: pas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HWRF extended regression tes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65" name="Slide Number Placeholder 2"/>
          <p:cNvSpPr/>
          <p:nvPr/>
        </p:nvSpPr>
        <p:spPr>
          <a:xfrm>
            <a:off x="5334120" y="6172200"/>
            <a:ext cx="457200" cy="4572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F00CD-B352-4F39-AE7E-3E3961ECD92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40120" indent="-240120">
              <a:lnSpc>
                <a:spcPct val="8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1680" indent="-200880">
              <a:lnSpc>
                <a:spcPct val="8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Detect unintended changes in HWRF forecast due to evolution of code in  community repositories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lnSpc>
                <a:spcPct val="8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Motivation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1680" indent="-200880">
              <a:lnSpc>
                <a:spcPct val="8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Assure that only intended changes are taking place. Especially important for WRF repository since there are a  large number of developers.  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481680" indent="-200880">
              <a:lnSpc>
                <a:spcPct val="8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Correct problems in a timely manner by identifying problems early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481680" indent="-200880">
              <a:lnSpc>
                <a:spcPct val="8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Allow EMC to rely on Community code for testing and operations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lnSpc>
                <a:spcPct val="8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Procedur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81680" indent="-200880">
              <a:lnSpc>
                <a:spcPct val="8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Build an automated framework around the model, providing the ability to perform regression tests on all stages of the model.      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481680" indent="-200880">
              <a:lnSpc>
                <a:spcPct val="8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The build, run and result information are stored in an easy-to-query database so as historical sets can be retrieved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HWRF extended reg test RESULTS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68" name="Slide Number Placeholder 2"/>
          <p:cNvSpPr/>
          <p:nvPr/>
        </p:nvSpPr>
        <p:spPr>
          <a:xfrm>
            <a:off x="5334120" y="6172200"/>
            <a:ext cx="457200" cy="4572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3E8DA-B3F2-423E-B4A0-CAC26C1C1EE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914400" y="1600200"/>
          <a:ext cx="7772400" cy="3403440"/>
        </p:xfrm>
        <a:graphic>
          <a:graphicData uri="http://schemas.openxmlformats.org/drawingml/2006/table">
            <a:tbl>
              <a:tblPr/>
              <a:tblGrid>
                <a:gridCol w="1905120"/>
                <a:gridCol w="4190760"/>
                <a:gridCol w="1676520"/>
              </a:tblGrid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HWRF capabilities added to WRF reposit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HWRF Beta rele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HWRF with WRF 3.2p: v3.2 plus known patches  as of August 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R1 (2010 baseline) added to WRF repository (r434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R1 (r434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r4411p: v3.2.1 plus known patches as of August 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r4411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r44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R2 (2010 operational) added to WRF repository (r447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r44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urrent top of reposit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0" name="TextBox 5"/>
          <p:cNvSpPr/>
          <p:nvPr/>
        </p:nvSpPr>
        <p:spPr>
          <a:xfrm>
            <a:off x="1066680" y="5334120"/>
            <a:ext cx="7391520" cy="1191240"/>
          </a:xfrm>
          <a:prstGeom prst="rect">
            <a:avLst/>
          </a:prstGeom>
          <a:noFill/>
          <a:ln w="158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All tests performed for cold start Gustav 2008082718, 5-day forecast, on jet/Intel, with NetCDF I/O.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Future tests will expand to other platforms and I/O formats, and include cycling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Upcoming activities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72" name="Slide Number Placeholder 2"/>
          <p:cNvSpPr/>
          <p:nvPr/>
        </p:nvSpPr>
        <p:spPr>
          <a:xfrm>
            <a:off x="5334120" y="6172200"/>
            <a:ext cx="457200" cy="4572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23F94-8CE8-425E-8849-EC9B0DFCD8B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xpand community code to contain HWRF 2011 baseline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un 2011 baseline configuration on jet to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Qualify DTC testing platform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reate a benchmark (Reference Configuration) of community cod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ddition of HYCOM to DTC Testing suit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run of baseline using HYCOM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02:37:49Z</dcterms:created>
  <dc:creator>nance</dc:creator>
  <dc:description/>
  <dc:language>en-US</dc:language>
  <cp:lastModifiedBy>xzhang</cp:lastModifiedBy>
  <cp:lastPrinted>2010-08-18T18:03:21Z</cp:lastPrinted>
  <dcterms:modified xsi:type="dcterms:W3CDTF">2010-10-21T08:11:28Z</dcterms:modified>
  <cp:revision>187</cp:revision>
  <dc:subject/>
  <dc:title>Task Title</dc:title>
</cp:coreProperties>
</file>