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907-F328-4DAC-98EF-207A4017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F25A-F8C2-4B50-9D7D-96BDE807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B5C9-DE26-4451-921B-BC9D950A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822-0DCE-4741-B2FF-4C5F7B51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1833-82AF-4FC1-A60F-855EBDFA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49E-0DBE-499D-9DAB-7179DE8A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289-58C4-42C1-B1E3-F99ADAB6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348-E81B-43C8-9B29-E6C797B2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95A-9620-489D-A9BF-CD182883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6A1-CED3-4183-9CD5-6298A3AB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3DE-1F2E-413B-A319-44FCEB2F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B42-70A7-4A56-B465-94B5C275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A033-8DA7-40EF-BC7A-4C06CC938F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A898-524B-4BF2-9FE9-B57CFE005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WRFv3.2 status update in H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RD Modeling Group and Collabo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de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RD has provided the new nesting code to EMC and EMC has merged the code in the repository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C has provided a repository code (Jet- version) to HRD including all operational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RD can obtain up-to-date code from EMC repository code mach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de running 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C has put an operational version on jet and tested successfully at 9-3km and 27-9km re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RD has independently tested it, and confirmed all functions were working. The results has not been further evalu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hart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art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going Projects with v3.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RD is working on several proj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rtex Initialization improvement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nest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-sea interaction and surface process diagno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Nest 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RD have run 27-9-3km configuration on jet with v3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main siz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utmost domain (27 km): same as operational domai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diate domain (9 km): same as operation domai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nermost domain ( 3 km): 2/3 of the mediate domai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ysics options: all HWRF options except gravity wave drag option were switched on and wor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 and BC: GFS forec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ecast wall clock: 2 hours and 6 minutes for 126 hrs forec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posed cases: IKE 1 case, BILL, Ana, Selected 2010 c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su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urrent configuration: 77.5°×77.5°, 7.2°×6.0°, 4.8°×4.0° is smal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re PEs required to complete with one hour wall clock but double PEs doesn’t work in this configu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posed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figuration: 77.5°×77.5°, 10.0°×10.0°, 7.2°×6.0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s issue: further test after increasing the domain size, need computer expert help to reach one hour wall clock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32:45Z</dcterms:created>
  <dc:creator>xzhang</dc:creator>
  <dc:description/>
  <dc:language>en-US</dc:language>
  <cp:lastModifiedBy>Seminar</cp:lastModifiedBy>
  <dcterms:modified xsi:type="dcterms:W3CDTF">2010-10-21T14:57:51Z</dcterms:modified>
  <cp:revision>10</cp:revision>
  <dc:subject/>
  <dc:title>HWRFv3.2 status update in HRD</dc:title>
</cp:coreProperties>
</file>