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4C1-D043-42A2-86BE-8584C2F8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95F-B430-454A-8697-51F97F05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993-EDCE-423D-8253-8B0095F8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202-C89D-4458-887B-839E0416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AA6-4565-489B-B7DD-460E7A38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F5F-69EE-4872-B37D-E2B9147E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244-2AF7-4309-AE8E-C8BF7FBC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229-CED0-4AFB-9F70-77CA0A83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FAE-4433-4210-9B29-86E818D7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9B5-3060-4A57-AE20-2E64F309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7EF-702C-41D2-831D-081B3FB3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F83-ACDE-4D09-9E28-F140DBA2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B8C5-6D69-426E-9E7E-365AE78AE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MPS tests for Celia with a New Version of NAVD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657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V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NRL Atmospheric Variational Data Assimilation System is an observation space 3DVAR system and provides initial conditions for COAMP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i Jin, Keith Sashegyi, Li Bi, James Doyle, and Jon Moskait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aval Research Laboratory, Monterey, Califor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304920" y="228600"/>
            <a:ext cx="975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PW Difference between using old and new NAV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8943" r="1271" b="13883"/>
          <a:stretch/>
        </p:blipFill>
        <p:spPr>
          <a:xfrm>
            <a:off x="228600" y="1066680"/>
            <a:ext cx="8686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50269" b="0"/>
          <a:stretch/>
        </p:blipFill>
        <p:spPr>
          <a:xfrm>
            <a:off x="1066680" y="304920"/>
            <a:ext cx="6934320" cy="3098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49734" t="0" r="0" b="0"/>
          <a:stretch/>
        </p:blipFill>
        <p:spPr>
          <a:xfrm>
            <a:off x="685800" y="3200400"/>
            <a:ext cx="7467480" cy="3301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81280" y="914400"/>
            <a:ext cx="2590920" cy="1295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1905120"/>
            <a:ext cx="1676520" cy="761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010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PW assimilation results in slightly drier environment near the storm, but moister at other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 in moisture can be traced through the 120-h forecast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ditional wind data modifies storm circ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forecasts of Celia has been improved significantly using the new NAVD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o runs of 2008/09 EPAC storms with 250 cases in total (by Doyle and Hodur) also show significant improvement in track 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 NAVDAS 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new version assimilating additional satellite observations over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rface winds (ASCAT, ERS-2, WindSat, superobs in 1x1 deg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ellite feature-track winds (GOES, GMS, METEO; 1x1 deg box, more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idity (RH derived from TPW products of SSM/I, SSMIS, Wind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MPS-TC Update cycles of Celia in EPAC (2010061912-20100629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and intensity forecasts from the control (using the old NAVDAS) and new NAVDAS runs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7003" r="0" b="12000"/>
          <a:stretch/>
        </p:blipFill>
        <p:spPr>
          <a:xfrm>
            <a:off x="685800" y="7621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49720" y="228600"/>
            <a:ext cx="55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ld NAVDAS (2x2 deg superobs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18000" r="0" b="0"/>
          <a:stretch/>
        </p:blipFill>
        <p:spPr>
          <a:xfrm>
            <a:off x="762120" y="609480"/>
            <a:ext cx="7619760" cy="6248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32400" y="152280"/>
            <a:ext cx="56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NAVDAS (1x1 deg superobs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228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NAV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Old NAVDAS does not assimilate feature track winds at 800-70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18000" r="0" b="12000"/>
          <a:stretch/>
        </p:blipFill>
        <p:spPr>
          <a:xfrm>
            <a:off x="838080" y="15238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2286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ld NAV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16001" r="0" b="4998"/>
          <a:stretch/>
        </p:blipFill>
        <p:spPr>
          <a:xfrm>
            <a:off x="762120" y="838080"/>
            <a:ext cx="7619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228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NAV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improved SSMI wind speed quality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7003" r="0" b="7998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304920" y="228600"/>
            <a:ext cx="9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itial Surface Wind Dif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etween Using new and Old NAV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8090" r="0" b="13711"/>
          <a:stretch/>
        </p:blipFill>
        <p:spPr>
          <a:xfrm>
            <a:off x="457200" y="1600200"/>
            <a:ext cx="7772400" cy="4703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81280" y="3124080"/>
            <a:ext cx="1828800" cy="1905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4495680"/>
            <a:ext cx="1295640" cy="144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17003" r="0" b="12000"/>
          <a:stretch/>
        </p:blipFill>
        <p:spPr>
          <a:xfrm>
            <a:off x="685800" y="91440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304920" y="228600"/>
            <a:ext cx="975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w NAV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Old NAVDAS does not assimilate RH derived from TP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7:54:44Z</dcterms:created>
  <dc:creator>Dr. Yi Jin</dc:creator>
  <dc:description/>
  <dc:language>en-US</dc:language>
  <cp:lastModifiedBy>Dr. Yi Jin</cp:lastModifiedBy>
  <dcterms:modified xsi:type="dcterms:W3CDTF">2010-09-15T23:30:14Z</dcterms:modified>
  <cp:revision>24</cp:revision>
  <dc:subject/>
  <dc:title>Celia test</dc:title>
</cp:coreProperties>
</file>