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F695-5A31-4180-B10B-0CF668FA8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E82E-3D61-40F3-B8D1-36669D482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F6EF-3E5B-49DF-B36F-3E99F7E81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BDE0-52FB-4758-9FFD-455B6495C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F061-2BA9-4697-9F1D-EF369C2C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100F-A720-4D40-87E3-411127643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0B22-E737-40CC-A158-A1EEB9FD1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3C6A-1EDB-45EA-9E60-1C50C3B8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343E-2980-443F-900A-CE23EFF0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C1E3-61F1-4F82-8CF9-C198F966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BA5C-2C91-4BED-97A5-273C4C96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88BB-3352-490A-AE49-8A093C18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6D58-DE75-443C-A593-B3460AA1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1AEE-AE19-4D30-8D4C-DBE35A8C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0E25-FAD3-4C94-92AA-542C98BF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44DA-D0D8-4DC9-95D1-44CBB81AAB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Multi-scale Diagnostics of the experimental version HWRF using the HRH 69 runs and aircraft observations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un Zhang, Robert Rogers, and John Cangialosi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amp; the HRD modeling group (Thiago Quirino, Kevin Yeh, Xuejin Zhang, and Gop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2362320" y="60958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D Modeling Meeting, 16 September, 20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9" descr="C:\WORK_MATLAB\Model\HWRF\HRH\Analysis\MajorHurr\div_highres.tif"/>
          <p:cNvPicPr/>
          <p:nvPr/>
        </p:nvPicPr>
        <p:blipFill>
          <a:blip r:embed="rId3"/>
          <a:stretch/>
        </p:blipFill>
        <p:spPr>
          <a:xfrm>
            <a:off x="457200" y="53352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C:\WORK_MATLAB\Model\HWRF\HRH\Analysis\MajorHurr\div_lowres.tif"/>
          <p:cNvPicPr/>
          <p:nvPr/>
        </p:nvPicPr>
        <p:blipFill>
          <a:blip r:embed="rId4"/>
          <a:stretch/>
        </p:blipFill>
        <p:spPr>
          <a:xfrm>
            <a:off x="533520" y="3733920"/>
            <a:ext cx="3830400" cy="2873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C:\WORK_MATLAB\Model\HWRF\HRH\Analysis\MajorHurr\vor_highres.tif"/>
          <p:cNvPicPr/>
          <p:nvPr/>
        </p:nvPicPr>
        <p:blipFill>
          <a:blip r:embed="rId5"/>
          <a:stretch/>
        </p:blipFill>
        <p:spPr>
          <a:xfrm>
            <a:off x="4572000" y="457200"/>
            <a:ext cx="4165560" cy="3124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C:\WORK_MATLAB\Model\HWRF\HRH\Analysis\MajorHurr\vor_lowres.tif"/>
          <p:cNvPicPr/>
          <p:nvPr/>
        </p:nvPicPr>
        <p:blipFill>
          <a:blip r:embed="rId6"/>
          <a:stretch/>
        </p:blipFill>
        <p:spPr>
          <a:xfrm>
            <a:off x="4648320" y="3657600"/>
            <a:ext cx="4038480" cy="3029040"/>
          </a:xfrm>
          <a:prstGeom prst="rect">
            <a:avLst/>
          </a:prstGeom>
          <a:ln w="0">
            <a:noFill/>
          </a:ln>
        </p:spPr>
      </p:pic>
      <p:grpSp>
        <p:nvGrpSpPr>
          <p:cNvPr id="87" name="Group 14"/>
          <p:cNvGrpSpPr/>
          <p:nvPr/>
        </p:nvGrpSpPr>
        <p:grpSpPr>
          <a:xfrm>
            <a:off x="380880" y="457200"/>
            <a:ext cx="8280360" cy="6400800"/>
            <a:chOff x="380880" y="457200"/>
            <a:chExt cx="8280360" cy="6400800"/>
          </a:xfrm>
        </p:grpSpPr>
        <p:pic>
          <p:nvPicPr>
            <p:cNvPr id="88" name="Picture 9" descr="C:\WORK_MATLAB\Model\HWRF\HRH\Analysis\MajorHurr\div_highres.tif"/>
            <p:cNvPicPr/>
            <p:nvPr/>
          </p:nvPicPr>
          <p:blipFill>
            <a:blip r:embed="rId7"/>
            <a:stretch/>
          </p:blipFill>
          <p:spPr>
            <a:xfrm>
              <a:off x="380880" y="704520"/>
              <a:ext cx="3886200" cy="29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10" descr="C:\WORK_MATLAB\Model\HWRF\HRH\Analysis\MajorHurr\div_lowres.tif"/>
            <p:cNvPicPr/>
            <p:nvPr/>
          </p:nvPicPr>
          <p:blipFill>
            <a:blip r:embed="rId8"/>
            <a:stretch/>
          </p:blipFill>
          <p:spPr>
            <a:xfrm>
              <a:off x="456840" y="3905280"/>
              <a:ext cx="3830760" cy="287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11" descr="C:\WORK_MATLAB\Model\HWRF\HRH\Analysis\MajorHurr\vor_highres.tif"/>
            <p:cNvPicPr/>
            <p:nvPr/>
          </p:nvPicPr>
          <p:blipFill>
            <a:blip r:embed="rId9"/>
            <a:stretch/>
          </p:blipFill>
          <p:spPr>
            <a:xfrm>
              <a:off x="4495680" y="628560"/>
              <a:ext cx="4165560" cy="31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12" descr="C:\WORK_MATLAB\Model\HWRF\HRH\Analysis\MajorHurr\vor_lowres.tif"/>
            <p:cNvPicPr/>
            <p:nvPr/>
          </p:nvPicPr>
          <p:blipFill>
            <a:blip r:embed="rId10"/>
            <a:stretch/>
          </p:blipFill>
          <p:spPr>
            <a:xfrm>
              <a:off x="4572000" y="3828960"/>
              <a:ext cx="4038480" cy="30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8"/>
            <p:cNvSpPr/>
            <p:nvPr/>
          </p:nvSpPr>
          <p:spPr>
            <a:xfrm>
              <a:off x="3428640" y="367668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f497d"/>
                  </a:solidFill>
                  <a:latin typeface="Arial"/>
                </a:rPr>
                <a:t>27-9 km resolu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9"/>
            <p:cNvSpPr/>
            <p:nvPr/>
          </p:nvSpPr>
          <p:spPr>
            <a:xfrm>
              <a:off x="3352680" y="45720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f497d"/>
                  </a:solidFill>
                  <a:latin typeface="Arial"/>
                </a:rPr>
                <a:t>9-3 km resolu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Box 15"/>
          <p:cNvSpPr/>
          <p:nvPr/>
        </p:nvSpPr>
        <p:spPr>
          <a:xfrm>
            <a:off x="457200" y="712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ite analysis of the model simulated dynamical fiel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10"/>
          <p:cNvGrpSpPr/>
          <p:nvPr/>
        </p:nvGrpSpPr>
        <p:grpSpPr>
          <a:xfrm>
            <a:off x="304920" y="380880"/>
            <a:ext cx="8483400" cy="6477120"/>
            <a:chOff x="304920" y="380880"/>
            <a:chExt cx="8483400" cy="6477120"/>
          </a:xfrm>
        </p:grpSpPr>
        <p:pic>
          <p:nvPicPr>
            <p:cNvPr id="99" name="Picture 9" descr="C:\WORK_MATLAB\Model\HWRF\HRH\Analysis\MajorHurr\temp_highres.tif"/>
            <p:cNvPicPr/>
            <p:nvPr/>
          </p:nvPicPr>
          <p:blipFill>
            <a:blip r:embed="rId3"/>
            <a:stretch/>
          </p:blipFill>
          <p:spPr>
            <a:xfrm>
              <a:off x="304920" y="533160"/>
              <a:ext cx="426708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10" descr="C:\WORK_MATLAB\Model\HWRF\HRH\Analysis\MajorHurr\temp_lowres.tif"/>
            <p:cNvPicPr/>
            <p:nvPr/>
          </p:nvPicPr>
          <p:blipFill>
            <a:blip r:embed="rId4"/>
            <a:stretch/>
          </p:blipFill>
          <p:spPr>
            <a:xfrm>
              <a:off x="380880" y="3714840"/>
              <a:ext cx="4190760" cy="314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11" descr="C:\WORK_MATLAB\Model\HWRF\HRH\Analysis\MajorHurr\q_highres.tif"/>
            <p:cNvPicPr/>
            <p:nvPr/>
          </p:nvPicPr>
          <p:blipFill>
            <a:blip r:embed="rId5"/>
            <a:stretch/>
          </p:blipFill>
          <p:spPr>
            <a:xfrm>
              <a:off x="4343400" y="456840"/>
              <a:ext cx="4440240" cy="333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12" descr="C:\WORK_MATLAB\Model\HWRF\HRH\Analysis\MajorHurr\q_lowres.tif"/>
            <p:cNvPicPr/>
            <p:nvPr/>
          </p:nvPicPr>
          <p:blipFill>
            <a:blip r:embed="rId6"/>
            <a:stretch/>
          </p:blipFill>
          <p:spPr>
            <a:xfrm>
              <a:off x="4495680" y="3733920"/>
              <a:ext cx="429264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Box 8"/>
            <p:cNvSpPr/>
            <p:nvPr/>
          </p:nvSpPr>
          <p:spPr>
            <a:xfrm>
              <a:off x="3352680" y="38088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f497d"/>
                  </a:solidFill>
                  <a:latin typeface="Arial"/>
                </a:rPr>
                <a:t>9-3 km resolu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9"/>
            <p:cNvSpPr/>
            <p:nvPr/>
          </p:nvSpPr>
          <p:spPr>
            <a:xfrm>
              <a:off x="3429000" y="351612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f497d"/>
                  </a:solidFill>
                  <a:latin typeface="Arial"/>
                </a:rPr>
                <a:t>27-9 km resolu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Box 11"/>
          <p:cNvSpPr/>
          <p:nvPr/>
        </p:nvSpPr>
        <p:spPr>
          <a:xfrm>
            <a:off x="457200" y="7128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site analysis of the model simulated thermodynamical fiel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ct of horizontal resolution on boundary layer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9"/>
          <p:cNvGrpSpPr/>
          <p:nvPr/>
        </p:nvGrpSpPr>
        <p:grpSpPr>
          <a:xfrm>
            <a:off x="152280" y="457200"/>
            <a:ext cx="8686800" cy="6400800"/>
            <a:chOff x="152280" y="457200"/>
            <a:chExt cx="8686800" cy="6400800"/>
          </a:xfrm>
        </p:grpSpPr>
        <p:pic>
          <p:nvPicPr>
            <p:cNvPr id="108" name="Picture 11" descr="C:\WORK_MATLAB\Model\HWRF\HRH\Analysis\MajorHurr_SS\Figures\Boundary_Layer\vt_bl_highres.tif"/>
            <p:cNvPicPr/>
            <p:nvPr/>
          </p:nvPicPr>
          <p:blipFill>
            <a:blip r:embed="rId1"/>
            <a:stretch/>
          </p:blipFill>
          <p:spPr>
            <a:xfrm>
              <a:off x="152280" y="555480"/>
              <a:ext cx="4237200" cy="31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12" descr="C:\WORK_MATLAB\Model\HWRF\HRH\Analysis\MajorHurr_SS\Figures\Boundary_Layer\vt_bl_lowres.tif"/>
            <p:cNvPicPr/>
            <p:nvPr/>
          </p:nvPicPr>
          <p:blipFill>
            <a:blip r:embed="rId2"/>
            <a:stretch/>
          </p:blipFill>
          <p:spPr>
            <a:xfrm>
              <a:off x="152280" y="3657600"/>
              <a:ext cx="426708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3" descr="C:\WORK_MATLAB\Model\HWRF\HRH\Analysis\MajorHurr_SS\Figures\Boundary_Layer\vr_bl_highres.tif"/>
            <p:cNvPicPr/>
            <p:nvPr/>
          </p:nvPicPr>
          <p:blipFill>
            <a:blip r:embed="rId3"/>
            <a:stretch/>
          </p:blipFill>
          <p:spPr>
            <a:xfrm>
              <a:off x="4572000" y="533160"/>
              <a:ext cx="426708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4" descr="C:\WORK_MATLAB\Model\HWRF\HRH\Analysis\MajorHurr_SS\Figures\Boundary_Layer\vr_bl_lowres.tif"/>
            <p:cNvPicPr/>
            <p:nvPr/>
          </p:nvPicPr>
          <p:blipFill>
            <a:blip r:embed="rId4"/>
            <a:stretch/>
          </p:blipFill>
          <p:spPr>
            <a:xfrm>
              <a:off x="4495680" y="3657600"/>
              <a:ext cx="426672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Box 11"/>
            <p:cNvSpPr/>
            <p:nvPr/>
          </p:nvSpPr>
          <p:spPr>
            <a:xfrm>
              <a:off x="3581280" y="45720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f497d"/>
                  </a:solidFill>
                  <a:latin typeface="Arial"/>
                </a:rPr>
                <a:t>9-3 km resolu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12"/>
            <p:cNvSpPr/>
            <p:nvPr/>
          </p:nvSpPr>
          <p:spPr>
            <a:xfrm>
              <a:off x="3504960" y="351648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f497d"/>
                  </a:solidFill>
                  <a:latin typeface="Arial"/>
                </a:rPr>
                <a:t>27-9 km resolu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Box 8"/>
          <p:cNvSpPr/>
          <p:nvPr/>
        </p:nvSpPr>
        <p:spPr>
          <a:xfrm>
            <a:off x="457200" y="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ite analysis of the model simulated dynamical fiel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9"/>
          <p:cNvGrpSpPr/>
          <p:nvPr/>
        </p:nvGrpSpPr>
        <p:grpSpPr>
          <a:xfrm>
            <a:off x="0" y="544680"/>
            <a:ext cx="8820000" cy="6313320"/>
            <a:chOff x="0" y="544680"/>
            <a:chExt cx="8820000" cy="6313320"/>
          </a:xfrm>
        </p:grpSpPr>
        <p:pic>
          <p:nvPicPr>
            <p:cNvPr id="116" name="Picture 3" descr="C:\WORK_MATLAB\Model\HWRF\HRH\Analysis\MajorHurr_SS\Figures\Boundary_Layer\temp_bl_highres.tif"/>
            <p:cNvPicPr/>
            <p:nvPr/>
          </p:nvPicPr>
          <p:blipFill>
            <a:blip r:embed="rId1"/>
            <a:stretch/>
          </p:blipFill>
          <p:spPr>
            <a:xfrm>
              <a:off x="152280" y="679320"/>
              <a:ext cx="4071960" cy="30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4" descr="C:\WORK_MATLAB\Model\HWRF\HRH\Analysis\MajorHurr_SS\Figures\Boundary_Layer\temp_bl_lowres.tif"/>
            <p:cNvPicPr/>
            <p:nvPr/>
          </p:nvPicPr>
          <p:blipFill>
            <a:blip r:embed="rId2"/>
            <a:stretch/>
          </p:blipFill>
          <p:spPr>
            <a:xfrm>
              <a:off x="0" y="3657600"/>
              <a:ext cx="426708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3" descr="C:\WORK_MATLAB\Model\HWRF\HRH\Analysis\MajorHurr_SS\Figures\Boundary_Layer\q_bl_lowres.tif"/>
            <p:cNvPicPr/>
            <p:nvPr/>
          </p:nvPicPr>
          <p:blipFill>
            <a:blip r:embed="rId3"/>
            <a:stretch/>
          </p:blipFill>
          <p:spPr>
            <a:xfrm>
              <a:off x="4647960" y="3729240"/>
              <a:ext cx="4172040" cy="312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4" descr="C:\WORK_MATLAB\Model\HWRF\HRH\Analysis\MajorHurr_SS\Figures\Boundary_Layer\q_bl_highres.tif"/>
            <p:cNvPicPr/>
            <p:nvPr/>
          </p:nvPicPr>
          <p:blipFill>
            <a:blip r:embed="rId4"/>
            <a:stretch/>
          </p:blipFill>
          <p:spPr>
            <a:xfrm>
              <a:off x="4647960" y="685800"/>
              <a:ext cx="416556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Box 11"/>
            <p:cNvSpPr/>
            <p:nvPr/>
          </p:nvSpPr>
          <p:spPr>
            <a:xfrm>
              <a:off x="3352680" y="54468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f497d"/>
                  </a:solidFill>
                  <a:latin typeface="Arial"/>
                </a:rPr>
                <a:t>9-3 km resolu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12"/>
            <p:cNvSpPr/>
            <p:nvPr/>
          </p:nvSpPr>
          <p:spPr>
            <a:xfrm>
              <a:off x="3352680" y="351648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f497d"/>
                  </a:solidFill>
                  <a:latin typeface="Arial"/>
                </a:rPr>
                <a:t>27-9 km resolu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Box 8"/>
          <p:cNvSpPr/>
          <p:nvPr/>
        </p:nvSpPr>
        <p:spPr>
          <a:xfrm>
            <a:off x="609480" y="7632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site analysis of the model simulated thermodynamical fiel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How are the model simulated structures compared to observation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14"/>
          <p:cNvGrpSpPr/>
          <p:nvPr/>
        </p:nvGrpSpPr>
        <p:grpSpPr>
          <a:xfrm>
            <a:off x="0" y="0"/>
            <a:ext cx="9982080" cy="6858000"/>
            <a:chOff x="0" y="0"/>
            <a:chExt cx="9982080" cy="6858000"/>
          </a:xfrm>
        </p:grpSpPr>
        <p:grpSp>
          <p:nvGrpSpPr>
            <p:cNvPr id="126" name="Group 29"/>
            <p:cNvGrpSpPr/>
            <p:nvPr/>
          </p:nvGrpSpPr>
          <p:grpSpPr>
            <a:xfrm>
              <a:off x="0" y="0"/>
              <a:ext cx="9982080" cy="6858000"/>
              <a:chOff x="0" y="0"/>
              <a:chExt cx="9982080" cy="6858000"/>
            </a:xfrm>
          </p:grpSpPr>
          <p:grpSp>
            <p:nvGrpSpPr>
              <p:cNvPr id="127" name="Group 27"/>
              <p:cNvGrpSpPr/>
              <p:nvPr/>
            </p:nvGrpSpPr>
            <p:grpSpPr>
              <a:xfrm>
                <a:off x="0" y="0"/>
                <a:ext cx="9982080" cy="6858000"/>
                <a:chOff x="0" y="0"/>
                <a:chExt cx="9982080" cy="6858000"/>
              </a:xfrm>
            </p:grpSpPr>
            <p:pic>
              <p:nvPicPr>
                <p:cNvPr id="128" name="Picture 5" descr="K:\Matlab\Model\HRH\MajorHurr_SS\Figures\Boundary_Layer\Normalized\vt_nm_bl_highres.tif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960" y="228600"/>
                  <a:ext cx="4267080" cy="3105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6" descr="K:\Matlab\Model\HRH\MajorHurr_SS\Figures\Boundary_Layer\Normalized\vt_nm_bl_lowres.tif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3600360"/>
                  <a:ext cx="4419360" cy="325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7" descr="K:\Matlab\Model\HRH\MajorHurr_SS\Figures\Boundary_Layer\Normalized\vt_nm_bl_sonde.tif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190760" y="1676160"/>
                  <a:ext cx="4800600" cy="3600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" name="TextBox 12"/>
                <p:cNvSpPr/>
                <p:nvPr/>
              </p:nvSpPr>
              <p:spPr>
                <a:xfrm>
                  <a:off x="1218960" y="3352680"/>
                  <a:ext cx="2209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7-9 km resolu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TextBox 11"/>
                <p:cNvSpPr/>
                <p:nvPr/>
              </p:nvSpPr>
              <p:spPr>
                <a:xfrm>
                  <a:off x="1066680" y="0"/>
                  <a:ext cx="2209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9-3 km resolu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TextBox 24"/>
                <p:cNvSpPr/>
                <p:nvPr/>
              </p:nvSpPr>
              <p:spPr>
                <a:xfrm>
                  <a:off x="3733560" y="380880"/>
                  <a:ext cx="761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m/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TextBox 17"/>
                <p:cNvSpPr/>
                <p:nvPr/>
              </p:nvSpPr>
              <p:spPr>
                <a:xfrm>
                  <a:off x="4572000" y="1563480"/>
                  <a:ext cx="54100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Composite of Dropsonde  data (preliminary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TextBox 26"/>
                <p:cNvSpPr/>
                <p:nvPr/>
              </p:nvSpPr>
              <p:spPr>
                <a:xfrm>
                  <a:off x="8381880" y="1981080"/>
                  <a:ext cx="761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m/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" name="TextBox 28"/>
              <p:cNvSpPr/>
              <p:nvPr/>
            </p:nvSpPr>
            <p:spPr>
              <a:xfrm>
                <a:off x="7162920" y="1752480"/>
                <a:ext cx="76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V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Rectangle 13"/>
            <p:cNvSpPr/>
            <p:nvPr/>
          </p:nvSpPr>
          <p:spPr>
            <a:xfrm>
              <a:off x="4572000" y="5105520"/>
              <a:ext cx="457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above figure is from Zhang et al. 2010 in preparat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12"/>
          <p:cNvGrpSpPr/>
          <p:nvPr/>
        </p:nvGrpSpPr>
        <p:grpSpPr>
          <a:xfrm>
            <a:off x="0" y="0"/>
            <a:ext cx="9753480" cy="6858000"/>
            <a:chOff x="0" y="0"/>
            <a:chExt cx="9753480" cy="6858000"/>
          </a:xfrm>
        </p:grpSpPr>
        <p:grpSp>
          <p:nvGrpSpPr>
            <p:cNvPr id="139" name="Group 17"/>
            <p:cNvGrpSpPr/>
            <p:nvPr/>
          </p:nvGrpSpPr>
          <p:grpSpPr>
            <a:xfrm>
              <a:off x="0" y="0"/>
              <a:ext cx="9753480" cy="6858000"/>
              <a:chOff x="0" y="0"/>
              <a:chExt cx="9753480" cy="6858000"/>
            </a:xfrm>
          </p:grpSpPr>
          <p:sp>
            <p:nvSpPr>
              <p:cNvPr id="140" name="TextBox 11"/>
              <p:cNvSpPr/>
              <p:nvPr/>
            </p:nvSpPr>
            <p:spPr>
              <a:xfrm>
                <a:off x="1143000" y="0"/>
                <a:ext cx="220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-3 km resolu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1" name="Picture 2" descr="K:\Matlab\Model\HRH\MajorHurr_SS\Figures\Boundary_Layer\Normalized\vr_nm_bl_highres.tif"/>
              <p:cNvPicPr/>
              <p:nvPr/>
            </p:nvPicPr>
            <p:blipFill>
              <a:blip r:embed="rId1"/>
              <a:stretch/>
            </p:blipFill>
            <p:spPr>
              <a:xfrm>
                <a:off x="152280" y="304560"/>
                <a:ext cx="4114800" cy="308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Picture 3" descr="K:\Matlab\Model\HRH\MajorHurr_SS\Figures\Boundary_Layer\Normalized\vr_nm_bl_lowres.tif"/>
              <p:cNvPicPr/>
              <p:nvPr/>
            </p:nvPicPr>
            <p:blipFill>
              <a:blip r:embed="rId2"/>
              <a:stretch/>
            </p:blipFill>
            <p:spPr>
              <a:xfrm>
                <a:off x="0" y="3600360"/>
                <a:ext cx="4343400" cy="325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Picture 4" descr="K:\Matlab\Model\HRH\MajorHurr_SS\Figures\Boundary_Layer\Normalized\vr_nm_bl_sonde.tif"/>
              <p:cNvPicPr/>
              <p:nvPr/>
            </p:nvPicPr>
            <p:blipFill>
              <a:blip r:embed="rId3"/>
              <a:stretch/>
            </p:blipFill>
            <p:spPr>
              <a:xfrm>
                <a:off x="4114800" y="1523880"/>
                <a:ext cx="4654440" cy="349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TextBox 12"/>
              <p:cNvSpPr/>
              <p:nvPr/>
            </p:nvSpPr>
            <p:spPr>
              <a:xfrm>
                <a:off x="3809880" y="38088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/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Box 15"/>
              <p:cNvSpPr/>
              <p:nvPr/>
            </p:nvSpPr>
            <p:spPr>
              <a:xfrm>
                <a:off x="8229600" y="190476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/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Box 17"/>
              <p:cNvSpPr/>
              <p:nvPr/>
            </p:nvSpPr>
            <p:spPr>
              <a:xfrm>
                <a:off x="4343400" y="1371600"/>
                <a:ext cx="5410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Composite of Dropsonde  data (preliminary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TextBox 16"/>
              <p:cNvSpPr/>
              <p:nvPr/>
            </p:nvSpPr>
            <p:spPr>
              <a:xfrm>
                <a:off x="7086600" y="1600200"/>
                <a:ext cx="76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V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TextBox 12"/>
              <p:cNvSpPr/>
              <p:nvPr/>
            </p:nvSpPr>
            <p:spPr>
              <a:xfrm>
                <a:off x="1066680" y="3276720"/>
                <a:ext cx="220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7-9 km resolu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Rectangle 11"/>
            <p:cNvSpPr/>
            <p:nvPr/>
          </p:nvSpPr>
          <p:spPr>
            <a:xfrm>
              <a:off x="4572000" y="4876920"/>
              <a:ext cx="457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above figure is from Zhang et al. 2010 in preparat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13"/>
          <p:cNvSpPr/>
          <p:nvPr/>
        </p:nvSpPr>
        <p:spPr>
          <a:xfrm>
            <a:off x="8534520" y="17524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°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12"/>
          <p:cNvGrpSpPr/>
          <p:nvPr/>
        </p:nvGrpSpPr>
        <p:grpSpPr>
          <a:xfrm>
            <a:off x="0" y="11160"/>
            <a:ext cx="9753480" cy="6846840"/>
            <a:chOff x="0" y="11160"/>
            <a:chExt cx="9753480" cy="6846840"/>
          </a:xfrm>
        </p:grpSpPr>
        <p:grpSp>
          <p:nvGrpSpPr>
            <p:cNvPr id="152" name="Group 15"/>
            <p:cNvGrpSpPr/>
            <p:nvPr/>
          </p:nvGrpSpPr>
          <p:grpSpPr>
            <a:xfrm>
              <a:off x="0" y="11160"/>
              <a:ext cx="9753480" cy="6846840"/>
              <a:chOff x="0" y="11160"/>
              <a:chExt cx="9753480" cy="6846840"/>
            </a:xfrm>
          </p:grpSpPr>
          <p:sp>
            <p:nvSpPr>
              <p:cNvPr id="153" name="TextBox 17"/>
              <p:cNvSpPr/>
              <p:nvPr/>
            </p:nvSpPr>
            <p:spPr>
              <a:xfrm>
                <a:off x="4343400" y="1143000"/>
                <a:ext cx="5410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Composite of Dropsonde  data (preliminary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11"/>
              <p:cNvSpPr/>
              <p:nvPr/>
            </p:nvSpPr>
            <p:spPr>
              <a:xfrm>
                <a:off x="990360" y="11160"/>
                <a:ext cx="220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-3 km resolu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5" name="Picture 2" descr="K:\Matlab\Model\HRH\MajorHurr_SS\Figures\Boundary_Layer\Normalized\temp_nm_bl_highres.tif"/>
              <p:cNvPicPr/>
              <p:nvPr/>
            </p:nvPicPr>
            <p:blipFill>
              <a:blip r:embed="rId1"/>
              <a:stretch/>
            </p:blipFill>
            <p:spPr>
              <a:xfrm>
                <a:off x="0" y="374400"/>
                <a:ext cx="4267080" cy="320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3" descr="K:\Matlab\Model\HRH\MajorHurr_SS\Figures\Boundary_Layer\Normalized\temp_nm_bl_lowres.tif"/>
              <p:cNvPicPr/>
              <p:nvPr/>
            </p:nvPicPr>
            <p:blipFill>
              <a:blip r:embed="rId2"/>
              <a:stretch/>
            </p:blipFill>
            <p:spPr>
              <a:xfrm>
                <a:off x="0" y="3657600"/>
                <a:ext cx="4267080" cy="320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Picture 4" descr="K:\Matlab\Model\HRH\MajorHurr_SS\Figures\Boundary_Layer\Normalized\temp_nm_bl_sonde.tif"/>
              <p:cNvPicPr/>
              <p:nvPr/>
            </p:nvPicPr>
            <p:blipFill>
              <a:blip r:embed="rId3"/>
              <a:stretch/>
            </p:blipFill>
            <p:spPr>
              <a:xfrm>
                <a:off x="3962160" y="1447560"/>
                <a:ext cx="5181480" cy="388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TextBox 12"/>
              <p:cNvSpPr/>
              <p:nvPr/>
            </p:nvSpPr>
            <p:spPr>
              <a:xfrm>
                <a:off x="1066680" y="3429000"/>
                <a:ext cx="220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7-9 km resolu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Box 14"/>
              <p:cNvSpPr/>
              <p:nvPr/>
            </p:nvSpPr>
            <p:spPr>
              <a:xfrm>
                <a:off x="7086600" y="1600200"/>
                <a:ext cx="76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em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Rectangle 11"/>
            <p:cNvSpPr/>
            <p:nvPr/>
          </p:nvSpPr>
          <p:spPr>
            <a:xfrm>
              <a:off x="4572000" y="5105520"/>
              <a:ext cx="457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above figure is from Zhang et al. 2010 in preparat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Box 13"/>
          <p:cNvSpPr/>
          <p:nvPr/>
        </p:nvSpPr>
        <p:spPr>
          <a:xfrm>
            <a:off x="8534520" y="1676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°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2"/>
          <p:cNvGrpSpPr/>
          <p:nvPr/>
        </p:nvGrpSpPr>
        <p:grpSpPr>
          <a:xfrm>
            <a:off x="0" y="0"/>
            <a:ext cx="9753480" cy="6858000"/>
            <a:chOff x="0" y="0"/>
            <a:chExt cx="9753480" cy="6858000"/>
          </a:xfrm>
        </p:grpSpPr>
        <p:grpSp>
          <p:nvGrpSpPr>
            <p:cNvPr id="163" name="Group 15"/>
            <p:cNvGrpSpPr/>
            <p:nvPr/>
          </p:nvGrpSpPr>
          <p:grpSpPr>
            <a:xfrm>
              <a:off x="0" y="0"/>
              <a:ext cx="9753480" cy="6858000"/>
              <a:chOff x="0" y="0"/>
              <a:chExt cx="9753480" cy="6858000"/>
            </a:xfrm>
          </p:grpSpPr>
          <p:sp>
            <p:nvSpPr>
              <p:cNvPr id="164" name="TextBox 17"/>
              <p:cNvSpPr/>
              <p:nvPr/>
            </p:nvSpPr>
            <p:spPr>
              <a:xfrm>
                <a:off x="4343400" y="1143000"/>
                <a:ext cx="5410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Composite of Dropsonde  data (preliminary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Box 12"/>
              <p:cNvSpPr/>
              <p:nvPr/>
            </p:nvSpPr>
            <p:spPr>
              <a:xfrm>
                <a:off x="1066680" y="3429000"/>
                <a:ext cx="220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7-9 km resolu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6" name="Picture 2" descr="K:\Matlab\Model\HRH\MajorHurr_SS\Figures\Boundary_Layer\Normalized\q_nm_bl_highres.tif"/>
              <p:cNvPicPr/>
              <p:nvPr/>
            </p:nvPicPr>
            <p:blipFill>
              <a:blip r:embed="rId1"/>
              <a:stretch/>
            </p:blipFill>
            <p:spPr>
              <a:xfrm>
                <a:off x="0" y="248400"/>
                <a:ext cx="4343400" cy="319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Picture 3" descr="K:\Matlab\Model\HRH\MajorHurr_SS\Figures\Boundary_Layer\Normalized\q_nm_bl_lowres.tif"/>
              <p:cNvPicPr/>
              <p:nvPr/>
            </p:nvPicPr>
            <p:blipFill>
              <a:blip r:embed="rId2"/>
              <a:stretch/>
            </p:blipFill>
            <p:spPr>
              <a:xfrm>
                <a:off x="0" y="3700440"/>
                <a:ext cx="4209840" cy="315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Picture 4" descr="K:\Matlab\Model\HRH\MajorHurr_SS\Figures\Boundary_Layer\Normalized\q_nm_bl_sonde.tif"/>
              <p:cNvPicPr/>
              <p:nvPr/>
            </p:nvPicPr>
            <p:blipFill>
              <a:blip r:embed="rId3"/>
              <a:stretch/>
            </p:blipFill>
            <p:spPr>
              <a:xfrm>
                <a:off x="3962160" y="1447560"/>
                <a:ext cx="4840920" cy="363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" name="TextBox 11"/>
              <p:cNvSpPr/>
              <p:nvPr/>
            </p:nvSpPr>
            <p:spPr>
              <a:xfrm>
                <a:off x="1066680" y="0"/>
                <a:ext cx="220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-3 km resolu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Rectangle 11"/>
            <p:cNvSpPr/>
            <p:nvPr/>
          </p:nvSpPr>
          <p:spPr>
            <a:xfrm>
              <a:off x="4572000" y="4953240"/>
              <a:ext cx="457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above figure is from Zhang et al. 2010 in preparat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Box 10"/>
          <p:cNvSpPr/>
          <p:nvPr/>
        </p:nvSpPr>
        <p:spPr>
          <a:xfrm>
            <a:off x="7238880" y="1523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3"/>
          <p:cNvSpPr/>
          <p:nvPr/>
        </p:nvSpPr>
        <p:spPr>
          <a:xfrm>
            <a:off x="83059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/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85800" y="849240"/>
            <a:ext cx="7620120" cy="51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oals of HFIP are to improve the accuracy and reliability of hurricane forecasts; to extend lead time for hurricane forecasts with increased certainty; and to increase confidence in hurricane foreca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of the HFIP strategies is to define and build the next generation hurricane forecast framewor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The experimental-version HWRF is under development at H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74" name="TextBox 10"/>
          <p:cNvSpPr/>
          <p:nvPr/>
        </p:nvSpPr>
        <p:spPr>
          <a:xfrm>
            <a:off x="4876920" y="5486400"/>
            <a:ext cx="3504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bove figure is from Rogers et al. 2010 in prepa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8" descr="C:\WORK_MATLAB\Model\HWRF\HRH\Analysis\MajorHurr\vt_nm_highres.tif"/>
          <p:cNvPicPr/>
          <p:nvPr/>
        </p:nvPicPr>
        <p:blipFill>
          <a:blip r:embed="rId2"/>
          <a:stretch/>
        </p:blipFill>
        <p:spPr>
          <a:xfrm>
            <a:off x="0" y="228600"/>
            <a:ext cx="4368960" cy="3276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C:\WORK_MATLAB\Model\HWRF\HRH\Analysis\MajorHurr\vt_nm_lowres.tif"/>
          <p:cNvPicPr/>
          <p:nvPr/>
        </p:nvPicPr>
        <p:blipFill>
          <a:blip r:embed="rId3"/>
          <a:stretch/>
        </p:blipFill>
        <p:spPr>
          <a:xfrm>
            <a:off x="0" y="3733920"/>
            <a:ext cx="4267080" cy="320040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48"/>
          <p:cNvGrpSpPr/>
          <p:nvPr/>
        </p:nvGrpSpPr>
        <p:grpSpPr>
          <a:xfrm>
            <a:off x="4114800" y="838080"/>
            <a:ext cx="4876920" cy="4512240"/>
            <a:chOff x="4114800" y="838080"/>
            <a:chExt cx="4876920" cy="4512240"/>
          </a:xfrm>
        </p:grpSpPr>
        <p:grpSp>
          <p:nvGrpSpPr>
            <p:cNvPr id="178" name="Group 74"/>
            <p:cNvGrpSpPr/>
            <p:nvPr/>
          </p:nvGrpSpPr>
          <p:grpSpPr>
            <a:xfrm>
              <a:off x="4114800" y="838080"/>
              <a:ext cx="4876920" cy="4512240"/>
              <a:chOff x="4114800" y="838080"/>
              <a:chExt cx="4876920" cy="4512240"/>
            </a:xfrm>
          </p:grpSpPr>
          <p:sp>
            <p:nvSpPr>
              <p:cNvPr id="179" name="Rectangle 75"/>
              <p:cNvSpPr/>
              <p:nvPr/>
            </p:nvSpPr>
            <p:spPr>
              <a:xfrm>
                <a:off x="4114800" y="838080"/>
                <a:ext cx="4876920" cy="4496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76"/>
              <p:cNvSpPr/>
              <p:nvPr/>
            </p:nvSpPr>
            <p:spPr>
              <a:xfrm>
                <a:off x="5570640" y="5043240"/>
                <a:ext cx="201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ormalized radius (r*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1" name="Picture 1" descr="utcylav_swath.tif"/>
              <p:cNvPicPr/>
              <p:nvPr/>
            </p:nvPicPr>
            <p:blipFill>
              <a:blip r:embed="rId4"/>
              <a:srcRect l="7475" t="10472" r="7728" b="11339"/>
              <a:stretch/>
            </p:blipFill>
            <p:spPr>
              <a:xfrm>
                <a:off x="4276800" y="1190520"/>
                <a:ext cx="4592520" cy="386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Picture 1" descr="utcylav_swath.tif"/>
              <p:cNvPicPr/>
              <p:nvPr/>
            </p:nvPicPr>
            <p:blipFill>
              <a:blip r:embed="rId5"/>
              <a:srcRect l="60152" t="88648" r="28884" b="7362"/>
              <a:stretch/>
            </p:blipFill>
            <p:spPr>
              <a:xfrm>
                <a:off x="7269840" y="5083920"/>
                <a:ext cx="601560" cy="20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Text Box 79"/>
              <p:cNvSpPr/>
              <p:nvPr/>
            </p:nvSpPr>
            <p:spPr>
              <a:xfrm rot="16200000">
                <a:off x="3796200" y="284652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height (km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80"/>
              <p:cNvSpPr/>
              <p:nvPr/>
            </p:nvSpPr>
            <p:spPr>
              <a:xfrm>
                <a:off x="4262400" y="876240"/>
                <a:ext cx="4486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angential (shaded, m s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) and radial (contour, m s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) wind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TextBox 50"/>
            <p:cNvSpPr/>
            <p:nvPr/>
          </p:nvSpPr>
          <p:spPr>
            <a:xfrm>
              <a:off x="8262720" y="154080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s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Box 11"/>
          <p:cNvSpPr/>
          <p:nvPr/>
        </p:nvSpPr>
        <p:spPr>
          <a:xfrm>
            <a:off x="1219320" y="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-3 km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1143000" y="35053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-9 km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7"/>
          <p:cNvSpPr/>
          <p:nvPr/>
        </p:nvSpPr>
        <p:spPr>
          <a:xfrm>
            <a:off x="4800600" y="3808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osite of Doppler Rada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1"/>
          <p:cNvSpPr/>
          <p:nvPr/>
        </p:nvSpPr>
        <p:spPr>
          <a:xfrm>
            <a:off x="3124080" y="304920"/>
            <a:ext cx="38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533520" y="1143000"/>
            <a:ext cx="7924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inuation of evaluation of the impact of horizontal resolution on the convective-scale structure for major hurricanes at steady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inuation of evaluation of the impact of horizontal resolution on the surface layer structure for major hurricanes at steady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aluation of the multiscale-structure at the initial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aluation of the multiscale-structure during Rapid Intensificatio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xperimental version of HWR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990720" y="1143000"/>
          <a:ext cx="7391160" cy="5484960"/>
        </p:xfrm>
        <a:graphic>
          <a:graphicData uri="http://schemas.openxmlformats.org/drawingml/2006/table">
            <a:tbl>
              <a:tblPr/>
              <a:tblGrid>
                <a:gridCol w="2047680"/>
                <a:gridCol w="2559240"/>
                <a:gridCol w="2784240"/>
              </a:tblGrid>
              <a:tr h="53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ys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WRF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WRF/GFD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W Rad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Dudhia (198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Lacis &amp; Hansen (197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W Rad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lawer et al (199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Schwarzkopf &amp; Fels (199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phys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rrier et al (200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rrier et al (200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v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ng &amp; Pan (199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ng &amp; Pan (199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87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undary Lay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ng &amp; Pan (199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no momentum mixi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ng &amp; Pan (199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86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rface Lay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on et al (200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on et al (200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53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nd Surf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k et al (200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Tuleya (199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ean Surf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nder &amp; Ginis (20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nder &amp; Ginis (20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762120" y="3429000"/>
            <a:ext cx="3276360" cy="2971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x = 27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2666880" y="5029200"/>
            <a:ext cx="1219320" cy="114300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x = 9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4952880" y="3429000"/>
            <a:ext cx="3276720" cy="2971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x = 9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6781680" y="5029200"/>
            <a:ext cx="1219320" cy="114300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x = 3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609480" y="152280"/>
            <a:ext cx="79250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46800" anchor="t">
            <a:no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FIP High-Resolution Hurricane (HRH) Forecast Test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</a:rPr>
              <a:t>A total of 9 Storms, 69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</a:rPr>
              <a:t>2005 Storms: Emily, Katrina, Ophelia, Phillipe, Rita, Wil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</a:rPr>
              <a:t>2007 Storms: Ingrid, Humberto, K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4114800" y="4800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5562720" y="64771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s courtesy to Kevin Ye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hodolog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ulti-scale diagnostics of the experimental version HWR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5320" indent="-25560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nvironmental forcing - O(1000 km) - troughs, she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25320" indent="-25560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ortex scale- O(1-100 km) - symmetric/asymmetric dynamics, VRW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25320" indent="-25560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vective scale – O(1-10 km) – convective bursts, vortical hot tow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25320" indent="-25560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urbulent scale– O(1 m – 1 km) – air-sea fluxes, turbulent mixing, entrainment/detrain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25320" indent="-25560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icrophysics – O(1mm) -- hydrometeor production, latent heat release, Liquid vs i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25320" indent="-255600">
              <a:spcBef>
                <a:spcPts val="400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25320" indent="-25560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lidation of model simulations using observations in the composite sen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Build composites of inner-core structure using the tail Doppler radar data from NOAA WP-3D radial penetrations in many storms (Rogers, Lorsolo, Reasor, Gamache, and Mark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Build composites of boundary layer structure using the GPS dropsonde data in many storms (J. Zhang, Rogers, and Mark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What is the impact of the horizontal resolution on the axisymmetric vortex-scale structure and boundary layer structure?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WRFx runs selected for analysis</a:t>
            </a:r>
            <a:br>
              <a:rPr sz="4000"/>
            </a:b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(major hurricanes at steady state: Hurricanes Emily, Katrina, and Wilm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295280" y="1689120"/>
          <a:ext cx="6553440" cy="2120760"/>
        </p:xfrm>
        <a:graphic>
          <a:graphicData uri="http://schemas.openxmlformats.org/drawingml/2006/table">
            <a:tbl>
              <a:tblPr/>
              <a:tblGrid>
                <a:gridCol w="1633680"/>
                <a:gridCol w="1477800"/>
                <a:gridCol w="1597320"/>
                <a:gridCol w="1844640"/>
              </a:tblGrid>
              <a:tr h="380880"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itialization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it or Mi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me period in simul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tensity range during 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7_13_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8 h – 77 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5 – 105 k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800"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7_14_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5 h – 72 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2 – 102 k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7_15_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 h – 38 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5 – 115 k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_24_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7 h – 85 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4 – 113 k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_26_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2 – 46 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5 – 115 k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_27_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 – 28 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5 – 115 k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_19_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3h – 49 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 – 110 k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_20_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h - 32 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5 – 135 k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1295280" y="4495680"/>
          <a:ext cx="6629400" cy="1978200"/>
        </p:xfrm>
        <a:graphic>
          <a:graphicData uri="http://schemas.openxmlformats.org/drawingml/2006/table">
            <a:tbl>
              <a:tblPr/>
              <a:tblGrid>
                <a:gridCol w="1654200"/>
                <a:gridCol w="1497240"/>
                <a:gridCol w="1616040"/>
                <a:gridCol w="1861920"/>
              </a:tblGrid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itialization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it or Mi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me period in imul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tensity range during 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7_13_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6 h – 96 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5 – 135 k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7_14_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5 h – 61 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8 – 118 k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7_15_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 h – 40 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5 – 135 k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7_16_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 h – 37 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0 – 120 k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_24_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9 h – 73 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5 – 113 k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_26_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 – 38 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6 – 117 k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_19_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h – 38 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2 – 132 k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_20_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h - 28 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0 – 150 k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Box 6"/>
          <p:cNvSpPr/>
          <p:nvPr/>
        </p:nvSpPr>
        <p:spPr>
          <a:xfrm>
            <a:off x="2895480" y="130644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WRF initialization 27-9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2912760" y="4038480"/>
            <a:ext cx="28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WRF initialization 9-3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ct of horizontal resolution on vortex-scale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10"/>
          <p:cNvGrpSpPr/>
          <p:nvPr/>
        </p:nvGrpSpPr>
        <p:grpSpPr>
          <a:xfrm>
            <a:off x="-101520" y="762120"/>
            <a:ext cx="9372600" cy="6019560"/>
            <a:chOff x="-101520" y="762120"/>
            <a:chExt cx="9372600" cy="6019560"/>
          </a:xfrm>
        </p:grpSpPr>
        <p:pic>
          <p:nvPicPr>
            <p:cNvPr id="71" name="Picture 12" descr="C:\WORK_MATLAB\Model\HWRF\HRH\Analysis\MajorHurr\vt_highres.tif"/>
            <p:cNvPicPr/>
            <p:nvPr/>
          </p:nvPicPr>
          <p:blipFill>
            <a:blip r:embed="rId1"/>
            <a:stretch/>
          </p:blipFill>
          <p:spPr>
            <a:xfrm>
              <a:off x="-101520" y="990720"/>
              <a:ext cx="325116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13" descr="C:\WORK_MATLAB\Model\HWRF\HRH\Analysis\MajorHurr\vt_lowres.tif"/>
            <p:cNvPicPr/>
            <p:nvPr/>
          </p:nvPicPr>
          <p:blipFill>
            <a:blip r:embed="rId2"/>
            <a:stretch/>
          </p:blipFill>
          <p:spPr>
            <a:xfrm>
              <a:off x="-75960" y="4267080"/>
              <a:ext cx="3251160" cy="25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14" descr="C:\WORK_MATLAB\Model\HWRF\HRH\Analysis\MajorHurr\vr_highres.tif"/>
            <p:cNvPicPr/>
            <p:nvPr/>
          </p:nvPicPr>
          <p:blipFill>
            <a:blip r:embed="rId3"/>
            <a:stretch/>
          </p:blipFill>
          <p:spPr>
            <a:xfrm>
              <a:off x="2971800" y="990720"/>
              <a:ext cx="3352680" cy="25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15" descr="C:\WORK_MATLAB\Model\HWRF\HRH\Analysis\MajorHurr\vr_lowres.tif"/>
            <p:cNvPicPr/>
            <p:nvPr/>
          </p:nvPicPr>
          <p:blipFill>
            <a:blip r:embed="rId4"/>
            <a:stretch/>
          </p:blipFill>
          <p:spPr>
            <a:xfrm>
              <a:off x="2971800" y="4267080"/>
              <a:ext cx="3352680" cy="25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10" descr="C:\WORK_MATLAB\Model\HWRF\HRH\Analysis\MajorHurr\w_highres.tif"/>
            <p:cNvPicPr/>
            <p:nvPr/>
          </p:nvPicPr>
          <p:blipFill>
            <a:blip r:embed="rId5"/>
            <a:stretch/>
          </p:blipFill>
          <p:spPr>
            <a:xfrm>
              <a:off x="5994360" y="990720"/>
              <a:ext cx="325116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11" descr="C:\WORK_MATLAB\Model\HWRF\HRH\Analysis\MajorHurr\w_lowres.tif"/>
            <p:cNvPicPr/>
            <p:nvPr/>
          </p:nvPicPr>
          <p:blipFill>
            <a:blip r:embed="rId6"/>
            <a:stretch/>
          </p:blipFill>
          <p:spPr>
            <a:xfrm>
              <a:off x="6019920" y="4267080"/>
              <a:ext cx="325116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Box 11"/>
            <p:cNvSpPr/>
            <p:nvPr/>
          </p:nvSpPr>
          <p:spPr>
            <a:xfrm>
              <a:off x="3352680" y="76212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f497d"/>
                  </a:solidFill>
                  <a:latin typeface="Arial"/>
                </a:rPr>
                <a:t>9-3 km resolu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12"/>
            <p:cNvSpPr/>
            <p:nvPr/>
          </p:nvSpPr>
          <p:spPr>
            <a:xfrm>
              <a:off x="3505320" y="373392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f497d"/>
                  </a:solidFill>
                  <a:latin typeface="Arial"/>
                </a:rPr>
                <a:t>27-9 km resolu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Box 11"/>
          <p:cNvSpPr/>
          <p:nvPr/>
        </p:nvSpPr>
        <p:spPr>
          <a:xfrm>
            <a:off x="457200" y="1522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ite analysis of the model simulated dynamical fiel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01:02:38Z</dcterms:created>
  <dc:creator>JunZhang</dc:creator>
  <dc:description/>
  <dc:language>en-US</dc:language>
  <cp:lastModifiedBy> </cp:lastModifiedBy>
  <dcterms:modified xsi:type="dcterms:W3CDTF">2010-09-15T19:19:10Z</dcterms:modified>
  <cp:revision>109</cp:revision>
  <dc:subject/>
  <dc:title>Slide 1</dc:title>
</cp:coreProperties>
</file>