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66D-A188-4999-BC89-6249C17E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6E3-3909-4DC4-9693-BEDAB0BF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A60-7969-4FE5-A63E-13BA3A0F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C81-84AB-4432-BE0D-E8F896CC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B61-9FC7-43B7-95E2-09D235C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F86-BDF0-4DF1-A069-E671FC8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CCD-1DED-4B59-AF5A-9758444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8C9-D69E-4CB3-9C23-E9147EF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B59-07A1-4F2F-B744-A10BFDC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B2D-4AB5-4C49-B13A-3CF379CF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75A-A0EB-4615-BB66-4577091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592-B65C-43A1-90AA-B1D44DF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E2BC-79F2-4825-8223-46A6C00EEE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62F-0F52-4A51-9036-79246107F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HFIP-Experimental Real Time High-Resolution Forecasts with HWRF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Xuejin Zhang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1,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Thiago Quirino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Sundararaman Gopalakrishnan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Lisa Bucci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,3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Vijay Tallapragada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Frank Marks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Kevin Yeh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1,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, and Stanley Goldenberg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1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RSMAS/CIMAS, University of Miam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AOML/HRD, 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SAIC, </a:t>
            </a:r>
            <a:r>
              <a:rPr b="0" lang="en-US" sz="1700" spc="-1" strike="noStrike" baseline="30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1700" spc="-1" strike="noStrike">
                <a:solidFill>
                  <a:srgbClr val="0070c0"/>
                </a:solidFill>
                <a:latin typeface="Calibri"/>
              </a:rPr>
              <a:t>NCEP/EM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648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Real Time Forecasts Website----https://storm.aoml.noaa.gov/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600200" y="556272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cknowledge: NCEP/EMC HWRF Team and Vijay Tallapragada make efforts on providing us operational HWRF initial conditions for experimental real time forecasts; ESRL/PSD Jian-Wen Bao adapted  some HWRF physics schemes for HWRFx physics pack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2"/>
          <p:cNvSpPr/>
          <p:nvPr/>
        </p:nvSpPr>
        <p:spPr>
          <a:xfrm>
            <a:off x="1447920" y="533520"/>
            <a:ext cx="2590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rational HW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5105520" y="457200"/>
            <a:ext cx="2590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WRFX (HFIP Stream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alibri"/>
              </a:rPr>
              <a:t>The Big Picture…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60"/>
          <p:cNvGrpSpPr/>
          <p:nvPr/>
        </p:nvGrpSpPr>
        <p:grpSpPr>
          <a:xfrm>
            <a:off x="228600" y="990720"/>
            <a:ext cx="8610480" cy="5486400"/>
            <a:chOff x="228600" y="990720"/>
            <a:chExt cx="8610480" cy="5486400"/>
          </a:xfrm>
        </p:grpSpPr>
        <p:grpSp>
          <p:nvGrpSpPr>
            <p:cNvPr id="49" name="Group 58"/>
            <p:cNvGrpSpPr/>
            <p:nvPr/>
          </p:nvGrpSpPr>
          <p:grpSpPr>
            <a:xfrm>
              <a:off x="228600" y="990720"/>
              <a:ext cx="8610480" cy="5486400"/>
              <a:chOff x="228600" y="990720"/>
              <a:chExt cx="8610480" cy="5486400"/>
            </a:xfrm>
          </p:grpSpPr>
          <p:sp>
            <p:nvSpPr>
              <p:cNvPr id="50" name="Rectangle 2"/>
              <p:cNvSpPr/>
              <p:nvPr/>
            </p:nvSpPr>
            <p:spPr>
              <a:xfrm>
                <a:off x="1523880" y="1067040"/>
                <a:ext cx="2438640" cy="762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WRF Vortex  Assimilation &amp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S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6"/>
              <p:cNvSpPr/>
              <p:nvPr/>
            </p:nvSpPr>
            <p:spPr>
              <a:xfrm>
                <a:off x="1523880" y="2057760"/>
                <a:ext cx="2438640" cy="761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MM dynamics  with an op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r1 moving ne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7"/>
              <p:cNvSpPr/>
              <p:nvPr/>
            </p:nvSpPr>
            <p:spPr>
              <a:xfrm>
                <a:off x="1600200" y="3048120"/>
                <a:ext cx="2438280" cy="762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erating resolution 27: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8"/>
              <p:cNvSpPr/>
              <p:nvPr/>
            </p:nvSpPr>
            <p:spPr>
              <a:xfrm>
                <a:off x="1676520" y="4115160"/>
                <a:ext cx="2361960" cy="761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FDL/GFS Physics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lab surface phys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sted at 27: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9"/>
              <p:cNvSpPr/>
              <p:nvPr/>
            </p:nvSpPr>
            <p:spPr>
              <a:xfrm>
                <a:off x="1752480" y="5105520"/>
                <a:ext cx="2362320" cy="762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WRF post-process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amp; HPLO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1"/>
              <p:cNvSpPr/>
              <p:nvPr/>
            </p:nvSpPr>
            <p:spPr>
              <a:xfrm>
                <a:off x="7162920" y="990720"/>
                <a:ext cx="16761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urricane EnKF Dat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imilation (HEDA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3"/>
              <p:cNvSpPr/>
              <p:nvPr/>
            </p:nvSpPr>
            <p:spPr>
              <a:xfrm>
                <a:off x="4495680" y="990720"/>
                <a:ext cx="243864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F post processing syste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exibility for testing init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ditions for rese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6"/>
              <p:cNvSpPr/>
              <p:nvPr/>
            </p:nvSpPr>
            <p:spPr>
              <a:xfrm>
                <a:off x="2743200" y="182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8"/>
              <p:cNvSpPr/>
              <p:nvPr/>
            </p:nvSpPr>
            <p:spPr>
              <a:xfrm>
                <a:off x="2743200" y="2819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9"/>
              <p:cNvSpPr/>
              <p:nvPr/>
            </p:nvSpPr>
            <p:spPr>
              <a:xfrm>
                <a:off x="2743200" y="38102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0"/>
              <p:cNvSpPr/>
              <p:nvPr/>
            </p:nvSpPr>
            <p:spPr>
              <a:xfrm>
                <a:off x="2743200" y="4876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31"/>
              <p:cNvSpPr/>
              <p:nvPr/>
            </p:nvSpPr>
            <p:spPr>
              <a:xfrm>
                <a:off x="4495680" y="1981440"/>
                <a:ext cx="243864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MM dynamics  with an op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or multiple moving nes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2"/>
              <p:cNvSpPr/>
              <p:nvPr/>
            </p:nvSpPr>
            <p:spPr>
              <a:xfrm>
                <a:off x="5715000" y="1752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3"/>
              <p:cNvSpPr/>
              <p:nvPr/>
            </p:nvSpPr>
            <p:spPr>
              <a:xfrm>
                <a:off x="5715000" y="27435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4"/>
              <p:cNvSpPr/>
              <p:nvPr/>
            </p:nvSpPr>
            <p:spPr>
              <a:xfrm>
                <a:off x="4572000" y="5105520"/>
                <a:ext cx="243828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apost:  High Res Hurrica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 Processing syste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35"/>
              <p:cNvSpPr/>
              <p:nvPr/>
            </p:nvSpPr>
            <p:spPr>
              <a:xfrm>
                <a:off x="4572000" y="4115160"/>
                <a:ext cx="2438280" cy="761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FDL/GFS Physics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AH LS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ested at 3 km resolu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36"/>
              <p:cNvSpPr/>
              <p:nvPr/>
            </p:nvSpPr>
            <p:spPr>
              <a:xfrm>
                <a:off x="4495680" y="3048120"/>
                <a:ext cx="2438640" cy="762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perating resol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7:9; 9:3 and 27:9: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>
                <a:off x="5715000" y="38102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5715000" y="4876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9"/>
              <p:cNvSpPr/>
              <p:nvPr/>
            </p:nvSpPr>
            <p:spPr>
              <a:xfrm>
                <a:off x="2743200" y="6096240"/>
                <a:ext cx="2895480" cy="38088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WRFV3.2-HR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44"/>
              <p:cNvSpPr/>
              <p:nvPr/>
            </p:nvSpPr>
            <p:spPr>
              <a:xfrm>
                <a:off x="7162920" y="4191120"/>
                <a:ext cx="16761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ramework als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ludes Idealiz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46"/>
              <p:cNvSpPr/>
              <p:nvPr/>
            </p:nvSpPr>
            <p:spPr>
              <a:xfrm flipH="1">
                <a:off x="7010280" y="44960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50"/>
              <p:cNvSpPr/>
              <p:nvPr/>
            </p:nvSpPr>
            <p:spPr>
              <a:xfrm flipH="1">
                <a:off x="6933960" y="1295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52"/>
              <p:cNvSpPr/>
              <p:nvPr/>
            </p:nvSpPr>
            <p:spPr>
              <a:xfrm>
                <a:off x="228600" y="4115160"/>
                <a:ext cx="1219320" cy="761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cean Coupl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53"/>
              <p:cNvSpPr/>
              <p:nvPr/>
            </p:nvSpPr>
            <p:spPr>
              <a:xfrm>
                <a:off x="3200400" y="586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55"/>
              <p:cNvSpPr/>
              <p:nvPr/>
            </p:nvSpPr>
            <p:spPr>
              <a:xfrm>
                <a:off x="5105520" y="586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56"/>
              <p:cNvSpPr/>
              <p:nvPr/>
            </p:nvSpPr>
            <p:spPr>
              <a:xfrm>
                <a:off x="1447920" y="4496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Line 59"/>
            <p:cNvSpPr/>
            <p:nvPr/>
          </p:nvSpPr>
          <p:spPr>
            <a:xfrm>
              <a:off x="3962520" y="137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61"/>
          <p:cNvSpPr/>
          <p:nvPr/>
        </p:nvSpPr>
        <p:spPr>
          <a:xfrm>
            <a:off x="901080" y="640080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storm.aoml.noaa.gov/hwrfxvisual/?contentId=1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6"/>
          <p:cNvSpPr/>
          <p:nvPr/>
        </p:nvSpPr>
        <p:spPr>
          <a:xfrm>
            <a:off x="7086600" y="2286000"/>
            <a:ext cx="15228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7"/>
          <p:cNvSpPr/>
          <p:nvPr/>
        </p:nvSpPr>
        <p:spPr>
          <a:xfrm flipV="1">
            <a:off x="7238880" y="1981080"/>
            <a:ext cx="1067040" cy="6098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8"/>
          <p:cNvSpPr/>
          <p:nvPr/>
        </p:nvSpPr>
        <p:spPr>
          <a:xfrm flipV="1">
            <a:off x="7391520" y="5105160"/>
            <a:ext cx="1066680" cy="609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9"/>
          <p:cNvSpPr/>
          <p:nvPr/>
        </p:nvSpPr>
        <p:spPr>
          <a:xfrm>
            <a:off x="7238880" y="5410080"/>
            <a:ext cx="152640" cy="3049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0"/>
          <p:cNvSpPr/>
          <p:nvPr/>
        </p:nvSpPr>
        <p:spPr>
          <a:xfrm>
            <a:off x="4419720" y="3886200"/>
            <a:ext cx="27432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14280" y="119160"/>
            <a:ext cx="280980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32080" y="123840"/>
            <a:ext cx="2809800" cy="218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6172200" y="123840"/>
            <a:ext cx="2809800" cy="218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2809800" cy="218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3246480" y="2362320"/>
            <a:ext cx="2803320" cy="21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6"/>
          <a:stretch/>
        </p:blipFill>
        <p:spPr>
          <a:xfrm>
            <a:off x="6170760" y="2362320"/>
            <a:ext cx="2809800" cy="218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7"/>
          <a:stretch/>
        </p:blipFill>
        <p:spPr>
          <a:xfrm>
            <a:off x="290520" y="4595760"/>
            <a:ext cx="2806560" cy="2187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304920" y="198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Dan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3170160" y="1967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Ea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186600" y="193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F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06360" y="4145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Ga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3246480" y="41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H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186600" y="4145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74680" y="6399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Ju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10000" cy="194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609480" y="442800"/>
            <a:ext cx="2605320" cy="195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6127920" y="380880"/>
            <a:ext cx="2604960" cy="20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612720" y="2424240"/>
            <a:ext cx="2605320" cy="195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5"/>
          <a:stretch/>
        </p:blipFill>
        <p:spPr>
          <a:xfrm>
            <a:off x="3397320" y="2438280"/>
            <a:ext cx="2604960" cy="19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6"/>
          <a:stretch/>
        </p:blipFill>
        <p:spPr>
          <a:xfrm>
            <a:off x="6126120" y="2440080"/>
            <a:ext cx="2604960" cy="19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7"/>
          <a:stretch/>
        </p:blipFill>
        <p:spPr>
          <a:xfrm>
            <a:off x="609480" y="4419720"/>
            <a:ext cx="26053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hart 3" descr=""/>
          <p:cNvPicPr/>
          <p:nvPr/>
        </p:nvPicPr>
        <p:blipFill>
          <a:blip r:embed="rId1"/>
          <a:stretch/>
        </p:blipFill>
        <p:spPr>
          <a:xfrm>
            <a:off x="2359080" y="2127240"/>
            <a:ext cx="4578120" cy="2755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859120" y="4419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6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hart 4" descr=""/>
          <p:cNvPicPr/>
          <p:nvPr/>
        </p:nvPicPr>
        <p:blipFill>
          <a:blip r:embed="rId1"/>
          <a:stretch/>
        </p:blipFill>
        <p:spPr>
          <a:xfrm>
            <a:off x="2359080" y="378000"/>
            <a:ext cx="4578120" cy="2749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8591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6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23064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5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35812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94164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4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670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4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6483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0292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3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4100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2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75136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2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0958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2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47712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hart 17" descr=""/>
          <p:cNvPicPr/>
          <p:nvPr/>
        </p:nvPicPr>
        <p:blipFill>
          <a:blip r:embed="rId2"/>
          <a:stretch/>
        </p:blipFill>
        <p:spPr>
          <a:xfrm>
            <a:off x="2359080" y="3041640"/>
            <a:ext cx="4578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56:05Z</dcterms:created>
  <dc:creator>xzhang</dc:creator>
  <dc:description/>
  <dc:language>en-US</dc:language>
  <cp:lastModifiedBy>Seminar</cp:lastModifiedBy>
  <dcterms:modified xsi:type="dcterms:W3CDTF">2010-09-16T16:27:01Z</dcterms:modified>
  <cp:revision>23</cp:revision>
  <dc:subject/>
  <dc:title>Slide 1</dc:title>
</cp:coreProperties>
</file>