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D6FD-3909-4A15-9258-1265CEB86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4897-4A84-48E5-8967-3A8555EE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886B-6B4D-4C7F-A81D-55C42D557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007E-736D-4F7C-99F7-763ADC82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60FA-F881-4BA0-A822-E76035B3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525D-BB37-47A2-ABC1-D3400091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BFF4-0341-4084-8ACE-4A361FDA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236B-FE04-4795-A386-42F0088C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3E9A-3243-44B2-BA44-9D5A8EB6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C8AF-0113-4D8A-8E6F-4DB570EA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5CAF-1820-449E-9518-408F01CC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FBEE-86E6-4113-AF7C-2B2D88C4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7A49-C4AA-4402-8CC7-F19123BF31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23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SM and Land Surface Tests on TS F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SM and initial moisture sensitivity on TCs with long land trac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rricane models currently run with Slab LSM, while operational Wx models run with Noah LS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are the differences? Which is better for hurricane ru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Can we justify switching hurricane models to the Noah LSM, or continue using Slab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orms: </a:t>
            </a: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Fa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Ike, Gustav (2008), Rita, Katrina (200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ect of Slab and Noah LS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3"/>
          <a:srcRect l="14673" t="0" r="0" b="5197"/>
          <a:stretch/>
        </p:blipFill>
        <p:spPr>
          <a:xfrm>
            <a:off x="3367080" y="152280"/>
            <a:ext cx="57754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1120" y="7632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nd Surface Test on S. Florida TC Landfall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Fay 2008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410080" y="1905120"/>
            <a:ext cx="3276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move Lake Okeechobee (replaced with sandy agricultural are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move Florida Everglades (replace with grasslands composed of sand over bedrock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urrently areas around Lake Okeechobee are used for agriculture: dairy farms and beef cattle ranching (north side), and sugarcane crop (south sid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-14400" y="2355840"/>
            <a:ext cx="3181320" cy="4495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-14400" y="0"/>
            <a:ext cx="2857680" cy="2895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1857240" y="50958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4"/>
          <a:stretch/>
        </p:blipFill>
        <p:spPr>
          <a:xfrm>
            <a:off x="1981080" y="57636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5"/>
          <a:stretch/>
        </p:blipFill>
        <p:spPr>
          <a:xfrm>
            <a:off x="2843280" y="205740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0" y="2666880"/>
            <a:ext cx="5410080" cy="30200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Calibri"/>
              </a:rPr>
              <a:t>Investigate precipitation structure and developm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Calibri"/>
              </a:rPr>
              <a:t>How did the presence/loss of the lake/Everglades affect distribution and intensity of rainfal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Calibri"/>
              </a:rPr>
              <a:t>Further evidence that land surface is important to forecasts, based on future resul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7" name="Picture 3" descr=""/>
            <p:cNvPicPr/>
            <p:nvPr/>
          </p:nvPicPr>
          <p:blipFill>
            <a:blip r:embed="rId1"/>
            <a:srcRect l="2215" t="2535" r="3073" b="4324"/>
            <a:stretch/>
          </p:blipFill>
          <p:spPr>
            <a:xfrm>
              <a:off x="4498920" y="3406680"/>
              <a:ext cx="4645080" cy="342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4" descr=""/>
            <p:cNvPicPr/>
            <p:nvPr/>
          </p:nvPicPr>
          <p:blipFill>
            <a:blip r:embed="rId2"/>
            <a:srcRect l="4585" t="3160" r="2464" b="3286"/>
            <a:stretch/>
          </p:blipFill>
          <p:spPr>
            <a:xfrm>
              <a:off x="0" y="3406680"/>
              <a:ext cx="4572000" cy="345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5" descr=""/>
            <p:cNvPicPr/>
            <p:nvPr/>
          </p:nvPicPr>
          <p:blipFill>
            <a:blip r:embed="rId3"/>
            <a:srcRect l="5307" t="1048" r="4929" b="3286"/>
            <a:stretch/>
          </p:blipFill>
          <p:spPr>
            <a:xfrm>
              <a:off x="4952880" y="0"/>
              <a:ext cx="4191120" cy="334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6" descr=""/>
            <p:cNvPicPr/>
            <p:nvPr/>
          </p:nvPicPr>
          <p:blipFill>
            <a:blip r:embed="rId4"/>
            <a:srcRect l="49573" t="29828" r="15753" b="29319"/>
            <a:stretch/>
          </p:blipFill>
          <p:spPr>
            <a:xfrm>
              <a:off x="499680" y="222480"/>
              <a:ext cx="3538800" cy="31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Box 7"/>
            <p:cNvSpPr/>
            <p:nvPr/>
          </p:nvSpPr>
          <p:spPr>
            <a:xfrm>
              <a:off x="499680" y="222480"/>
              <a:ext cx="1328760" cy="3682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OAH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Box 8"/>
            <p:cNvSpPr/>
            <p:nvPr/>
          </p:nvSpPr>
          <p:spPr>
            <a:xfrm>
              <a:off x="572040" y="3657600"/>
              <a:ext cx="1328760" cy="3682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OLAK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extBox 9"/>
            <p:cNvSpPr/>
            <p:nvPr/>
          </p:nvSpPr>
          <p:spPr>
            <a:xfrm>
              <a:off x="5410080" y="304560"/>
              <a:ext cx="1328760" cy="3682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OWE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Box 10"/>
            <p:cNvSpPr/>
            <p:nvPr/>
          </p:nvSpPr>
          <p:spPr>
            <a:xfrm>
              <a:off x="5181480" y="3657600"/>
              <a:ext cx="1328760" cy="3682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OGLAD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2"/>
          <p:cNvGrpSpPr/>
          <p:nvPr/>
        </p:nvGrpSpPr>
        <p:grpSpPr>
          <a:xfrm>
            <a:off x="-76320" y="0"/>
            <a:ext cx="9144000" cy="6875640"/>
            <a:chOff x="-76320" y="0"/>
            <a:chExt cx="9144000" cy="6875640"/>
          </a:xfrm>
        </p:grpSpPr>
        <p:pic>
          <p:nvPicPr>
            <p:cNvPr id="66" name="Picture 13" descr=""/>
            <p:cNvPicPr/>
            <p:nvPr/>
          </p:nvPicPr>
          <p:blipFill>
            <a:blip r:embed="rId5"/>
            <a:srcRect l="4161" t="2807" r="5125" b="4168"/>
            <a:stretch/>
          </p:blipFill>
          <p:spPr>
            <a:xfrm>
              <a:off x="4572000" y="3400560"/>
              <a:ext cx="4495680" cy="345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14" descr=""/>
            <p:cNvPicPr/>
            <p:nvPr/>
          </p:nvPicPr>
          <p:blipFill>
            <a:blip r:embed="rId6"/>
            <a:srcRect l="4354" t="3855" r="5443" b="4026"/>
            <a:stretch/>
          </p:blipFill>
          <p:spPr>
            <a:xfrm>
              <a:off x="-76320" y="3418560"/>
              <a:ext cx="4512960" cy="34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15" descr=""/>
            <p:cNvPicPr/>
            <p:nvPr/>
          </p:nvPicPr>
          <p:blipFill>
            <a:blip r:embed="rId7"/>
            <a:srcRect l="5666" t="1663" r="6032" b="4026"/>
            <a:stretch/>
          </p:blipFill>
          <p:spPr>
            <a:xfrm>
              <a:off x="4952880" y="0"/>
              <a:ext cx="4114800" cy="329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16" descr=""/>
            <p:cNvPicPr/>
            <p:nvPr/>
          </p:nvPicPr>
          <p:blipFill>
            <a:blip r:embed="rId8"/>
            <a:srcRect l="50004" t="27898" r="15432" b="28638"/>
            <a:stretch/>
          </p:blipFill>
          <p:spPr>
            <a:xfrm>
              <a:off x="678240" y="171000"/>
              <a:ext cx="3131280" cy="295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Box 17"/>
            <p:cNvSpPr/>
            <p:nvPr/>
          </p:nvSpPr>
          <p:spPr>
            <a:xfrm>
              <a:off x="678240" y="171000"/>
              <a:ext cx="1378800" cy="3682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OAH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TextBox 18"/>
            <p:cNvSpPr/>
            <p:nvPr/>
          </p:nvSpPr>
          <p:spPr>
            <a:xfrm>
              <a:off x="5441040" y="228600"/>
              <a:ext cx="1378800" cy="3682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OWE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TextBox 19"/>
            <p:cNvSpPr/>
            <p:nvPr/>
          </p:nvSpPr>
          <p:spPr>
            <a:xfrm>
              <a:off x="456840" y="3581640"/>
              <a:ext cx="1378800" cy="3682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OLAK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TextBox 20"/>
            <p:cNvSpPr/>
            <p:nvPr/>
          </p:nvSpPr>
          <p:spPr>
            <a:xfrm>
              <a:off x="5105160" y="3657960"/>
              <a:ext cx="1378800" cy="3682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OGLAD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21"/>
          <p:cNvGrpSpPr/>
          <p:nvPr/>
        </p:nvGrpSpPr>
        <p:grpSpPr>
          <a:xfrm>
            <a:off x="27000" y="152280"/>
            <a:ext cx="9117000" cy="6724800"/>
            <a:chOff x="27000" y="152280"/>
            <a:chExt cx="9117000" cy="6724800"/>
          </a:xfrm>
        </p:grpSpPr>
        <p:pic>
          <p:nvPicPr>
            <p:cNvPr id="75" name="Picture 22" descr=""/>
            <p:cNvPicPr/>
            <p:nvPr/>
          </p:nvPicPr>
          <p:blipFill>
            <a:blip r:embed="rId9"/>
            <a:srcRect l="8032" t="3865" r="5178" b="3538"/>
            <a:stretch/>
          </p:blipFill>
          <p:spPr>
            <a:xfrm>
              <a:off x="4876560" y="3443040"/>
              <a:ext cx="4267440" cy="34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23" descr=""/>
            <p:cNvPicPr/>
            <p:nvPr/>
          </p:nvPicPr>
          <p:blipFill>
            <a:blip r:embed="rId10"/>
            <a:srcRect l="9415" t="3205" r="5934" b="3865"/>
            <a:stretch/>
          </p:blipFill>
          <p:spPr>
            <a:xfrm>
              <a:off x="27000" y="3384000"/>
              <a:ext cx="4242960" cy="349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4" descr=""/>
            <p:cNvPicPr/>
            <p:nvPr/>
          </p:nvPicPr>
          <p:blipFill>
            <a:blip r:embed="rId11"/>
            <a:srcRect l="50004" t="24043" r="16732" b="30241"/>
            <a:stretch/>
          </p:blipFill>
          <p:spPr>
            <a:xfrm>
              <a:off x="723240" y="152280"/>
              <a:ext cx="2809080" cy="289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Box 25"/>
            <p:cNvSpPr/>
            <p:nvPr/>
          </p:nvSpPr>
          <p:spPr>
            <a:xfrm>
              <a:off x="723240" y="152280"/>
              <a:ext cx="1257120" cy="3682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OAH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TextBox 26"/>
            <p:cNvSpPr/>
            <p:nvPr/>
          </p:nvSpPr>
          <p:spPr>
            <a:xfrm>
              <a:off x="5333760" y="227880"/>
              <a:ext cx="1257120" cy="3682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OWE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TextBox 27"/>
            <p:cNvSpPr/>
            <p:nvPr/>
          </p:nvSpPr>
          <p:spPr>
            <a:xfrm>
              <a:off x="303840" y="3580920"/>
              <a:ext cx="1257120" cy="3682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OLAK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28"/>
            <p:cNvSpPr/>
            <p:nvPr/>
          </p:nvSpPr>
          <p:spPr>
            <a:xfrm>
              <a:off x="5257440" y="3656880"/>
              <a:ext cx="1257120" cy="3682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OGLAD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Group 29"/>
          <p:cNvGrpSpPr/>
          <p:nvPr/>
        </p:nvGrpSpPr>
        <p:grpSpPr>
          <a:xfrm>
            <a:off x="-20520" y="0"/>
            <a:ext cx="9164520" cy="6858000"/>
            <a:chOff x="-20520" y="0"/>
            <a:chExt cx="9164520" cy="6858000"/>
          </a:xfrm>
        </p:grpSpPr>
        <p:pic>
          <p:nvPicPr>
            <p:cNvPr id="83" name="Picture 30" descr=""/>
            <p:cNvPicPr/>
            <p:nvPr/>
          </p:nvPicPr>
          <p:blipFill>
            <a:blip r:embed="rId12"/>
            <a:srcRect l="3587" t="2658" r="7802" b="0"/>
            <a:stretch/>
          </p:blipFill>
          <p:spPr>
            <a:xfrm>
              <a:off x="-20160" y="0"/>
              <a:ext cx="4154400" cy="342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1" descr=""/>
            <p:cNvPicPr/>
            <p:nvPr/>
          </p:nvPicPr>
          <p:blipFill>
            <a:blip r:embed="rId13"/>
            <a:srcRect l="3477" t="3309" r="7354" b="0"/>
            <a:stretch/>
          </p:blipFill>
          <p:spPr>
            <a:xfrm>
              <a:off x="4920480" y="3422880"/>
              <a:ext cx="4223520" cy="34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32" descr=""/>
            <p:cNvPicPr/>
            <p:nvPr/>
          </p:nvPicPr>
          <p:blipFill>
            <a:blip r:embed="rId14"/>
            <a:srcRect l="3247" t="2629" r="8142" b="0"/>
            <a:stretch/>
          </p:blipFill>
          <p:spPr>
            <a:xfrm>
              <a:off x="-20520" y="3422880"/>
              <a:ext cx="4135320" cy="340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33" descr=""/>
            <p:cNvPicPr/>
            <p:nvPr/>
          </p:nvPicPr>
          <p:blipFill>
            <a:blip r:embed="rId15"/>
            <a:srcRect l="3345" t="2881" r="8044" b="-218"/>
            <a:stretch/>
          </p:blipFill>
          <p:spPr>
            <a:xfrm>
              <a:off x="4953240" y="0"/>
              <a:ext cx="4190760" cy="34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Box 34"/>
            <p:cNvSpPr/>
            <p:nvPr/>
          </p:nvSpPr>
          <p:spPr>
            <a:xfrm>
              <a:off x="2743200" y="228600"/>
              <a:ext cx="1066680" cy="3682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OAH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35"/>
            <p:cNvSpPr/>
            <p:nvPr/>
          </p:nvSpPr>
          <p:spPr>
            <a:xfrm>
              <a:off x="2743200" y="3657600"/>
              <a:ext cx="1066680" cy="3682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OLAK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TextBox 36"/>
            <p:cNvSpPr/>
            <p:nvPr/>
          </p:nvSpPr>
          <p:spPr>
            <a:xfrm>
              <a:off x="7696440" y="190440"/>
              <a:ext cx="1066680" cy="3682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OWE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Box 37"/>
            <p:cNvSpPr/>
            <p:nvPr/>
          </p:nvSpPr>
          <p:spPr>
            <a:xfrm>
              <a:off x="7391520" y="3657600"/>
              <a:ext cx="1371600" cy="3682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OGLAD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8T23:02:55Z</dcterms:created>
  <dc:creator>mlaurean</dc:creator>
  <dc:description/>
  <dc:language>en-US</dc:language>
  <cp:lastModifiedBy>gopal</cp:lastModifiedBy>
  <dcterms:modified xsi:type="dcterms:W3CDTF">2010-08-19T02:03:51Z</dcterms:modified>
  <cp:revision>5</cp:revision>
  <dc:subject/>
  <dc:title>LSM and Land Surface Tests on TS FAY</dc:title>
</cp:coreProperties>
</file>