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7F7C-DF34-4650-ACCC-367E6A134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2F9F-61C1-4C69-B15C-DAAFBF321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C79-406F-405E-95EA-E2D7C1AE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178-1136-4B09-9F63-1D9677F3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D54-910E-43B7-97CF-C5351600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5F1-97A7-4150-B79C-FF303A94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B61-BE72-45F9-AB0F-CB098477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79A-976F-4BFB-B1BB-0FE8A497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D13-959C-466C-8679-97C06B08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04D-6AFC-41BE-AA76-A22A09B3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E95-DF18-4555-84C6-2D541810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169-6933-4B14-911F-BDDC1778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F08-D6A8-4FCB-B0C0-1F062265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F84-F696-43BA-9675-EFC10E70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2CA6-30BE-4CFE-827B-86515F557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9.wmf"/><Relationship Id="rId9" Type="http://schemas.openxmlformats.org/officeDocument/2006/relationships/package" Target="../embeddings/oleObject2.xlsx"/><Relationship Id="rId10" Type="http://schemas.openxmlformats.org/officeDocument/2006/relationships/image" Target="../media/image10.wmf"/><Relationship Id="rId11" Type="http://schemas.openxmlformats.org/officeDocument/2006/relationships/package" Target="../embeddings/oleObject3.xlsx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WRFX te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jay Tallapragada@E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ards Improving High-Resolution Numerical Hurricane Forecasting: Influence of Model Horizontal Grid Resolution and Init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533520" y="1522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RESOLUTION HURRICANE TEST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533520" y="1600200"/>
            <a:ext cx="13716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27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219320" y="2362320"/>
            <a:ext cx="5302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666880" y="1600200"/>
            <a:ext cx="13716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09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79600" y="2362320"/>
            <a:ext cx="5302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4038840" cy="419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9907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04920" y="5410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ms 2005: (1) Emily (2) Katrina (3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phel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hilli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5) Rita (6) Wi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ms 2007: (1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gr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umber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3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Ka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ms 2009: (1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) Bill (3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an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ri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5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ox" descr=""/>
          <p:cNvPicPr/>
          <p:nvPr/>
        </p:nvPicPr>
        <p:blipFill>
          <a:blip r:embed="rId2"/>
          <a:stretch/>
        </p:blipFill>
        <p:spPr>
          <a:xfrm>
            <a:off x="1371600" y="3657600"/>
            <a:ext cx="2362320" cy="1523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95280" y="32004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5720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F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495680"/>
            <a:ext cx="60948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W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ICATION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WRF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bsolute Intensity Err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 Storms (2005/2007/2009)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act of Resolution (H9=27/9km; H3=9/3km) &amp; Initial Conditions (H4=HWRF IC, D4=GFDL IC) e.g. H9H4 = 27/9km with HWRF initial conditions</a:t>
            </a:r>
            <a:br>
              <a:rPr sz="1600"/>
            </a:b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Stratified for Initial Intensity &lt;65 kts (&lt; Hurricane strength) and ≥ 65 Kts (Hurricane streng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7050" t="12257" r="22337" b="4392"/>
          <a:stretch/>
        </p:blipFill>
        <p:spPr>
          <a:xfrm>
            <a:off x="3276720" y="1447920"/>
            <a:ext cx="243828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17050" t="12257" r="22337" b="4392"/>
          <a:stretch/>
        </p:blipFill>
        <p:spPr>
          <a:xfrm>
            <a:off x="6248520" y="1447920"/>
            <a:ext cx="2438280" cy="259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050" t="14759" r="22337" b="4392"/>
          <a:stretch/>
        </p:blipFill>
        <p:spPr>
          <a:xfrm>
            <a:off x="457200" y="1523880"/>
            <a:ext cx="2438280" cy="251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rcRect l="17050" t="7199" r="22337" b="9297"/>
          <a:stretch/>
        </p:blipFill>
        <p:spPr>
          <a:xfrm>
            <a:off x="457200" y="1447920"/>
            <a:ext cx="2438280" cy="2595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rcRect l="17050" t="7199" r="22337" b="9297"/>
          <a:stretch/>
        </p:blipFill>
        <p:spPr>
          <a:xfrm>
            <a:off x="3276720" y="1447920"/>
            <a:ext cx="2438280" cy="259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rcRect l="17050" t="7356" r="22337" b="9297"/>
          <a:stretch/>
        </p:blipFill>
        <p:spPr>
          <a:xfrm>
            <a:off x="6248520" y="1447920"/>
            <a:ext cx="2438280" cy="25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533520" y="4267080"/>
          <a:ext cx="2514600" cy="2286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267080"/>
                    <a:ext cx="2514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429000" y="4267080"/>
          <a:ext cx="2514600" cy="22860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4267080"/>
                    <a:ext cx="2514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400800" y="4267080"/>
          <a:ext cx="2514600" cy="228600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4267080"/>
                    <a:ext cx="2514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23:39:11Z</dcterms:created>
  <dc:creator>gopal</dc:creator>
  <dc:description/>
  <dc:language>en-US</dc:language>
  <cp:lastModifiedBy>gopal</cp:lastModifiedBy>
  <dcterms:modified xsi:type="dcterms:W3CDTF">2010-08-17T21:30:00Z</dcterms:modified>
  <cp:revision>33</cp:revision>
  <dc:subject/>
  <dc:title>The HWRFx Modeling System: The High Resolution Hurricane Forecast Test </dc:title>
</cp:coreProperties>
</file>