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7C2-4BEF-40B6-B523-058A51B1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990-FBBF-481C-88FD-34D680F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AC2-6145-4A46-82AF-E7681DFC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297-9312-4B5F-8882-D42CCF7E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42B-4CE9-454F-95C2-E7064546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0C6-49CE-442F-839F-82719E21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F86-6733-4BC1-93D2-8AC937F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632-6B4A-4698-9028-C8043A0A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F11-FF98-44DD-B9DE-378C85C0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A8C-B2D3-4FA9-BAA9-34CDC76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5F0-FCE6-49C7-8B7D-9388209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80D-0B42-4D04-A457-47A406B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3E7CA-4BFF-406F-9A3C-524274FC2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2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4f81b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E1B7C-EFCF-4DA9-A398-42841D2E774D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IP NOAA Experimental High-Resolution Model Products Por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hiago Quir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OAA/AOML/Hurricane Research Di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69F26-E2F8-4B3F-9924-49F9C0256417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creen shot 2010-08-19 at 4.42.15 PM.png"/>
          <p:cNvPicPr/>
          <p:nvPr/>
        </p:nvPicPr>
        <p:blipFill>
          <a:blip r:embed="rId1"/>
          <a:srcRect l="2039" t="0" r="1771" b="0"/>
          <a:stretch/>
        </p:blipFill>
        <p:spPr>
          <a:xfrm>
            <a:off x="369720" y="28440"/>
            <a:ext cx="8258400" cy="6818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4138560" y="1366920"/>
            <a:ext cx="3960720" cy="580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esign uses Google Web Toolkit (GWT) linked to our model database using Java servle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114480" y="4430880"/>
            <a:ext cx="1990440" cy="179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uicker and much more flexible than original Java-based model product port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llows multiple daughter wind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WT allows layers and georeferenc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23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4995C-52B8-465D-A6A1-B448A155FDE1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Screen shot 2010-08-19 at 4.42.15 PM.png"/>
          <p:cNvPicPr/>
          <p:nvPr/>
        </p:nvPicPr>
        <p:blipFill>
          <a:blip r:embed="rId1"/>
          <a:srcRect l="2039" t="0" r="1771" b="0"/>
          <a:stretch/>
        </p:blipFill>
        <p:spPr>
          <a:xfrm>
            <a:off x="369720" y="28440"/>
            <a:ext cx="8258400" cy="6818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881600" y="1314360"/>
            <a:ext cx="174780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abs specify quick-look 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5"/>
          <p:cNvCxnSpPr>
            <a:stCxn id="49" idx="2"/>
          </p:cNvCxnSpPr>
          <p:nvPr/>
        </p:nvCxnSpPr>
        <p:spPr>
          <a:xfrm flipH="1">
            <a:off x="4217760" y="1837800"/>
            <a:ext cx="1537200" cy="329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1" name="Straight Arrow Connector 7"/>
          <p:cNvCxnSpPr/>
          <p:nvPr/>
        </p:nvCxnSpPr>
        <p:spPr>
          <a:xfrm flipH="1">
            <a:off x="3303000" y="1837080"/>
            <a:ext cx="2386440" cy="329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2" name="Straight Arrow Connector 10"/>
          <p:cNvCxnSpPr/>
          <p:nvPr/>
        </p:nvCxnSpPr>
        <p:spPr>
          <a:xfrm flipH="1">
            <a:off x="5045040" y="1837080"/>
            <a:ext cx="682920" cy="329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3" name="TextBox 15"/>
          <p:cNvSpPr/>
          <p:nvPr/>
        </p:nvSpPr>
        <p:spPr>
          <a:xfrm>
            <a:off x="114480" y="4467240"/>
            <a:ext cx="1625400" cy="15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base organized by Year, Storm, Date, Model (HWRFx, HWRFV3.2, etc.), &amp; model configu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eft Brace 21"/>
          <p:cNvSpPr/>
          <p:nvPr/>
        </p:nvSpPr>
        <p:spPr>
          <a:xfrm>
            <a:off x="657360" y="2166840"/>
            <a:ext cx="168120" cy="177660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1776600"/>
              <a:gd name="textAreaBottom" fmla="*/ 1772280 h 17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ent Arrow 22"/>
          <p:cNvSpPr/>
          <p:nvPr/>
        </p:nvSpPr>
        <p:spPr>
          <a:xfrm>
            <a:off x="379440" y="2984400"/>
            <a:ext cx="255600" cy="14828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AC038-5D73-4E96-BE75-470089ACEF56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creen shot 2010-08-19 at 4.42.37 PM.png"/>
          <p:cNvPicPr/>
          <p:nvPr/>
        </p:nvPicPr>
        <p:blipFill>
          <a:blip r:embed="rId1"/>
          <a:srcRect l="2188" t="0" r="1818" b="0"/>
          <a:stretch/>
        </p:blipFill>
        <p:spPr>
          <a:xfrm>
            <a:off x="428760" y="0"/>
            <a:ext cx="8288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7"/>
          <p:cNvCxnSpPr/>
          <p:nvPr/>
        </p:nvCxnSpPr>
        <p:spPr>
          <a:xfrm>
            <a:off x="7083360" y="1928520"/>
            <a:ext cx="897840" cy="207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9" name="TextBox 8"/>
          <p:cNvSpPr/>
          <p:nvPr/>
        </p:nvSpPr>
        <p:spPr>
          <a:xfrm>
            <a:off x="406440" y="4991040"/>
            <a:ext cx="1520640" cy="1159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r more products from same simulation select and open in a new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ent Arrow 9"/>
          <p:cNvSpPr/>
          <p:nvPr/>
        </p:nvSpPr>
        <p:spPr>
          <a:xfrm>
            <a:off x="744480" y="4076640"/>
            <a:ext cx="255600" cy="9144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789520" y="1468440"/>
            <a:ext cx="258624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rop-down menu for additional quick-look 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12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E76A7-3264-4304-AA0C-128A731AF173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Screen shot 2010-08-19 at 4.43.20 PM.png"/>
          <p:cNvPicPr/>
          <p:nvPr/>
        </p:nvPicPr>
        <p:blipFill>
          <a:blip r:embed="rId1"/>
          <a:srcRect l="3108" t="2907" r="1813" b="5268"/>
          <a:stretch/>
        </p:blipFill>
        <p:spPr>
          <a:xfrm>
            <a:off x="622440" y="0"/>
            <a:ext cx="7927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6160" y="3224160"/>
            <a:ext cx="1550880" cy="1372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lect domain (d01, d02), variable (shear, steering, wind, precipitation, etc.), pl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ent Arrow 5"/>
          <p:cNvSpPr/>
          <p:nvPr/>
        </p:nvSpPr>
        <p:spPr>
          <a:xfrm>
            <a:off x="442800" y="1332000"/>
            <a:ext cx="255600" cy="18921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90182-214A-4EF8-87A8-22B9DF1984B5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10" descr="Screen shot 2010-08-19 at 4.46.13 PM.png"/>
          <p:cNvPicPr/>
          <p:nvPr/>
        </p:nvPicPr>
        <p:blipFill>
          <a:blip r:embed="rId1"/>
          <a:srcRect l="-791" t="0" r="-996" b="0"/>
          <a:stretch/>
        </p:blipFill>
        <p:spPr>
          <a:xfrm>
            <a:off x="-324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187880" y="865080"/>
            <a:ext cx="2828880" cy="52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ultiple windows with different products can be open at same 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7"/>
          <p:cNvCxnSpPr>
            <a:stCxn id="68" idx="2"/>
          </p:cNvCxnSpPr>
          <p:nvPr/>
        </p:nvCxnSpPr>
        <p:spPr>
          <a:xfrm>
            <a:off x="5602320" y="1387080"/>
            <a:ext cx="1783440" cy="81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0" name="Straight Arrow Connector 12"/>
          <p:cNvCxnSpPr/>
          <p:nvPr/>
        </p:nvCxnSpPr>
        <p:spPr>
          <a:xfrm flipH="1">
            <a:off x="3367800" y="1387080"/>
            <a:ext cx="2251800" cy="81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" name="Slide Number Placeholder 23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6A447-1023-4171-92C1-E93E29FF329E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13" descr="Screen shot 2010-08-19 at 4.46.48 PM.png"/>
          <p:cNvPicPr/>
          <p:nvPr/>
        </p:nvPicPr>
        <p:blipFill>
          <a:blip r:embed="rId1"/>
          <a:srcRect l="3986" t="2709" r="4272" b="6445"/>
          <a:stretch/>
        </p:blipFill>
        <p:spPr>
          <a:xfrm>
            <a:off x="954000" y="0"/>
            <a:ext cx="77328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146160" y="3844800"/>
            <a:ext cx="1979640" cy="15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 order to keep improving portal each new window has Feedback link which opens window to allow users to make sugges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Bent Arrow 9"/>
          <p:cNvSpPr/>
          <p:nvPr/>
        </p:nvSpPr>
        <p:spPr>
          <a:xfrm>
            <a:off x="698400" y="1952640"/>
            <a:ext cx="255600" cy="18921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14"/>
          <p:cNvSpPr/>
          <p:nvPr/>
        </p:nvSpPr>
        <p:spPr>
          <a:xfrm>
            <a:off x="6862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D3EE2-54CF-4BB3-B454-5BF3F3EFF730}" type="slidenum">
              <a:rPr b="0" lang="en-US" sz="1800" spc="-1" strike="noStrike">
                <a:solidFill>
                  <a:srgbClr val="4f81bd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1:07:30Z</dcterms:created>
  <dc:creator>Frank Marks</dc:creator>
  <dc:description/>
  <dc:language>en-US</dc:language>
  <cp:lastModifiedBy>Frank Marks</cp:lastModifiedBy>
  <dcterms:modified xsi:type="dcterms:W3CDTF">2010-08-19T22:02:07Z</dcterms:modified>
  <cp:revision>2</cp:revision>
  <dc:subject/>
  <dc:title>HFIP NOAA Experimental High-Resolution Model Products Portal</dc:title>
</cp:coreProperties>
</file>