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8D8-F4BD-464E-B7C4-40AD9B22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704-6525-4517-B49D-5C09F950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9C0-5706-4589-9A70-9028386F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5C1-BAE2-494F-8C1F-0B2E95A6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B19-4C65-4103-BE28-795AA98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FA8-326A-4425-A5A0-D23AE72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064-FC70-4080-A694-325031F2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91D-E2E5-4CC1-8F2F-4E0997E1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17C-AE58-40DC-ACEB-5B9042A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3D8-1A4C-4423-BD51-4E2B920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E19-F2F8-46D9-A473-D15464A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CC4-029F-44E7-BEE8-DB76321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0535-D074-4100-A49C-A93F81C7AD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A14E-84AE-4D86-86C5-B44BC5F3F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in LSM character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27280" y="762120"/>
            <a:ext cx="3359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 soil layer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ths, 1 layer vegetation canop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Predicts: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soil moist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soil temperat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land surface skin temperatu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land surface evapo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sensible heat flu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2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Calibri"/>
              </a:rPr>
              <a:t>total runof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030a0"/>
                </a:solidFill>
                <a:latin typeface="Calibri"/>
              </a:rPr>
              <a:t>Uses knowledge of the soil type and vegetation in calculation of evapotranspi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030a0"/>
                </a:solidFill>
                <a:latin typeface="Calibri"/>
              </a:rPr>
              <a:t>Land/veg type characteristics to consider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do &amp; energy bu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ness (from vegetation &amp; topograph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orosity and thermal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potranspiration from vegetation/lack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and mois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and use data in WPS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GS 24 category (1992/1993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S hi-res 20 category (2000/20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S data is ONLY used with NOAH L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023080" cy="3767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2280" y="502920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FDL Sla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1 surface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Predicts ONLY surface temperature, soil moisture is fixed in forecast from the G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Does not predict surface run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5638680" y="22320"/>
            <a:ext cx="3162600" cy="6858000"/>
            <a:chOff x="5638680" y="22320"/>
            <a:chExt cx="3162600" cy="6858000"/>
          </a:xfrm>
        </p:grpSpPr>
        <p:pic>
          <p:nvPicPr>
            <p:cNvPr id="46" name="Picture 5" descr=""/>
            <p:cNvPicPr/>
            <p:nvPr/>
          </p:nvPicPr>
          <p:blipFill>
            <a:blip r:embed="rId2"/>
            <a:stretch/>
          </p:blipFill>
          <p:spPr>
            <a:xfrm>
              <a:off x="5638680" y="22320"/>
              <a:ext cx="3162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6"/>
            <p:cNvSpPr/>
            <p:nvPr/>
          </p:nvSpPr>
          <p:spPr>
            <a:xfrm>
              <a:off x="5638680" y="1155240"/>
              <a:ext cx="31626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IS 20 category L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SM sensitivity on TCs with l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or difficult) land tra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ricane models currently run with Slab LSM, while operational Wx models run with Noah LS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differences? Which is better for hurricane ru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Can we justify switching hurricane models to the Noah LSM, or continue using Slab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ms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ke, Gustav (2008), Rita, Katrina (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Slab and Noah L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76320" y="76320"/>
            <a:ext cx="8991360" cy="6705360"/>
            <a:chOff x="76320" y="76320"/>
            <a:chExt cx="8991360" cy="6705360"/>
          </a:xfrm>
        </p:grpSpPr>
        <p:pic>
          <p:nvPicPr>
            <p:cNvPr id="51" name="Picture 3" descr=""/>
            <p:cNvPicPr/>
            <p:nvPr/>
          </p:nvPicPr>
          <p:blipFill>
            <a:blip r:embed="rId1"/>
            <a:srcRect l="9388" t="0" r="3564" b="0"/>
            <a:stretch/>
          </p:blipFill>
          <p:spPr>
            <a:xfrm>
              <a:off x="76320" y="76320"/>
              <a:ext cx="899136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"/>
            <p:cNvSpPr/>
            <p:nvPr/>
          </p:nvSpPr>
          <p:spPr>
            <a:xfrm>
              <a:off x="1353960" y="915840"/>
              <a:ext cx="1160280" cy="52056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SLA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pic>
          <p:nvPicPr>
            <p:cNvPr id="54" name="Picture 4" descr=""/>
            <p:cNvPicPr/>
            <p:nvPr/>
          </p:nvPicPr>
          <p:blipFill>
            <a:blip r:embed="rId2"/>
            <a:srcRect l="9695" t="0" r="6822" b="3517"/>
            <a:stretch/>
          </p:blipFill>
          <p:spPr>
            <a:xfrm>
              <a:off x="0" y="76320"/>
              <a:ext cx="914400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>
              <a:off x="1635120" y="920880"/>
              <a:ext cx="1257120" cy="52056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OA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al tracks for F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monica_fay.png"/>
          <p:cNvPicPr/>
          <p:nvPr/>
        </p:nvPicPr>
        <p:blipFill>
          <a:blip r:embed="rId1"/>
          <a:stretch/>
        </p:blipFill>
        <p:spPr>
          <a:xfrm>
            <a:off x="961920" y="606600"/>
            <a:ext cx="65818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762120" y="412920"/>
            <a:ext cx="7619760" cy="6445080"/>
            <a:chOff x="762120" y="412920"/>
            <a:chExt cx="7619760" cy="6445080"/>
          </a:xfrm>
        </p:grpSpPr>
        <p:pic>
          <p:nvPicPr>
            <p:cNvPr id="59" name="Picture 5" descr=""/>
            <p:cNvPicPr/>
            <p:nvPr/>
          </p:nvPicPr>
          <p:blipFill>
            <a:blip r:embed="rId1"/>
            <a:srcRect l="9740" t="0" r="4558" b="3351"/>
            <a:stretch/>
          </p:blipFill>
          <p:spPr>
            <a:xfrm>
              <a:off x="762120" y="412920"/>
              <a:ext cx="7619760" cy="64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TextBox 6" descr=""/>
            <p:cNvPicPr/>
            <p:nvPr/>
          </p:nvPicPr>
          <p:blipFill>
            <a:blip r:embed="rId2"/>
            <a:stretch/>
          </p:blipFill>
          <p:spPr>
            <a:xfrm>
              <a:off x="1578960" y="1347120"/>
              <a:ext cx="141408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0"/>
          <p:cNvGrpSpPr/>
          <p:nvPr/>
        </p:nvGrpSpPr>
        <p:grpSpPr>
          <a:xfrm>
            <a:off x="762120" y="371520"/>
            <a:ext cx="7619760" cy="6334200"/>
            <a:chOff x="762120" y="371520"/>
            <a:chExt cx="7619760" cy="6334200"/>
          </a:xfrm>
        </p:grpSpPr>
        <p:pic>
          <p:nvPicPr>
            <p:cNvPr id="62" name="Picture 3" descr=""/>
            <p:cNvPicPr/>
            <p:nvPr/>
          </p:nvPicPr>
          <p:blipFill>
            <a:blip r:embed="rId3"/>
            <a:srcRect l="8969" t="0" r="3693" b="3190"/>
            <a:stretch/>
          </p:blipFill>
          <p:spPr>
            <a:xfrm>
              <a:off x="762120" y="371520"/>
              <a:ext cx="7619760" cy="63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TextBox 7" descr=""/>
            <p:cNvPicPr/>
            <p:nvPr/>
          </p:nvPicPr>
          <p:blipFill>
            <a:blip r:embed="rId4"/>
            <a:stretch/>
          </p:blipFill>
          <p:spPr>
            <a:xfrm>
              <a:off x="1578960" y="1450800"/>
              <a:ext cx="1334880" cy="92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n S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5"/>
          <p:cNvGrpSpPr/>
          <p:nvPr/>
        </p:nvGrpSpPr>
        <p:grpSpPr>
          <a:xfrm>
            <a:off x="1066680" y="495360"/>
            <a:ext cx="7647120" cy="6381720"/>
            <a:chOff x="1066680" y="495360"/>
            <a:chExt cx="7647120" cy="638172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rcRect l="8020" t="0" r="5295" b="3528"/>
            <a:stretch/>
          </p:blipFill>
          <p:spPr>
            <a:xfrm>
              <a:off x="1066680" y="495360"/>
              <a:ext cx="7647120" cy="63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4" descr=""/>
            <p:cNvPicPr/>
            <p:nvPr/>
          </p:nvPicPr>
          <p:blipFill>
            <a:blip r:embed="rId2"/>
            <a:stretch/>
          </p:blipFill>
          <p:spPr>
            <a:xfrm>
              <a:off x="1962720" y="1274040"/>
              <a:ext cx="1407960" cy="92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infall Accum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838080" y="571680"/>
            <a:ext cx="7823160" cy="6427440"/>
            <a:chOff x="838080" y="571680"/>
            <a:chExt cx="7823160" cy="6427440"/>
          </a:xfrm>
        </p:grpSpPr>
        <p:pic>
          <p:nvPicPr>
            <p:cNvPr id="70" name="Picture 2" descr=""/>
            <p:cNvPicPr/>
            <p:nvPr/>
          </p:nvPicPr>
          <p:blipFill>
            <a:blip r:embed="rId3"/>
            <a:srcRect l="7975" t="0" r="3749" b="3281"/>
            <a:stretch/>
          </p:blipFill>
          <p:spPr>
            <a:xfrm>
              <a:off x="838080" y="571680"/>
              <a:ext cx="7823160" cy="64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6" descr=""/>
            <p:cNvPicPr/>
            <p:nvPr/>
          </p:nvPicPr>
          <p:blipFill>
            <a:blip r:embed="rId4"/>
            <a:stretch/>
          </p:blipFill>
          <p:spPr>
            <a:xfrm>
              <a:off x="2163960" y="1426320"/>
              <a:ext cx="1590840" cy="92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1:16:22Z</dcterms:created>
  <dc:creator>mlaurean</dc:creator>
  <dc:description/>
  <dc:language>en-US</dc:language>
  <cp:lastModifiedBy>Seminar</cp:lastModifiedBy>
  <dcterms:modified xsi:type="dcterms:W3CDTF">2010-07-15T16:40:09Z</dcterms:modified>
  <cp:revision>17</cp:revision>
  <dc:subject/>
  <dc:title>PowerPoint Presentation</dc:title>
</cp:coreProperties>
</file>