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14E2-3592-44F4-BE5F-A1D0F4203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9246-1DEB-4A46-BDBB-A02F7D01B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FDFD-8321-4DD4-841E-32F5CAA6D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78C-AB77-4870-B626-0AA79D96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D76-0EC1-4324-B64C-F71ADC9B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B96-E809-4436-88FF-A0538E52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A3D-B8A6-49BB-908A-2622837C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41D-9970-449D-B089-2E3E9402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AEA-0885-4274-B37B-704943C6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152-1DD3-4A60-B08A-54988496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F39-E9C8-447C-B052-12AC6949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7C8-B295-4087-A158-5DE3AF41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162-06EA-4FF7-BF92-B3F6BFC8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D5A-FB53-4659-A541-E232D5D1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F25-9EF9-4816-9C7C-62A2ED58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5602-34CF-42A3-96E6-63567AFFC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3520" y="685800"/>
            <a:ext cx="792468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ambria"/>
              </a:rPr>
              <a:t>HWRF Vortex Initialization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HWRF vortex initialization without GSI is up and running on NJET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ith both Intel and PGI compilers (Monica, Shaowu, Xuejin).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MS Mincho"/>
              </a:rPr>
              <a:t>☞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est </a:t>
            </a:r>
            <a:r>
              <a:rPr b="0" lang="en-US" sz="1800" spc="-1" strike="noStrike">
                <a:solidFill>
                  <a:srgbClr val="3333cc"/>
                </a:solidFill>
                <a:latin typeface="Cambria"/>
              </a:rPr>
              <a:t>cold start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with bogus vortex &amp; 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warm start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with cycled runs (control).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MS Mincho"/>
              </a:rPr>
              <a:t>☞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odify the </a:t>
            </a:r>
            <a:r>
              <a:rPr b="0" lang="en-US" sz="1800" spc="-1" strike="noStrike">
                <a:solidFill>
                  <a:srgbClr val="00b050"/>
                </a:solidFill>
                <a:latin typeface="Cambria"/>
              </a:rPr>
              <a:t>vortex structur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to improve intensity forecast without GSI. 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MS Mincho"/>
              </a:rPr>
              <a:t>☞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Enhance </a:t>
            </a:r>
            <a:r>
              <a:rPr b="0" lang="en-US" sz="1800" spc="-1" strike="noStrike">
                <a:solidFill>
                  <a:srgbClr val="00b050"/>
                </a:solidFill>
                <a:latin typeface="Cambria"/>
              </a:rPr>
              <a:t>dynamical consistency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o improve intensity forecast without GSI.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MS Mincho"/>
              </a:rPr>
              <a:t>☞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reate effective vortex initialization without GSI for </a:t>
            </a:r>
            <a:r>
              <a:rPr b="0" lang="en-US" sz="1800" spc="-1" strike="noStrike">
                <a:solidFill>
                  <a:srgbClr val="3333cc"/>
                </a:solidFill>
                <a:latin typeface="Cambria"/>
              </a:rPr>
              <a:t>research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needs.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MS Mincho"/>
              </a:rPr>
              <a:t>☞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est new vortex initialization scheme with GSI for 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operation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needs.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MS Mincho"/>
              </a:rPr>
              <a:t>☞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oposal …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533520" y="685800"/>
            <a:ext cx="792468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ambria"/>
              </a:rPr>
              <a:t>Diagnostic Post-Processor (Diapost) 3.2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ubstantially upgraded 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storm tracker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o handle land problems.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ast hi-res 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wind-swath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rain-swath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for quick intensity verification.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Original </a:t>
            </a:r>
            <a:r>
              <a:rPr b="0" lang="en-US" sz="1800" spc="-1" strike="noStrike">
                <a:solidFill>
                  <a:srgbClr val="3333cc"/>
                </a:solidFill>
                <a:latin typeface="Cambria"/>
              </a:rPr>
              <a:t>sigma-level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data on virtually native model grid for debugging.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Hi-res </a:t>
            </a:r>
            <a:r>
              <a:rPr b="0" lang="en-US" sz="1800" spc="-1" strike="noStrike">
                <a:solidFill>
                  <a:srgbClr val="3333cc"/>
                </a:solidFill>
                <a:latin typeface="Cambria"/>
              </a:rPr>
              <a:t>pressure-level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and </a:t>
            </a:r>
            <a:r>
              <a:rPr b="0" lang="en-US" sz="1800" spc="-1" strike="noStrike">
                <a:solidFill>
                  <a:srgbClr val="3333cc"/>
                </a:solidFill>
                <a:latin typeface="Cambria"/>
              </a:rPr>
              <a:t>height-level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data for diagnostics (dp = 25 mb).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50mb-pressure-level data on </a:t>
            </a:r>
            <a:r>
              <a:rPr b="0" lang="en-US" sz="1800" spc="-1" strike="noStrike">
                <a:solidFill>
                  <a:srgbClr val="00b050"/>
                </a:solidFill>
                <a:latin typeface="Cambria"/>
              </a:rPr>
              <a:t>latlon grid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for archiving and diagnostics.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Hi-res height-level data on </a:t>
            </a:r>
            <a:r>
              <a:rPr b="0" lang="en-US" sz="1800" spc="-1" strike="noStrike">
                <a:solidFill>
                  <a:srgbClr val="00b050"/>
                </a:solidFill>
                <a:latin typeface="Cambria"/>
              </a:rPr>
              <a:t>cylindrical grid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r analyzing storm structures.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Cambria"/>
              </a:rPr>
              <a:t>Flexible domain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anipulation for standard latlon grid and cylindrical grid, 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cluding output domain center, domain size, resolution, aspect ratio …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MS Mincho"/>
              </a:rPr>
              <a:t>☞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oposal …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9:35:24Z</dcterms:created>
  <dc:creator>Administrator</dc:creator>
  <dc:description/>
  <dc:language>en-US</dc:language>
  <cp:lastModifiedBy>yeh</cp:lastModifiedBy>
  <cp:lastPrinted>2004-10-29T18:41:29Z</cp:lastPrinted>
  <dcterms:modified xsi:type="dcterms:W3CDTF">2010-07-14T20:14:02Z</dcterms:modified>
  <cp:revision>474</cp:revision>
  <dc:subject/>
  <dc:title>HIGH RESOLUTION fvGCM  RESULTS</dc:title>
</cp:coreProperties>
</file>