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912A-9A6E-44CC-96A5-CFB30403B9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2D95-3995-4F09-9BF6-7ABC07EB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BEAD0-AA8E-443A-98BC-06DF272E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68E3B9-9C07-4E2D-9AF0-E529CBB5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7CFCC-0085-4591-84A1-26A3B88C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760DC2-A994-4747-BD36-FF96338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A36A6E-5240-44FA-951A-D2CBA52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E9D19B-B894-4A95-B5D9-C77C8122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96DE1-97D7-49A8-A158-93DA5283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AD17E9-E596-4EA5-BD7D-896C6341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3B801-BC5A-413D-80CD-44756D7C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9185E3-7125-48FE-8200-801A3709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3880-F651-4F98-A7BA-248A4D9E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FE6031-1812-4971-9D8C-8E0B8453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C6051-5F5A-4F13-96B9-32C29149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FDC5FF-FF6B-4C59-B8C5-EA708F7C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F7388-079F-4E59-9DAC-D6EC5CD5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766C7E-B439-40B5-A019-5D828E0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CF8FE7-20A2-46A1-8E46-69C8695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915AC5-590E-47E6-94B2-BE07114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74F93F-7A99-40AA-8BF9-87C69A12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F05E7F-7EDA-40E7-ACE4-544DE430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ECA88A-4FFB-4B64-8DD5-F3CD7ADF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CCB1-2880-464A-8F93-BCB5C9C60A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1D1053-D4CE-413C-BB2A-D525B5AD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8D6BC4-0CD1-4B79-9049-B5F97C13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120966-66C5-4DEC-A5FB-784D1874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3BC194-9064-4F01-B14C-FBC10671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890064-CE6E-4B97-A90F-C199E5C3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B8839B-A450-4C6E-8B6B-EF37E331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045A8F-E49F-4FEA-B823-EC298C49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7E42F8-A029-4AA4-B63A-4B761092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CFA9F8-E5CE-48DB-B01D-8E72664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45C7F8-F688-458E-AE78-2427049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4E013-5A50-402F-8C1D-D3EB8B2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FF681A-1259-45B6-9C34-22BF5A4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2B6DC0-469D-4D56-BC99-5B4D6C8C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36F03C-0E30-4767-89E2-D7EE57A7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2BCB23-3039-452D-9BEF-EAD40435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8ADAE1-9524-471F-B4F8-40E6BFFA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1EBA17-AB3D-457B-87D7-BC3A92D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14C6A0-B340-4554-8E7D-57EDC51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936F8B-80EA-4228-A79D-95EE6E1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E26BA1-AE71-4096-A64F-4691D1EF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9DBADA-B919-42EF-89CC-1C4E46B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C4A83-113E-4B59-B8D9-BB8CD3D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355799-96F6-4233-AB8A-6C310B1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0B7371-6F60-42A2-BBAB-D8194B9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ACD14E-594E-4A4E-9582-D71F3EFF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2A0507-A7AC-4A8B-8B25-04057A57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13A003-ADA8-4743-897E-E3090C67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5E45-2A95-4559-AD59-8BA921B3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05CD4-06D8-4ACE-A675-496A301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1EC28-431F-4976-AF67-EFD7865E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6B881-4461-46E3-ACD0-6D4A2C75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953DB-8A49-432F-B8EC-7FB7F64E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FF17-355E-437C-A221-EF17B974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E6E9-98D1-4487-AED9-99A55D5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E2E1A-657B-4AB6-B69C-5CB35D3C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323DB-ACBA-4F11-8C15-D88730E9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EBAE3-AB44-4D38-AE06-66648F1B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4EB53-6AD7-4533-9D79-FD2919A2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D3A58-9586-4F2B-BAAB-C965A4BC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15CA6-BEF1-40DC-8019-5B8CC9FB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79367-53C9-42B0-A033-C5B300E6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0EA13-2501-454A-8387-B7A9AB1F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E6999-1C89-4531-92B9-5B0D9C6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11A6-5F38-4FE9-8F6D-F1FB2056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250CA-2DD3-4C21-8393-8F0CD499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10F81-F4C5-4EFC-8771-80062CF6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2191B-6C7C-45E7-9303-CE1E4F9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A9240-EA6A-44FA-907A-62726EA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539B5-43DA-471F-B56A-8455C04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C400C-9A3F-4558-8C30-DA6518DA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3A8A1-B10B-4434-AA14-41720DEB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987CD-40B9-435D-9AC9-1E30ED6F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AABD1-B0D0-4E86-8060-5BB7E210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41C86-3B74-4F01-AF0B-E0171B34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A97C-B895-40C8-90E1-006DB751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E3455-6496-46E5-B64C-C3C18648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49438-31FE-4728-A798-E5DB4315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F1A18-E729-4FF4-A0D6-1E3473D6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20A1E-459D-4519-8A58-A274F4E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AE485-4737-47C0-9D42-FCC10CA6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8B3C0-7067-49E6-97FC-5997AA2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5B86A-334D-4261-898C-7E3C70D2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0811D-B7EC-44CC-B485-FB622B13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D57C5-6409-41E3-A3B6-88AC2E2F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BDAFF-227F-468F-A8DA-BCB7672F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0212-DE89-40A6-9386-13509BC2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02918-8A2D-4832-8742-6614F56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AC8A0-D916-4164-8F3A-ECA6EBC3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68033-F418-4F28-A610-31C454BA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A7BE2-6927-434F-AED8-3DD2236E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80177-1EA6-40ED-A0D0-6FC25585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49575-80B7-4563-A58A-525F6EF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D78A0-F080-47AE-97E1-39ACA0C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2ADAE-ED4B-4FC9-87CD-908A72A6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75629-3F03-430E-8B73-50AC97B4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6B6A3-E04C-462D-BB9F-C640590D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244F-B279-4875-A082-92E5A35D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C7A11-0761-498C-A21F-A7DCCBAA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896A8-42BA-4817-88FA-DBAFEDF5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0395C-E2FA-4E1F-99A5-05CD2E0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00B4F-3A2E-4ECB-9F13-5748512F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CD7E5-3087-4855-A066-ED40A19B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E7730-DA32-4EC1-8612-91379900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75FFC-31EA-4AEC-8388-E9E351E3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E369B-107C-4C4B-BEB5-3E1B738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57A4A-375C-4B88-8B54-0349522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27B90-8205-4FA6-9703-849D7B69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55E8-3844-4F85-B80F-7B7CA91B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2B595-212E-4E56-BB30-7362CE86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BE7F9-EEA5-4F22-9EEC-680116B6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02074-0F0C-44B6-85C5-767CA586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9736F-517C-40BA-A231-04E01FA2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2C18A-3806-4959-BDAA-BCDB189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DC61A-003C-4116-9300-E82F5B13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75F32-9908-41D6-BD24-F811D80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5EAAD-BF08-4231-A7C4-EB63EC30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240D0-F826-4EE7-B761-0C9A982E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2765B-F44B-4A31-AF78-69E905D1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5DC2-2A7E-49CC-88AC-8224D65E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5897F-2393-4F05-9A6C-F1B128F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46642-8C91-4740-9D71-CEA6FD8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C2EF1-941D-433B-844E-3D4AF5E7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8A841-4F19-4583-B813-770E3A0C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E58ED-A322-480A-ACEF-543E0330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95F9E-F05C-46E6-9687-EBC58DA5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D3A243-CC2A-4F7B-8258-783C5C9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2D954-AFF5-4ADA-971B-9E128AA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5A86AD-0B14-4F86-832B-6344B408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9D5BBC-CF53-4BF3-A4F5-3B1B08A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821D-0F7E-4EA5-AC8E-7B0932CC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621E7-4DDA-4810-8BC3-7D7369E7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7A4E93-67B3-47DA-A90F-189B8540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56A49-E4BA-484C-8AFD-C78147F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FE9BD-1495-4728-853B-2C5E56B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B35E5B-BAD4-417A-BFCD-BB8D73D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F81B8-38D5-4668-BD69-A47922B4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BC623-F68B-450D-A405-8A768325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5417A-7A0B-44DC-A67D-9BDCE92B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220A44-3BFD-4AE9-B8D4-230C7E55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82AF1-1B13-4E8F-9974-D059274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D418-4221-476D-9E63-D5425C1916F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CDD5-7E09-424A-ACF3-410D1ECBA8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0AC2-CA51-498A-AD1B-0C52AD761AD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7B06-757B-4A22-80E8-6E19C866008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2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DDC7-6090-40D2-86B7-C5DCB4234EE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DB77-75FB-4588-862B-81EDA10700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DF97-D553-4000-9121-AE9D486710B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E6C3-EBF5-433C-B02C-92D8ED6A52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C74C-9B77-4F5E-A014-1F8C4447AAD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EB2-82D6-4C36-BE4B-2C162949E7B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91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CD6D-D3EE-4378-B4DB-5F8EE0FDC6D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E6EA-57AE-424F-AF95-8ECDAEC763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34" name="Rounded Rectangle 1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5" name="Rounded Rectangle 11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7" name="Rectangle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2812-E756-4E0C-A131-3BED0F7D482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C8AA-584F-4F70-B7CA-F3DB8637EC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3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7834-1B16-4B1A-AC23-1F94C1891FB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44A9-C7EB-4BB4-9186-6CD38F2DEC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7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968E-D601-4D15-BF0E-06CB4ADCA93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E5FD-1C56-41E4-BBCC-DC20A4AAD3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A798-CAB9-479D-8877-2428135EE20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2385-728F-4069-92C9-379BB1481C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6FAF-8CBF-46CB-BC70-9693460144C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FB6F-E84E-421E-BD83-65D8988D6C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9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Rounded Rectangle 1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486A-AC9C-485C-B6A8-2810B8A39B7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5AC5-0210-4A6B-88B1-757A53EFB8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990720" y="3276360"/>
            <a:ext cx="71625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L. Bernardet, NOAA GSD / CI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Perpetua"/>
              </a:rPr>
              <a:t>Topic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Perpetua"/>
              </a:rPr>
              <a:t>Community HWRF Suppor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Perpetua"/>
              </a:rPr>
              <a:t>HWRF Testing suite on nje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Perpetua"/>
              </a:rPr>
              <a:t>HWRF Code Manag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Perpetua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pdate on hurricane work at the DTC 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540" name="Picture 4" descr="dtc_wordmark_pms203.jpg"/>
          <p:cNvPicPr/>
          <p:nvPr/>
        </p:nvPicPr>
        <p:blipFill>
          <a:blip r:embed="rId1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541" name="Subtitle 2"/>
          <p:cNvSpPr/>
          <p:nvPr/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Perpetua"/>
              </a:rPr>
              <a:t>HRD Modeling Meeting, July 15, 2010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ommunity HWRF Suppor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140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WRF Beta release in March 2010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veral bug fixes in WRF and other cod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la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HWRF after WRF 3.2.1 release (August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jor ongoing work: code has some bugs which prevent running with some versions of PG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ser suppor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0 registered use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27 emails answer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4" name="Picture 4" descr="Untitled.png"/>
          <p:cNvPicPr/>
          <p:nvPr/>
        </p:nvPicPr>
        <p:blipFill>
          <a:blip r:embed="rId1"/>
          <a:stretch/>
        </p:blipFill>
        <p:spPr>
          <a:xfrm>
            <a:off x="6019920" y="3809880"/>
            <a:ext cx="2706480" cy="26672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"/>
          <p:cNvSpPr/>
          <p:nvPr/>
        </p:nvSpPr>
        <p:spPr>
          <a:xfrm>
            <a:off x="1219320" y="56386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TCenter.org/HurrWRF/use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546" name="Straight Arrow Connector 6"/>
          <p:cNvCxnSpPr/>
          <p:nvPr/>
        </p:nvCxnSpPr>
        <p:spPr>
          <a:xfrm flipV="1">
            <a:off x="4419360" y="5409360"/>
            <a:ext cx="144828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Testing Suite on Nje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140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cripts and automation are almost don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test accomplish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13960" indent="-22608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WRF is now running connected with Community GSI v2.0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13960" indent="-22608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C HWRF graphics plotting capability has been ported to nje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lef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nal review of GSI op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 prep_hybrid to run off GFS binary fil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tomated archival mechan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fer of graphics to websi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9" name="Picture 33" descr="Screen shot 2010-06-15 at 11.24.02 AM.png"/>
          <p:cNvPicPr/>
          <p:nvPr/>
        </p:nvPicPr>
        <p:blipFill>
          <a:blip r:embed="rId1"/>
          <a:stretch/>
        </p:blipFill>
        <p:spPr>
          <a:xfrm>
            <a:off x="4952880" y="9144000"/>
            <a:ext cx="8353440" cy="82296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3" descr="Screen shot 2010-06-15 at 11.24.02 AM.png"/>
          <p:cNvPicPr/>
          <p:nvPr/>
        </p:nvPicPr>
        <p:blipFill>
          <a:blip r:embed="rId2"/>
          <a:stretch/>
        </p:blipFill>
        <p:spPr>
          <a:xfrm>
            <a:off x="5105520" y="9296280"/>
            <a:ext cx="8353440" cy="8229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3" descr="Screen shot 2010-06-15 at 11.24.02 AM.png"/>
          <p:cNvPicPr/>
          <p:nvPr/>
        </p:nvPicPr>
        <p:blipFill>
          <a:blip r:embed="rId3"/>
          <a:stretch/>
        </p:blipFill>
        <p:spPr>
          <a:xfrm>
            <a:off x="5257800" y="9448920"/>
            <a:ext cx="8353440" cy="8229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Screen shot 2010-06-15 at 11.24.02 AM.png"/>
          <p:cNvPicPr/>
          <p:nvPr/>
        </p:nvPicPr>
        <p:blipFill>
          <a:blip r:embed="rId4"/>
          <a:stretch/>
        </p:blipFill>
        <p:spPr>
          <a:xfrm>
            <a:off x="5410080" y="9601200"/>
            <a:ext cx="8353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Code Managemen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266720" y="152352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1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atisfactory: WRF  v3.2 performed well compared with operat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1’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 bug fixes done by DTC in vortex initialization have high impact on forecasts. Investigat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09480" y="1508040"/>
          <a:ext cx="3505320" cy="2195640"/>
        </p:xfrm>
        <a:graphic>
          <a:graphicData uri="http://schemas.openxmlformats.org/drawingml/2006/table">
            <a:tbl>
              <a:tblPr/>
              <a:tblGrid>
                <a:gridCol w="857520"/>
                <a:gridCol w="1012680"/>
                <a:gridCol w="87300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4320">
                      <a:solidFill>
                        <a:srgbClr val="654c83"/>
                      </a:solidFill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H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1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654c83"/>
                      </a:solidFill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WRF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4320">
                      <a:solidFill>
                        <a:srgbClr val="654c83"/>
                      </a:solidFill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09 operat + fi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WRF V3.2 + fi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654c83"/>
                      </a:solidFill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ortex, coupler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4320">
                      <a:solidFill>
                        <a:srgbClr val="654c83"/>
                      </a:solidFill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09 op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09 op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654c83"/>
                      </a:solidFill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85800" y="4114800"/>
          <a:ext cx="3505320" cy="2193840"/>
        </p:xfrm>
        <a:graphic>
          <a:graphicData uri="http://schemas.openxmlformats.org/drawingml/2006/table">
            <a:tbl>
              <a:tblPr/>
              <a:tblGrid>
                <a:gridCol w="1095480"/>
                <a:gridCol w="1114200"/>
                <a:gridCol w="129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4320">
                      <a:solidFill>
                        <a:srgbClr val="654c83"/>
                      </a:solidFill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H5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654c83"/>
                      </a:solidFill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WRF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4320">
                      <a:solidFill>
                        <a:srgbClr val="654c83"/>
                      </a:solidFill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10 pre-impl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WRF V3.2 + fixes + 2010 d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654c83"/>
                      </a:solidFill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ortex, coupler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4320">
                      <a:solidFill>
                        <a:srgbClr val="654c83"/>
                      </a:solidFill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09 = 2010 op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09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p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654c83"/>
                      </a:solidFill>
                    </a:lnR>
                    <a:lnT w="4320">
                      <a:solidFill>
                        <a:srgbClr val="654c83"/>
                      </a:solidFill>
                    </a:lnT>
                    <a:lnB w="4320">
                      <a:solidFill>
                        <a:srgbClr val="654c8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Content Placeholder 2"/>
          <p:cNvSpPr/>
          <p:nvPr/>
        </p:nvSpPr>
        <p:spPr>
          <a:xfrm>
            <a:off x="4267080" y="4191120"/>
            <a:ext cx="4876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2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uns done, analysis in progres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Futur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0948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ew software engineer (NOAA/CIRES)  starts mid-Augus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viewing resumes for Project Scientist (NCAR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ition of HYCOM to DT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ird nest: waiting EMC review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dealized capability: waiting AOML/EMC delivery/review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dding 2010 operational HWRF developments to community WRF reposito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art running end-to-end tes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Y 2011 plan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0" name="Picture 33" descr="Screen shot 2010-06-15 at 11.24.02 AM.png"/>
          <p:cNvPicPr/>
          <p:nvPr/>
        </p:nvPicPr>
        <p:blipFill>
          <a:blip r:embed="rId1"/>
          <a:stretch/>
        </p:blipFill>
        <p:spPr>
          <a:xfrm>
            <a:off x="4952880" y="9144000"/>
            <a:ext cx="8353440" cy="82296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3" descr="Screen shot 2010-06-15 at 11.24.02 AM.png"/>
          <p:cNvPicPr/>
          <p:nvPr/>
        </p:nvPicPr>
        <p:blipFill>
          <a:blip r:embed="rId2"/>
          <a:stretch/>
        </p:blipFill>
        <p:spPr>
          <a:xfrm>
            <a:off x="5105520" y="9296280"/>
            <a:ext cx="8353440" cy="8229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3" descr="Screen shot 2010-06-15 at 11.24.02 AM.png"/>
          <p:cNvPicPr/>
          <p:nvPr/>
        </p:nvPicPr>
        <p:blipFill>
          <a:blip r:embed="rId3"/>
          <a:stretch/>
        </p:blipFill>
        <p:spPr>
          <a:xfrm>
            <a:off x="5257800" y="9448920"/>
            <a:ext cx="8353440" cy="8229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3" descr="Screen shot 2010-06-15 at 11.24.02 AM.png"/>
          <p:cNvPicPr/>
          <p:nvPr/>
        </p:nvPicPr>
        <p:blipFill>
          <a:blip r:embed="rId4"/>
          <a:stretch/>
        </p:blipFill>
        <p:spPr>
          <a:xfrm>
            <a:off x="5410080" y="9601200"/>
            <a:ext cx="8353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6:38:26Z</dcterms:created>
  <dc:creator>nance</dc:creator>
  <dc:description/>
  <dc:language>en-US</dc:language>
  <cp:lastModifiedBy>xzhang</cp:lastModifiedBy>
  <dcterms:modified xsi:type="dcterms:W3CDTF">2010-07-15T08:45:57Z</dcterms:modified>
  <cp:revision>138</cp:revision>
  <dc:subject/>
  <dc:title>Task Title</dc:title>
</cp:coreProperties>
</file>