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3743-9DE0-47C6-8CC4-2B8F8A238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02A0-989C-4E93-B8B7-374B41C25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D9F4-1A40-40FB-8B11-57C39BBCC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47DA-6164-49CE-8907-2C6F15B08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A9AC-3501-439B-818A-71DE0076D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2F90-9778-47FE-A1E5-62B5F58E2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9BB6-FC25-4793-B46F-A75574EBF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0FCD-6DF3-42C4-A306-D65C4CA95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98728-1128-4E55-8EE6-E826F731C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DBDE1-694E-4E82-A553-8B7B27BEE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ECEA3-E294-48C2-9DC8-C51557BB7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7BC86-781A-49C7-9622-4A21E79E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79501-063B-492F-9140-B09451DA2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B6263-EEBB-401E-9014-2947A35A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2465-A2F3-40CA-8E77-15D4E26E4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72F94-FCCB-460C-9654-9CD374E2A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4667-0F46-4C6E-B913-8F37C6A1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2713-00FD-4421-9CA5-C2257FFE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16AE-F2D4-4B9A-B920-B84ECBD24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5557-0CFA-4895-A928-AED283674A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WRF3.2 Transitions and HFIP Demo -Status Repor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C/NCEP and HRD/AO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FIP Demo Project (Stream 2): </a:t>
            </a:r>
            <a:r>
              <a:rPr b="0" lang="en-US" sz="2000" spc="-1" strike="noStrike">
                <a:solidFill>
                  <a:srgbClr val="000000"/>
                </a:solidFill>
                <a:latin typeface="Times New Roman"/>
              </a:rPr>
              <a:t>EMC and HRD will participate in a joint HWRFV3.2 demonstration project  (stream 2) with the following experiments:</a:t>
            </a:r>
            <a:br>
              <a:rPr sz="2000"/>
            </a:br>
            <a:r>
              <a:rPr b="1" lang="en-US" sz="2000" spc="-1" strike="noStrike">
                <a:solidFill>
                  <a:srgbClr val="000000"/>
                </a:solidFill>
                <a:latin typeface="Times New Roman"/>
              </a:rPr>
              <a:t>Operational HWRF Configuration Experiments:</a:t>
            </a:r>
            <a:endParaRPr b="0" lang="en-US" sz="2000" spc="-1" strike="noStrike">
              <a:solidFill>
                <a:srgbClr val="000000"/>
              </a:solidFill>
              <a:latin typeface="Arial"/>
            </a:endParaRPr>
          </a:p>
        </p:txBody>
      </p:sp>
      <p:graphicFrame>
        <p:nvGraphicFramePr>
          <p:cNvPr id="51" name=""/>
          <p:cNvGraphicFramePr/>
          <p:nvPr/>
        </p:nvGraphicFramePr>
        <p:xfrm>
          <a:off x="457200" y="1447920"/>
          <a:ext cx="8229600" cy="5232240"/>
        </p:xfrm>
        <a:graphic>
          <a:graphicData uri="http://schemas.openxmlformats.org/drawingml/2006/table">
            <a:tbl>
              <a:tblPr/>
              <a:tblGrid>
                <a:gridCol w="1066680"/>
                <a:gridCol w="1295640"/>
                <a:gridCol w="1447560"/>
                <a:gridCol w="1752840"/>
                <a:gridCol w="2666880"/>
              </a:tblGrid>
              <a:tr h="3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itialization</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r>
              <a:tr h="256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s per day, Atlantic bas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 1 onward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km/3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 HWRF domai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HWRF vortex initialization with relocation, GSI and cycling</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HWRF Physics with POM coupling in the Atlantic</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HWRFV3.2 system with R2 config. (w/2010 upgrades). Use WPS w/GFS grib files (instead of spectral files) for IC/BC.  HWRFPOST along with Diapost for generating model output produc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r>
              <a:tr h="230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 27/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ycles per day, Atlantic bas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km/9km/3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 HWRF domai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3 IC/BC</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HWRF Physics, Uncouple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tests would be to test the functionality of the system and optimization of model run time and resources.  EMC continues developing init and coupling for 3</a:t>
                      </a:r>
                      <a:r>
                        <a:rPr b="0" lang="en-US" sz="1400" spc="-1" strike="noStrike" baseline="30000">
                          <a:solidFill>
                            <a:srgbClr val="000000"/>
                          </a:solidFill>
                          <a:latin typeface="Arial"/>
                        </a:rPr>
                        <a:t>rd</a:t>
                      </a:r>
                      <a:r>
                        <a:rPr b="0" lang="en-US" sz="1400" spc="-1" strike="noStrike">
                          <a:solidFill>
                            <a:srgbClr val="000000"/>
                          </a:solidFill>
                          <a:latin typeface="Arial"/>
                        </a:rPr>
                        <a:t> nest; </a:t>
                      </a:r>
                      <a:r>
                        <a:rPr b="0" lang="en-US" sz="1400" spc="-1" strike="noStrike">
                          <a:solidFill>
                            <a:srgbClr val="000000"/>
                          </a:solidFill>
                          <a:latin typeface="Arial"/>
                        </a:rPr>
                        <a:t>HRD will participate the effort to test new dynamic vortex initialization (See Kevin’s slides)</a:t>
                      </a:r>
                      <a:endParaRPr b="0" lang="en-US" sz="1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
          <p:cNvGraphicFramePr/>
          <p:nvPr/>
        </p:nvGraphicFramePr>
        <p:xfrm>
          <a:off x="457200" y="1600200"/>
          <a:ext cx="8229600" cy="3571920"/>
        </p:xfrm>
        <a:graphic>
          <a:graphicData uri="http://schemas.openxmlformats.org/drawingml/2006/table">
            <a:tbl>
              <a:tblPr/>
              <a:tblGrid>
                <a:gridCol w="1066680"/>
                <a:gridCol w="1295640"/>
                <a:gridCol w="1447560"/>
                <a:gridCol w="1752840"/>
                <a:gridCol w="2666880"/>
              </a:tblGrid>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itialization</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1e4649"/>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H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2</a:t>
                      </a:r>
                      <a:r>
                        <a:rPr b="0" lang="en-US" sz="1800" spc="-1" strike="noStrike">
                          <a:solidFill>
                            <a:srgbClr val="000000"/>
                          </a:solidFill>
                          <a:latin typeface="Arial"/>
                        </a:rPr>
                        <a:t> cycles per day, Atlantic basin stor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km/3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X domai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HWRF IC and GFS BC</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X physic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as a control run for HWRF-HRD EnKF DA ru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HRD EnKF DA</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km/3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X domai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KF DA and GFS BC, GFS Ensembl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RFX physic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ssimilation when aircraft data is availabl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3f9fa"/>
                    </a:solidFill>
                  </a:tcPr>
                </a:tc>
              </a:tr>
            </a:tbl>
          </a:graphicData>
        </a:graphic>
      </p:graphicFrame>
      <p:sp>
        <p:nvSpPr>
          <p:cNvPr id="53" name="Rectangle 4"/>
          <p:cNvSpPr/>
          <p:nvPr/>
        </p:nvSpPr>
        <p:spPr>
          <a:xfrm>
            <a:off x="457200" y="83808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WRF-HRD EnKF DA Experi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e Transitions to HWRFV3.2 and setting up 9/3 configuration for HFIP Demo:</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533376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RFV3.2 R2 tests (with 2010 upgrades and additional capability to ingest GFS spectral files) are completed.  Some issues still remain to be solved with prep-hybrid (see slide 6)</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of advanced nesting algorithm capable of providing multiple telescopic moving domain to EMC (complete). Testing was done within the operational framework at </a:t>
            </a:r>
            <a:r>
              <a:rPr b="1" lang="en-US" sz="2000" spc="-1" strike="noStrike">
                <a:solidFill>
                  <a:srgbClr val="000000"/>
                </a:solidFill>
                <a:latin typeface="Arial"/>
              </a:rPr>
              <a:t>9:3 resolution.</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ly configured the end-to-end 9:3 system with the HWRF initialization, GSI, HWRF physics and coupling to POM.  Initial setup was done on Vapor.  This setup will run in NetCDF format and will use WPS instead of prep-hybrid.</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ing to N-Jet is in progress.  Setting up operational HWRF scripts and automation of HWRFV3.2 runs is currently in progress.  Diapost will be linked to this version to produce additional diagnostic product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92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third-nest development and setting up 27/9/3 configuration for HFIP Demo:</a:t>
            </a:r>
            <a:endParaRPr b="0" lang="en-US" sz="2400" spc="-1" strike="noStrike">
              <a:solidFill>
                <a:srgbClr val="000000"/>
              </a:solidFill>
              <a:latin typeface="Arial"/>
            </a:endParaRPr>
          </a:p>
        </p:txBody>
      </p:sp>
      <p:sp>
        <p:nvSpPr>
          <p:cNvPr id="57" name="PlaceHolder 2"/>
          <p:cNvSpPr>
            <a:spLocks noGrp="1"/>
          </p:cNvSpPr>
          <p:nvPr>
            <p:ph/>
          </p:nvPr>
        </p:nvSpPr>
        <p:spPr>
          <a:xfrm>
            <a:off x="380880" y="1219320"/>
            <a:ext cx="8229600" cy="5333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pal/Xuejin’s update (code and configuration changes since last upd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D has transferred the new code changes to EMC, and will be put in the sub-version at EM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is continuing with development of initialization and coupling for the third nest.  HRD will continue to participate the effort on improving the vortex initializ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to-type HWRFV3.2 27/9/3 configuration was tested with HWRF3 IC/BC to assess the functionality of the triple-nested system (Xuejin’s slid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HWRF3 demo to 27/9/3 when feasi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with prep-hybrid</a:t>
            </a:r>
            <a:endParaRPr b="0" lang="en-US" sz="4400" spc="-1" strike="noStrike">
              <a:solidFill>
                <a:srgbClr val="000000"/>
              </a:solidFill>
              <a:latin typeface="Arial"/>
            </a:endParaRPr>
          </a:p>
        </p:txBody>
      </p:sp>
      <p:pic>
        <p:nvPicPr>
          <p:cNvPr id="59" name="Picture 2" descr=""/>
          <p:cNvPicPr/>
          <p:nvPr/>
        </p:nvPicPr>
        <p:blipFill>
          <a:blip r:embed="rId1"/>
          <a:stretch/>
        </p:blipFill>
        <p:spPr>
          <a:xfrm>
            <a:off x="4038480" y="4267080"/>
            <a:ext cx="5105520" cy="2362320"/>
          </a:xfrm>
          <a:prstGeom prst="rect">
            <a:avLst/>
          </a:prstGeom>
          <a:ln w="0">
            <a:noFill/>
          </a:ln>
        </p:spPr>
      </p:pic>
      <p:pic>
        <p:nvPicPr>
          <p:cNvPr id="60" name="Picture 3" descr=""/>
          <p:cNvPicPr/>
          <p:nvPr/>
        </p:nvPicPr>
        <p:blipFill>
          <a:blip r:embed="rId2"/>
          <a:stretch/>
        </p:blipFill>
        <p:spPr>
          <a:xfrm>
            <a:off x="0" y="762120"/>
            <a:ext cx="3886200" cy="2914560"/>
          </a:xfrm>
          <a:prstGeom prst="rect">
            <a:avLst/>
          </a:prstGeom>
          <a:ln w="0">
            <a:noFill/>
          </a:ln>
        </p:spPr>
      </p:pic>
      <p:pic>
        <p:nvPicPr>
          <p:cNvPr id="61" name="Picture 4" descr=""/>
          <p:cNvPicPr/>
          <p:nvPr/>
        </p:nvPicPr>
        <p:blipFill>
          <a:blip r:embed="rId3"/>
          <a:stretch/>
        </p:blipFill>
        <p:spPr>
          <a:xfrm>
            <a:off x="0" y="3828960"/>
            <a:ext cx="4038480" cy="3029040"/>
          </a:xfrm>
          <a:prstGeom prst="rect">
            <a:avLst/>
          </a:prstGeom>
          <a:ln w="0">
            <a:noFill/>
          </a:ln>
        </p:spPr>
      </p:pic>
      <p:pic>
        <p:nvPicPr>
          <p:cNvPr id="62" name="Picture 5" descr=""/>
          <p:cNvPicPr/>
          <p:nvPr/>
        </p:nvPicPr>
        <p:blipFill>
          <a:blip r:embed="rId4"/>
          <a:stretch/>
        </p:blipFill>
        <p:spPr>
          <a:xfrm>
            <a:off x="4267080" y="609480"/>
            <a:ext cx="4724640" cy="354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6:40:17Z</dcterms:created>
  <dc:creator>gopal</dc:creator>
  <dc:description/>
  <dc:language>en-US</dc:language>
  <cp:lastModifiedBy>xzhang</cp:lastModifiedBy>
  <dcterms:modified xsi:type="dcterms:W3CDTF">2010-07-15T08:56:14Z</dcterms:modified>
  <cp:revision>42</cp:revision>
  <dc:subject/>
  <dc:title>HWRFX-HWRF3.2 Transitions</dc:title>
</cp:coreProperties>
</file>