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79C-DEAA-4687-9A4A-63DC8018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20B-5A33-40BD-B111-CFC2990E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D5D-9024-4A6E-9A65-FBCFB344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5C5-89E0-4C39-B658-DFBB56DE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4B0B-455F-44C6-AFE7-9F79356E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BCFC-05D2-4A29-A6DC-E9E19042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9F79-5176-4347-8356-E0C63D16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1460-D475-4F90-A006-36FAD642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5A5D-61BD-4F63-8856-CC9507B2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A65-8AFB-4FE5-BAB9-DC17EC88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BEEF-5748-46D5-83C3-44F2ADC7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484-855D-436B-8A76-6BE15678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276B-D630-4BF2-86EB-5B5A009D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2D2A-4165-4BF0-B4AA-B0215CAC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20E2-4931-41D0-9CE7-804F376F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377C-3472-4C04-8DC4-A5C04331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E99E-31C4-4512-87FC-33C86154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0D7-5D53-44DA-955D-9C694B14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1A3-D7C5-4E7D-B291-1EED6492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AB3-B702-4C16-B2AB-C0584F4B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632-340F-465E-849E-8F3A926F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028-DA2C-46C6-A5E1-52EC6B13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3BF-407F-4E9C-A4CF-AAF7296E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E7D-37A3-4914-8EF6-6B3A9BBE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F592-2424-4F55-9CA7-E52D30E3E8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B357-79E3-4AE7-A3C3-917165E952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valuating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WRFx Intensity Forecas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Beyond 3 Numbers Us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HIPS equivalent Predict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34286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ago, Gopal, Kaplan, Kevin, Xuejin, Fran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419720"/>
            <a:ext cx="4724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al thank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hn Kaplan, Sim Aberson, and Vijay Talapragada for provid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s to be answer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) Is HWRFx getting the large-scale environment righ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WRFx vs. SHIPS compari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right? What is wro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) How differences impact HWRFx intensity foreca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vortex resilient to she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we pumping up TOO much moistu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core too war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Can we extend analysis to HWRF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efit 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admap to su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 da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CF: Tracks, Vmax, and MSL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IPS logs: with forecasted predictor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IPS diagnostic: Observed GFS analysis (train SHIPS model). The “truth”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WRFx equivalent predi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rive using Diapost fac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ized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visualization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WRFx Portal --&gt; HRD Por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ut which predictors??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erous predictor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with Kaplan’s RI predi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ly focus on 5 typ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ear predictors for multiple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rtex removal in cylindrical coordin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ep, shallow, and mid-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Ts and Potential Inten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H for multiple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per level diverg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ta_e --&gt; vortex s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ATRINA12L 2005-10-27 00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KE09L 2008-09-06 12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2:33:13Z</dcterms:created>
  <dc:creator>Grilo</dc:creator>
  <dc:description/>
  <dc:language>en-US</dc:language>
  <cp:lastModifiedBy>Grilo</cp:lastModifiedBy>
  <dcterms:modified xsi:type="dcterms:W3CDTF">2010-03-18T14:06:19Z</dcterms:modified>
  <cp:revision>7</cp:revision>
  <dc:subject/>
  <dc:title>Evaluating HWRFx Intensity Forecast Beyond 3 Numbers Using SHIPS equivalent Predictors</dc:title>
</cp:coreProperties>
</file>