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798-8CD0-4073-B06C-1001910B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3D6-9A8F-4AE8-9686-2A7A31C4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8FA-1477-4EE6-81E6-29580C6C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DB1-2492-48BD-9592-469D2E46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F66-41E8-4521-9CDD-7A4A2E4D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36D-2605-42D6-9F92-A4316054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90F-BDC8-410F-887C-422282CF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107-2B57-4466-8085-DED5A05C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F89-0304-4B4B-81C3-8E82C8B8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035-DF84-4116-9FAC-12C2D1CE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9AC-3291-471A-AA2E-DB2B9845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7A4-7526-4187-9550-E00EEF7B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4AA6-0CF1-4933-B4E3-8EB2C89C5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29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WRFX Simulated Pressure-Wind Relationships: Sensitivity to Physic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(work in progres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9714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.-W. Bao, S. G. Gopalakrishnan, S. A. Michel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llaboration with: Bob Tule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jay Tallaprag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k Ma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uejin Zha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vin Ye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533520" y="474840"/>
            <a:ext cx="8076960" cy="58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   The surface stress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 key parameter that controls the wind-pressure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  Vertical diffusivities in the ABL control the size of the storm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   Storms of different sizes may share very similar intensity in terms of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  There is a need to include structural parameters in the model evaluation (e.g., RMW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62120" y="304920"/>
          <a:ext cx="5943600" cy="6364080"/>
        </p:xfrm>
        <a:graphic>
          <a:graphicData uri="http://schemas.openxmlformats.org/drawingml/2006/table">
            <a:tbl>
              <a:tblPr/>
              <a:tblGrid>
                <a:gridCol w="914400"/>
                <a:gridCol w="761760"/>
                <a:gridCol w="1219320"/>
                <a:gridCol w="833400"/>
                <a:gridCol w="919080"/>
                <a:gridCol w="129564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I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ndary Layer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ctive parameterization scheme (D1/D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physics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J/BM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J/BM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*DKT and 2*DK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urface st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*DKU and 1*DK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*DKU and 0.5*DK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 spray no feedback to heat fluxes; no dissipative he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ll sea spray; no dissipative he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sp>
        <p:nvSpPr>
          <p:cNvPr id="44" name="TextBox 3"/>
          <p:cNvSpPr/>
          <p:nvPr/>
        </p:nvSpPr>
        <p:spPr>
          <a:xfrm>
            <a:off x="6749280" y="809640"/>
            <a:ext cx="220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di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peri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in colors) si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F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30040" y="279360"/>
            <a:ext cx="86821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230040" y="279360"/>
            <a:ext cx="8682120" cy="630396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6865560" y="457200"/>
            <a:ext cx="187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nsitivity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BL/SBL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2120" cy="6303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6865560" y="457200"/>
            <a:ext cx="180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nsitivity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icro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30040" y="279360"/>
            <a:ext cx="8682120" cy="63039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6864840" y="457200"/>
            <a:ext cx="17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nsitivity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BL Mix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bove S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068880" cy="440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657600" y="4267080"/>
          <a:ext cx="5410080" cy="2533680"/>
        </p:xfrm>
        <a:graphic>
          <a:graphicData uri="http://schemas.openxmlformats.org/drawingml/2006/table">
            <a:tbl>
              <a:tblPr/>
              <a:tblGrid>
                <a:gridCol w="762120"/>
                <a:gridCol w="914400"/>
                <a:gridCol w="990360"/>
                <a:gridCol w="762120"/>
                <a:gridCol w="762120"/>
                <a:gridCol w="1218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I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ndary Layer Sche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ctive parameterization scheme (D1/D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 Sche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physics sche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*DKT and 2*DK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*DKU and 1*DK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*DKU and 0.5*DK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 spray no feedback to heat fluxes; no dissipative hea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3"/>
          <p:cNvSpPr/>
          <p:nvPr/>
        </p:nvSpPr>
        <p:spPr>
          <a:xfrm>
            <a:off x="5880600" y="434880"/>
            <a:ext cx="31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nsitivity of Intens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nd Structure to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-57240"/>
            <a:ext cx="6068880" cy="440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700440" y="4308480"/>
          <a:ext cx="5410080" cy="2533680"/>
        </p:xfrm>
        <a:graphic>
          <a:graphicData uri="http://schemas.openxmlformats.org/drawingml/2006/table">
            <a:tbl>
              <a:tblPr/>
              <a:tblGrid>
                <a:gridCol w="762120"/>
                <a:gridCol w="914400"/>
                <a:gridCol w="990360"/>
                <a:gridCol w="762120"/>
                <a:gridCol w="762120"/>
                <a:gridCol w="12189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I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ndary Layer Sche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ctive parameterization scheme (D1/D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 Sche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physics sche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*DKT and 2*DK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*DKU and 1*DK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*DKU and 0.5*DK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 spray no feedback to heat fluxes; no dissipative hea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3"/>
          <p:cNvSpPr/>
          <p:nvPr/>
        </p:nvSpPr>
        <p:spPr>
          <a:xfrm>
            <a:off x="5880600" y="434880"/>
            <a:ext cx="31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Sensitivity of Intens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d Structure to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gfsrad1_uw0360-72tx.gif"/>
          <p:cNvPicPr/>
          <p:nvPr/>
        </p:nvPicPr>
        <p:blipFill>
          <a:blip r:embed="rId1"/>
          <a:stretch/>
        </p:blipFill>
        <p:spPr>
          <a:xfrm>
            <a:off x="2971800" y="138276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myjrad1_uw0360-72tx.gif"/>
          <p:cNvPicPr/>
          <p:nvPr/>
        </p:nvPicPr>
        <p:blipFill>
          <a:blip r:embed="rId2"/>
          <a:stretch/>
        </p:blipFill>
        <p:spPr>
          <a:xfrm>
            <a:off x="0" y="138276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difgfsrad1_uw0360-72tx.gif"/>
          <p:cNvPicPr/>
          <p:nvPr/>
        </p:nvPicPr>
        <p:blipFill>
          <a:blip r:embed="rId3"/>
          <a:stretch/>
        </p:blipFill>
        <p:spPr>
          <a:xfrm>
            <a:off x="5943600" y="1420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0.5dku1dktgfsrad1_uw0360-72tx.gif"/>
          <p:cNvPicPr/>
          <p:nvPr/>
        </p:nvPicPr>
        <p:blipFill>
          <a:blip r:embed="rId4"/>
          <a:stretch/>
        </p:blipFill>
        <p:spPr>
          <a:xfrm>
            <a:off x="0" y="415296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easpraynohflxnodhgfsrad1_uw0360-72tx.gif"/>
          <p:cNvPicPr/>
          <p:nvPr/>
        </p:nvPicPr>
        <p:blipFill>
          <a:blip r:embed="rId5"/>
          <a:stretch/>
        </p:blipFill>
        <p:spPr>
          <a:xfrm>
            <a:off x="5943600" y="41911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0.5dku0.5dktgfsrad1_uw0360-72tx.gif"/>
          <p:cNvPicPr/>
          <p:nvPr/>
        </p:nvPicPr>
        <p:blipFill>
          <a:blip r:embed="rId6"/>
          <a:stretch/>
        </p:blipFill>
        <p:spPr>
          <a:xfrm>
            <a:off x="2971800" y="422928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1224000" y="36687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4195800" y="36687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7160040" y="36687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.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25080" y="6477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.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4196880" y="6477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.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7168680" y="6477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.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0" y="43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nsitivity of Intensity and Structure to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0:35:26Z</dcterms:created>
  <dc:creator>J.-W. Bao</dc:creator>
  <dc:description/>
  <dc:language>en-US</dc:language>
  <cp:lastModifiedBy>J.-W. Bao</cp:lastModifiedBy>
  <dcterms:modified xsi:type="dcterms:W3CDTF">2010-03-17T21:15:07Z</dcterms:modified>
  <cp:revision>43</cp:revision>
  <dc:subject/>
  <dc:title>Slide 1</dc:title>
</cp:coreProperties>
</file>