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45AE-E9FE-41F1-9B5D-96AB25C38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47D9-13FF-48A7-B120-ECFB139B6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E380-A896-457B-AE31-B922AB254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8C8C-E6E0-4F69-8618-0051A1F8D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9A48-899D-48C3-9722-867D3457D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6153-5264-4F57-939A-A2D60032D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DBB3-4652-4BE0-8897-B24CAC025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56B8-E422-4DA9-9D8F-64D1AC416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19AE-A6C3-4E9B-99D0-A6D1D1E35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8CA7-85DA-4A48-AE38-C2592FD06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7D75-2307-4D8F-ADE8-73543E4FD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086A-5697-46E0-93E8-38CDB75BC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0250F-DB12-4217-8C02-A9B8286B4C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pdate 3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alibri"/>
              </a:rPr>
              <a:t>rd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nest develop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3"/>
          <p:cNvSpPr/>
          <p:nvPr/>
        </p:nvSpPr>
        <p:spPr>
          <a:xfrm>
            <a:off x="7848720" y="647712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X. Zha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Chart 3" descr=""/>
          <p:cNvPicPr/>
          <p:nvPr/>
        </p:nvPicPr>
        <p:blipFill>
          <a:blip r:embed="rId1"/>
          <a:stretch/>
        </p:blipFill>
        <p:spPr>
          <a:xfrm>
            <a:off x="73080" y="49320"/>
            <a:ext cx="8924760" cy="66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3" descr="IKE09L_2008-09-06-12Z_3rd-Nest_Feb-26-2010_Compact.gif"/>
          <p:cNvPicPr/>
          <p:nvPr/>
        </p:nvPicPr>
        <p:blipFill>
          <a:blip r:embed="rId1"/>
          <a:stretch/>
        </p:blipFill>
        <p:spPr>
          <a:xfrm>
            <a:off x="152280" y="304920"/>
            <a:ext cx="8880480" cy="61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st Ste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nfigure 1-km demo syste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llow file size more than 2Gb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odify current automatic scrip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odify current utility progr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est larger time step (18s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est 2-way interaction in real cas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mprove the moving algorith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nsitive enough to identify the mean storm cen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lter small movemen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llow the storm center off the nest domain cen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7T20:21:49Z</dcterms:created>
  <dc:creator>xzhang</dc:creator>
  <dc:description/>
  <dc:language>en-US</dc:language>
  <cp:lastModifiedBy>xzhang</cp:lastModifiedBy>
  <dcterms:modified xsi:type="dcterms:W3CDTF">2010-03-18T06:13:12Z</dcterms:modified>
  <cp:revision>9</cp:revision>
  <dc:subject/>
  <dc:title>Slide 1</dc:title>
</cp:coreProperties>
</file>