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9C65-AE8F-460D-ADBA-F1D61170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A7AC-D47C-4B38-A6F7-9386DF9C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7F08-F143-4E16-9032-732CE679E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C9C5-82A7-4E80-AB88-C3256F224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2F9F-1014-4BA8-AADC-7F343F6F3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BA59-20CA-4945-9E3A-D310602C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1C88-6023-4513-837B-25E4247B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B504-5E20-4EEE-A9B8-221F3564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920B-3E1D-4068-B534-FF3B70AF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B44F-761E-44AD-9345-143374CC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FDF0-DB5C-435A-89DB-142D3309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5259-D298-4D68-8AEF-7FA6F7EB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BF3D-79B4-4D94-8EE6-53D87929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C124-586C-47DE-B980-C9FAB1C0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65A7-F42C-4CE5-A237-0431F51B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E895-FD50-4E68-8BC1-A90560E4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FF04-52F0-4CE5-8AB6-1D1E2A892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89C3-FCEF-4479-A70F-ADF776B7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F7F0-60A2-4396-A7EA-093C6B98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B217-998F-4792-823A-1EEDE228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46E3-ED86-4514-A9FA-8A35C77B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2D5A-AC43-476C-8B3B-D272D763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9EFC-ECEC-44B7-AF89-C64132A4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BE83-613A-451E-8114-AB954F8B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62DF-723E-4D1D-BB74-F0AED0B734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4715-EEFD-4F48-8DDC-0147A7A975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Robert.tuleya@noaa.gov" TargetMode="External"/><Relationship Id="rId3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HWRF Phys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obert  Tuley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IC/EMC/NCEP and CCPO/O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99"/>
                </a:solidFill>
                <a:latin typeface="Arial"/>
              </a:rPr>
              <a:t>Based on HWRF tutor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8600" y="5835600"/>
            <a:ext cx="1600200" cy="1022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57200" y="4495680"/>
            <a:ext cx="81532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4495680"/>
            <a:ext cx="809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Many thanks for the contributions of  H. Pan, B. Ferrier,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L. Bernarde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N. Surgi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J.Dudhia, I. Ginis, and M. B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hanks also to the HWRF team: V. Tallapragada, Y. Kwon, Q. Liu, Zhan Zhang, Yihua Wu ,J. O’Connor and B. Lapent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33560" y="6272280"/>
            <a:ext cx="2706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Robert.tuleya@noaa.g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228240" y="0"/>
            <a:ext cx="8458200" cy="68580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2209680" y="0"/>
            <a:ext cx="576288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04920" y="1676520"/>
            <a:ext cx="15238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uriou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47920" y="1905120"/>
            <a:ext cx="1828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447920" y="1905120"/>
            <a:ext cx="3352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523880" y="1905120"/>
            <a:ext cx="1752840" cy="403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568680" y="171288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mentum mix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429000" y="34290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mentum mix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949560" y="3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537960" y="3389400"/>
            <a:ext cx="16560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 inten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7086240" y="25909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7009920" y="3657600"/>
            <a:ext cx="22860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645360" y="506556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 and Pan 200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rface Flux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FDL hurricane model metho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tains single most important term…..latent heat flux.. Hurricane intensity quite sensitive to sc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f_sfclay_physics=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xes are input to PB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hange coefficients for heat and mois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-surface fluxes of heat and mois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ictional stre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-surface fluxes of heat and mois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fc exchange coefficients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oon et al. (2007)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96080" cy="51786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6693120" y="6589800"/>
            <a:ext cx="2577960" cy="368280"/>
          </a:xfrm>
          <a:prstGeom prst="rect">
            <a:avLst/>
          </a:prstGeom>
          <a:solidFill>
            <a:srgbClr val="af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Bender et al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898880" y="2506680"/>
            <a:ext cx="511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014520" y="3465360"/>
            <a:ext cx="455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133720" y="2286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34120" y="2666880"/>
            <a:ext cx="3808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324480" y="38862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0800000">
            <a:off x="837720" y="2514240"/>
            <a:ext cx="45468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fc  exchange coeffic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and model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FDL hurricane model slab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1511280" y="6284880"/>
            <a:ext cx="25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f_surface_physics=8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210040" y="5522760"/>
            <a:ext cx="456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*/∂t = (-σ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Shfx - Levp + (S+F ))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etary boundary layer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FS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es surface fluxes as inpu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_pbl_physics=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F PBL scheme (Hong and Pan 199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local-K mixing in dry conv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undary layer from surface fl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th of PBL determined from critical 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tical diffusion depends on 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f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Non-local term depends on sfc conditio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96080" cy="52308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1676520" y="6324480"/>
            <a:ext cx="57909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/∂t =∂/∂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Kc (∂C/∂z 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]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034800" y="308448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3123720" y="34290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511640" y="285588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981080" y="32004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207120" y="6491160"/>
            <a:ext cx="2933280" cy="368280"/>
          </a:xfrm>
          <a:prstGeom prst="rect">
            <a:avLst/>
          </a:prstGeom>
          <a:solidFill>
            <a:srgbClr val="af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Hong and Pan, 199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765520" y="2354400"/>
            <a:ext cx="14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hal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324480" y="2362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724280" y="6248520"/>
            <a:ext cx="60984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724280" y="617220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581280" y="3429000"/>
            <a:ext cx="1295640" cy="2819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245560" y="308448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470560" y="6251400"/>
            <a:ext cx="3808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791320" y="34290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5638680" y="3429000"/>
            <a:ext cx="152640" cy="2743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S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6248520"/>
            <a:ext cx="4419720" cy="0"/>
          </a:xfrm>
          <a:prstGeom prst="line">
            <a:avLst/>
          </a:prstGeom>
          <a:ln w="7632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711520" y="528480"/>
            <a:ext cx="3913200" cy="4637160"/>
          </a:xfrm>
          <a:custGeom>
            <a:avLst/>
            <a:gdLst/>
            <a:ahLst/>
            <a:rect l="l" t="t" r="r" b="b"/>
            <a:pathLst>
              <a:path w="2465" h="2921">
                <a:moveTo>
                  <a:pt x="586" y="2830"/>
                </a:moveTo>
                <a:cubicBezTo>
                  <a:pt x="567" y="2811"/>
                  <a:pt x="542" y="2799"/>
                  <a:pt x="525" y="2779"/>
                </a:cubicBezTo>
                <a:cubicBezTo>
                  <a:pt x="512" y="2764"/>
                  <a:pt x="506" y="2745"/>
                  <a:pt x="495" y="2729"/>
                </a:cubicBezTo>
                <a:cubicBezTo>
                  <a:pt x="483" y="2711"/>
                  <a:pt x="470" y="2694"/>
                  <a:pt x="455" y="2678"/>
                </a:cubicBezTo>
                <a:cubicBezTo>
                  <a:pt x="436" y="2657"/>
                  <a:pt x="414" y="2638"/>
                  <a:pt x="394" y="2618"/>
                </a:cubicBezTo>
                <a:cubicBezTo>
                  <a:pt x="380" y="2604"/>
                  <a:pt x="353" y="2577"/>
                  <a:pt x="353" y="2577"/>
                </a:cubicBezTo>
                <a:cubicBezTo>
                  <a:pt x="284" y="2370"/>
                  <a:pt x="237" y="2107"/>
                  <a:pt x="364" y="1920"/>
                </a:cubicBezTo>
                <a:cubicBezTo>
                  <a:pt x="386" y="1853"/>
                  <a:pt x="355" y="1865"/>
                  <a:pt x="303" y="1850"/>
                </a:cubicBezTo>
                <a:cubicBezTo>
                  <a:pt x="274" y="1841"/>
                  <a:pt x="239" y="1825"/>
                  <a:pt x="212" y="1809"/>
                </a:cubicBezTo>
                <a:cubicBezTo>
                  <a:pt x="173" y="1786"/>
                  <a:pt x="168" y="1776"/>
                  <a:pt x="131" y="1739"/>
                </a:cubicBezTo>
                <a:cubicBezTo>
                  <a:pt x="124" y="1732"/>
                  <a:pt x="111" y="1718"/>
                  <a:pt x="111" y="1718"/>
                </a:cubicBezTo>
                <a:cubicBezTo>
                  <a:pt x="99" y="1681"/>
                  <a:pt x="73" y="1664"/>
                  <a:pt x="60" y="1627"/>
                </a:cubicBezTo>
                <a:cubicBezTo>
                  <a:pt x="64" y="1604"/>
                  <a:pt x="64" y="1580"/>
                  <a:pt x="71" y="1557"/>
                </a:cubicBezTo>
                <a:cubicBezTo>
                  <a:pt x="79" y="1531"/>
                  <a:pt x="105" y="1515"/>
                  <a:pt x="121" y="1496"/>
                </a:cubicBezTo>
                <a:cubicBezTo>
                  <a:pt x="187" y="1417"/>
                  <a:pt x="231" y="1436"/>
                  <a:pt x="323" y="1405"/>
                </a:cubicBezTo>
                <a:cubicBezTo>
                  <a:pt x="354" y="1359"/>
                  <a:pt x="342" y="1358"/>
                  <a:pt x="313" y="1314"/>
                </a:cubicBezTo>
                <a:cubicBezTo>
                  <a:pt x="302" y="1269"/>
                  <a:pt x="277" y="1222"/>
                  <a:pt x="252" y="1183"/>
                </a:cubicBezTo>
                <a:cubicBezTo>
                  <a:pt x="234" y="1155"/>
                  <a:pt x="204" y="1133"/>
                  <a:pt x="192" y="1102"/>
                </a:cubicBezTo>
                <a:cubicBezTo>
                  <a:pt x="156" y="1011"/>
                  <a:pt x="150" y="909"/>
                  <a:pt x="111" y="819"/>
                </a:cubicBezTo>
                <a:cubicBezTo>
                  <a:pt x="87" y="763"/>
                  <a:pt x="54" y="699"/>
                  <a:pt x="20" y="647"/>
                </a:cubicBezTo>
                <a:cubicBezTo>
                  <a:pt x="21" y="629"/>
                  <a:pt x="0" y="488"/>
                  <a:pt x="50" y="445"/>
                </a:cubicBezTo>
                <a:cubicBezTo>
                  <a:pt x="86" y="414"/>
                  <a:pt x="152" y="384"/>
                  <a:pt x="192" y="364"/>
                </a:cubicBezTo>
                <a:cubicBezTo>
                  <a:pt x="205" y="357"/>
                  <a:pt x="219" y="351"/>
                  <a:pt x="232" y="344"/>
                </a:cubicBezTo>
                <a:cubicBezTo>
                  <a:pt x="246" y="337"/>
                  <a:pt x="273" y="324"/>
                  <a:pt x="273" y="324"/>
                </a:cubicBezTo>
                <a:cubicBezTo>
                  <a:pt x="304" y="277"/>
                  <a:pt x="282" y="297"/>
                  <a:pt x="353" y="273"/>
                </a:cubicBezTo>
                <a:cubicBezTo>
                  <a:pt x="363" y="269"/>
                  <a:pt x="384" y="263"/>
                  <a:pt x="384" y="263"/>
                </a:cubicBezTo>
                <a:cubicBezTo>
                  <a:pt x="344" y="250"/>
                  <a:pt x="327" y="238"/>
                  <a:pt x="303" y="203"/>
                </a:cubicBezTo>
                <a:cubicBezTo>
                  <a:pt x="333" y="110"/>
                  <a:pt x="412" y="82"/>
                  <a:pt x="495" y="51"/>
                </a:cubicBezTo>
                <a:cubicBezTo>
                  <a:pt x="509" y="46"/>
                  <a:pt x="521" y="36"/>
                  <a:pt x="535" y="31"/>
                </a:cubicBezTo>
                <a:cubicBezTo>
                  <a:pt x="555" y="23"/>
                  <a:pt x="576" y="18"/>
                  <a:pt x="596" y="11"/>
                </a:cubicBezTo>
                <a:cubicBezTo>
                  <a:pt x="606" y="8"/>
                  <a:pt x="626" y="0"/>
                  <a:pt x="626" y="0"/>
                </a:cubicBezTo>
                <a:cubicBezTo>
                  <a:pt x="709" y="7"/>
                  <a:pt x="754" y="16"/>
                  <a:pt x="828" y="31"/>
                </a:cubicBezTo>
                <a:cubicBezTo>
                  <a:pt x="858" y="117"/>
                  <a:pt x="879" y="118"/>
                  <a:pt x="929" y="192"/>
                </a:cubicBezTo>
                <a:cubicBezTo>
                  <a:pt x="1025" y="161"/>
                  <a:pt x="880" y="210"/>
                  <a:pt x="1000" y="162"/>
                </a:cubicBezTo>
                <a:cubicBezTo>
                  <a:pt x="1068" y="135"/>
                  <a:pt x="1142" y="120"/>
                  <a:pt x="1212" y="102"/>
                </a:cubicBezTo>
                <a:cubicBezTo>
                  <a:pt x="1337" y="105"/>
                  <a:pt x="1553" y="59"/>
                  <a:pt x="1677" y="152"/>
                </a:cubicBezTo>
                <a:cubicBezTo>
                  <a:pt x="1734" y="266"/>
                  <a:pt x="1653" y="86"/>
                  <a:pt x="1687" y="273"/>
                </a:cubicBezTo>
                <a:cubicBezTo>
                  <a:pt x="1689" y="283"/>
                  <a:pt x="1699" y="257"/>
                  <a:pt x="1708" y="253"/>
                </a:cubicBezTo>
                <a:cubicBezTo>
                  <a:pt x="1720" y="247"/>
                  <a:pt x="1735" y="247"/>
                  <a:pt x="1748" y="243"/>
                </a:cubicBezTo>
                <a:cubicBezTo>
                  <a:pt x="1769" y="237"/>
                  <a:pt x="1809" y="223"/>
                  <a:pt x="1809" y="223"/>
                </a:cubicBezTo>
                <a:cubicBezTo>
                  <a:pt x="1835" y="225"/>
                  <a:pt x="1930" y="230"/>
                  <a:pt x="1970" y="243"/>
                </a:cubicBezTo>
                <a:cubicBezTo>
                  <a:pt x="2032" y="264"/>
                  <a:pt x="2077" y="300"/>
                  <a:pt x="2132" y="334"/>
                </a:cubicBezTo>
                <a:cubicBezTo>
                  <a:pt x="2185" y="367"/>
                  <a:pt x="2244" y="382"/>
                  <a:pt x="2304" y="395"/>
                </a:cubicBezTo>
                <a:cubicBezTo>
                  <a:pt x="2357" y="427"/>
                  <a:pt x="2412" y="453"/>
                  <a:pt x="2465" y="486"/>
                </a:cubicBezTo>
                <a:cubicBezTo>
                  <a:pt x="2462" y="509"/>
                  <a:pt x="2464" y="534"/>
                  <a:pt x="2455" y="556"/>
                </a:cubicBezTo>
                <a:cubicBezTo>
                  <a:pt x="2427" y="627"/>
                  <a:pt x="2275" y="640"/>
                  <a:pt x="2213" y="647"/>
                </a:cubicBezTo>
                <a:cubicBezTo>
                  <a:pt x="2130" y="675"/>
                  <a:pt x="2231" y="636"/>
                  <a:pt x="2162" y="678"/>
                </a:cubicBezTo>
                <a:cubicBezTo>
                  <a:pt x="2117" y="705"/>
                  <a:pt x="2069" y="716"/>
                  <a:pt x="2031" y="758"/>
                </a:cubicBezTo>
                <a:cubicBezTo>
                  <a:pt x="2011" y="780"/>
                  <a:pt x="1980" y="829"/>
                  <a:pt x="1980" y="829"/>
                </a:cubicBezTo>
                <a:cubicBezTo>
                  <a:pt x="1970" y="1130"/>
                  <a:pt x="2019" y="1106"/>
                  <a:pt x="1869" y="1264"/>
                </a:cubicBezTo>
                <a:cubicBezTo>
                  <a:pt x="1866" y="1274"/>
                  <a:pt x="1864" y="1285"/>
                  <a:pt x="1859" y="1294"/>
                </a:cubicBezTo>
                <a:cubicBezTo>
                  <a:pt x="1854" y="1305"/>
                  <a:pt x="1837" y="1312"/>
                  <a:pt x="1839" y="1324"/>
                </a:cubicBezTo>
                <a:cubicBezTo>
                  <a:pt x="1841" y="1336"/>
                  <a:pt x="1858" y="1340"/>
                  <a:pt x="1869" y="1344"/>
                </a:cubicBezTo>
                <a:cubicBezTo>
                  <a:pt x="1927" y="1364"/>
                  <a:pt x="1991" y="1372"/>
                  <a:pt x="2051" y="1385"/>
                </a:cubicBezTo>
                <a:cubicBezTo>
                  <a:pt x="2075" y="1390"/>
                  <a:pt x="2098" y="1398"/>
                  <a:pt x="2122" y="1405"/>
                </a:cubicBezTo>
                <a:cubicBezTo>
                  <a:pt x="2143" y="1411"/>
                  <a:pt x="2183" y="1425"/>
                  <a:pt x="2183" y="1425"/>
                </a:cubicBezTo>
                <a:cubicBezTo>
                  <a:pt x="2166" y="1472"/>
                  <a:pt x="2117" y="1500"/>
                  <a:pt x="2081" y="1536"/>
                </a:cubicBezTo>
                <a:cubicBezTo>
                  <a:pt x="2074" y="1543"/>
                  <a:pt x="2061" y="1557"/>
                  <a:pt x="2061" y="1557"/>
                </a:cubicBezTo>
                <a:cubicBezTo>
                  <a:pt x="2073" y="1650"/>
                  <a:pt x="2071" y="1647"/>
                  <a:pt x="2132" y="1708"/>
                </a:cubicBezTo>
                <a:cubicBezTo>
                  <a:pt x="2156" y="1783"/>
                  <a:pt x="2118" y="1803"/>
                  <a:pt x="2071" y="1850"/>
                </a:cubicBezTo>
                <a:cubicBezTo>
                  <a:pt x="2061" y="1860"/>
                  <a:pt x="2041" y="1880"/>
                  <a:pt x="2041" y="1880"/>
                </a:cubicBezTo>
                <a:cubicBezTo>
                  <a:pt x="2044" y="1911"/>
                  <a:pt x="2043" y="1974"/>
                  <a:pt x="2061" y="2011"/>
                </a:cubicBezTo>
                <a:cubicBezTo>
                  <a:pt x="2089" y="2069"/>
                  <a:pt x="2075" y="2015"/>
                  <a:pt x="2112" y="2082"/>
                </a:cubicBezTo>
                <a:cubicBezTo>
                  <a:pt x="2121" y="2098"/>
                  <a:pt x="2135" y="2142"/>
                  <a:pt x="2142" y="2163"/>
                </a:cubicBezTo>
                <a:cubicBezTo>
                  <a:pt x="2145" y="2193"/>
                  <a:pt x="2142" y="2225"/>
                  <a:pt x="2152" y="2254"/>
                </a:cubicBezTo>
                <a:cubicBezTo>
                  <a:pt x="2160" y="2277"/>
                  <a:pt x="2193" y="2315"/>
                  <a:pt x="2193" y="2315"/>
                </a:cubicBezTo>
                <a:cubicBezTo>
                  <a:pt x="2208" y="2360"/>
                  <a:pt x="2196" y="2403"/>
                  <a:pt x="2162" y="2436"/>
                </a:cubicBezTo>
                <a:cubicBezTo>
                  <a:pt x="2132" y="2555"/>
                  <a:pt x="2112" y="2695"/>
                  <a:pt x="2183" y="2800"/>
                </a:cubicBezTo>
                <a:cubicBezTo>
                  <a:pt x="2186" y="2810"/>
                  <a:pt x="2194" y="2820"/>
                  <a:pt x="2193" y="2830"/>
                </a:cubicBezTo>
                <a:cubicBezTo>
                  <a:pt x="2183" y="2911"/>
                  <a:pt x="2166" y="2885"/>
                  <a:pt x="2112" y="2921"/>
                </a:cubicBezTo>
                <a:cubicBezTo>
                  <a:pt x="1994" y="2904"/>
                  <a:pt x="1876" y="2885"/>
                  <a:pt x="1758" y="2870"/>
                </a:cubicBezTo>
                <a:cubicBezTo>
                  <a:pt x="1261" y="2905"/>
                  <a:pt x="968" y="2886"/>
                  <a:pt x="343" y="2880"/>
                </a:cubicBezTo>
                <a:cubicBezTo>
                  <a:pt x="500" y="2866"/>
                  <a:pt x="419" y="2881"/>
                  <a:pt x="586" y="2830"/>
                </a:cubicBezTo>
                <a:close/>
              </a:path>
            </a:pathLst>
          </a:custGeom>
          <a:solidFill>
            <a:srgbClr val="afe1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-76320" y="4432320"/>
            <a:ext cx="2870280" cy="749160"/>
          </a:xfrm>
          <a:custGeom>
            <a:avLst/>
            <a:gdLst/>
            <a:ahLst/>
            <a:rect l="l" t="t" r="r" b="b"/>
            <a:pathLst>
              <a:path w="1808" h="472">
                <a:moveTo>
                  <a:pt x="240" y="328"/>
                </a:moveTo>
                <a:cubicBezTo>
                  <a:pt x="248" y="288"/>
                  <a:pt x="152" y="80"/>
                  <a:pt x="384" y="40"/>
                </a:cubicBezTo>
                <a:cubicBezTo>
                  <a:pt x="616" y="0"/>
                  <a:pt x="1456" y="24"/>
                  <a:pt x="1632" y="88"/>
                </a:cubicBezTo>
                <a:cubicBezTo>
                  <a:pt x="1808" y="152"/>
                  <a:pt x="1680" y="376"/>
                  <a:pt x="1440" y="424"/>
                </a:cubicBezTo>
                <a:cubicBezTo>
                  <a:pt x="1200" y="472"/>
                  <a:pt x="384" y="384"/>
                  <a:pt x="192" y="376"/>
                </a:cubicBezTo>
                <a:cubicBezTo>
                  <a:pt x="0" y="368"/>
                  <a:pt x="256" y="376"/>
                  <a:pt x="288" y="376"/>
                </a:cubicBezTo>
                <a:cubicBezTo>
                  <a:pt x="320" y="376"/>
                  <a:pt x="384" y="376"/>
                  <a:pt x="384" y="376"/>
                </a:cubicBezTo>
                <a:cubicBezTo>
                  <a:pt x="384" y="376"/>
                  <a:pt x="296" y="392"/>
                  <a:pt x="288" y="376"/>
                </a:cubicBezTo>
                <a:cubicBezTo>
                  <a:pt x="280" y="360"/>
                  <a:pt x="344" y="288"/>
                  <a:pt x="336" y="280"/>
                </a:cubicBezTo>
                <a:cubicBezTo>
                  <a:pt x="328" y="272"/>
                  <a:pt x="232" y="368"/>
                  <a:pt x="240" y="328"/>
                </a:cubicBezTo>
                <a:close/>
              </a:path>
            </a:pathLst>
          </a:custGeom>
          <a:solidFill>
            <a:srgbClr val="afe1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7315200" y="5334120"/>
            <a:ext cx="0" cy="91440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6477120" y="5791320"/>
            <a:ext cx="0" cy="38088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124840" y="5405400"/>
            <a:ext cx="633240" cy="787320"/>
          </a:xfrm>
          <a:custGeom>
            <a:avLst/>
            <a:gdLst/>
            <a:ahLst/>
            <a:rect l="l" t="t" r="r" b="b"/>
            <a:pathLst>
              <a:path w="399" h="496">
                <a:moveTo>
                  <a:pt x="5" y="496"/>
                </a:moveTo>
                <a:cubicBezTo>
                  <a:pt x="62" y="457"/>
                  <a:pt x="45" y="416"/>
                  <a:pt x="66" y="354"/>
                </a:cubicBezTo>
                <a:cubicBezTo>
                  <a:pt x="59" y="344"/>
                  <a:pt x="55" y="332"/>
                  <a:pt x="46" y="324"/>
                </a:cubicBezTo>
                <a:cubicBezTo>
                  <a:pt x="34" y="312"/>
                  <a:pt x="13" y="309"/>
                  <a:pt x="5" y="294"/>
                </a:cubicBezTo>
                <a:cubicBezTo>
                  <a:pt x="0" y="284"/>
                  <a:pt x="4" y="266"/>
                  <a:pt x="15" y="263"/>
                </a:cubicBezTo>
                <a:cubicBezTo>
                  <a:pt x="77" y="247"/>
                  <a:pt x="207" y="243"/>
                  <a:pt x="207" y="243"/>
                </a:cubicBezTo>
                <a:cubicBezTo>
                  <a:pt x="221" y="223"/>
                  <a:pt x="240" y="205"/>
                  <a:pt x="248" y="182"/>
                </a:cubicBezTo>
                <a:cubicBezTo>
                  <a:pt x="251" y="172"/>
                  <a:pt x="251" y="159"/>
                  <a:pt x="258" y="152"/>
                </a:cubicBezTo>
                <a:cubicBezTo>
                  <a:pt x="289" y="121"/>
                  <a:pt x="359" y="115"/>
                  <a:pt x="399" y="102"/>
                </a:cubicBezTo>
                <a:cubicBezTo>
                  <a:pt x="318" y="74"/>
                  <a:pt x="329" y="91"/>
                  <a:pt x="329" y="0"/>
                </a:cubicBezTo>
              </a:path>
            </a:pathLst>
          </a:custGeom>
          <a:noFill/>
          <a:ln w="38160">
            <a:solidFill>
              <a:srgbClr val="ffcc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257800" y="457200"/>
            <a:ext cx="272880" cy="271440"/>
          </a:xfrm>
          <a:custGeom>
            <a:avLst/>
            <a:gdLst/>
            <a:ahLst/>
            <a:rect l="l" t="t" r="r" b="b"/>
            <a:pathLst>
              <a:path w="172" h="171">
                <a:moveTo>
                  <a:pt x="0" y="171"/>
                </a:moveTo>
                <a:cubicBezTo>
                  <a:pt x="19" y="143"/>
                  <a:pt x="24" y="102"/>
                  <a:pt x="60" y="91"/>
                </a:cubicBezTo>
                <a:cubicBezTo>
                  <a:pt x="83" y="84"/>
                  <a:pt x="107" y="84"/>
                  <a:pt x="131" y="80"/>
                </a:cubicBezTo>
                <a:cubicBezTo>
                  <a:pt x="138" y="60"/>
                  <a:pt x="144" y="40"/>
                  <a:pt x="151" y="20"/>
                </a:cubicBezTo>
                <a:cubicBezTo>
                  <a:pt x="154" y="11"/>
                  <a:pt x="172" y="0"/>
                  <a:pt x="172" y="0"/>
                </a:cubicBezTo>
              </a:path>
            </a:pathLst>
          </a:custGeom>
          <a:noFill/>
          <a:ln w="2844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331040" y="754200"/>
            <a:ext cx="790560" cy="1476360"/>
          </a:xfrm>
          <a:custGeom>
            <a:avLst/>
            <a:gdLst/>
            <a:ahLst/>
            <a:rect l="l" t="t" r="r" b="b"/>
            <a:pathLst>
              <a:path w="498" h="930">
                <a:moveTo>
                  <a:pt x="495" y="0"/>
                </a:moveTo>
                <a:cubicBezTo>
                  <a:pt x="492" y="91"/>
                  <a:pt x="498" y="183"/>
                  <a:pt x="485" y="273"/>
                </a:cubicBezTo>
                <a:cubicBezTo>
                  <a:pt x="484" y="283"/>
                  <a:pt x="464" y="278"/>
                  <a:pt x="455" y="283"/>
                </a:cubicBezTo>
                <a:cubicBezTo>
                  <a:pt x="404" y="311"/>
                  <a:pt x="384" y="328"/>
                  <a:pt x="354" y="374"/>
                </a:cubicBezTo>
                <a:cubicBezTo>
                  <a:pt x="351" y="391"/>
                  <a:pt x="351" y="409"/>
                  <a:pt x="344" y="424"/>
                </a:cubicBezTo>
                <a:cubicBezTo>
                  <a:pt x="307" y="505"/>
                  <a:pt x="277" y="481"/>
                  <a:pt x="222" y="536"/>
                </a:cubicBezTo>
                <a:cubicBezTo>
                  <a:pt x="219" y="570"/>
                  <a:pt x="222" y="605"/>
                  <a:pt x="212" y="637"/>
                </a:cubicBezTo>
                <a:cubicBezTo>
                  <a:pt x="205" y="660"/>
                  <a:pt x="185" y="677"/>
                  <a:pt x="172" y="697"/>
                </a:cubicBezTo>
                <a:cubicBezTo>
                  <a:pt x="139" y="746"/>
                  <a:pt x="120" y="807"/>
                  <a:pt x="61" y="829"/>
                </a:cubicBezTo>
                <a:cubicBezTo>
                  <a:pt x="39" y="862"/>
                  <a:pt x="29" y="901"/>
                  <a:pt x="0" y="930"/>
                </a:cubicBezTo>
              </a:path>
            </a:pathLst>
          </a:custGeom>
          <a:noFill/>
          <a:ln w="381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652760" y="4203720"/>
            <a:ext cx="272880" cy="271440"/>
          </a:xfrm>
          <a:custGeom>
            <a:avLst/>
            <a:gdLst/>
            <a:ahLst/>
            <a:rect l="l" t="t" r="r" b="b"/>
            <a:pathLst>
              <a:path w="172" h="171">
                <a:moveTo>
                  <a:pt x="0" y="171"/>
                </a:moveTo>
                <a:cubicBezTo>
                  <a:pt x="19" y="143"/>
                  <a:pt x="24" y="102"/>
                  <a:pt x="60" y="91"/>
                </a:cubicBezTo>
                <a:cubicBezTo>
                  <a:pt x="83" y="84"/>
                  <a:pt x="107" y="84"/>
                  <a:pt x="131" y="80"/>
                </a:cubicBezTo>
                <a:cubicBezTo>
                  <a:pt x="138" y="60"/>
                  <a:pt x="144" y="40"/>
                  <a:pt x="151" y="20"/>
                </a:cubicBezTo>
                <a:cubicBezTo>
                  <a:pt x="154" y="11"/>
                  <a:pt x="172" y="0"/>
                  <a:pt x="172" y="0"/>
                </a:cubicBezTo>
              </a:path>
            </a:pathLst>
          </a:custGeom>
          <a:noFill/>
          <a:ln w="2844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133720" y="5638680"/>
            <a:ext cx="152280" cy="500040"/>
          </a:xfrm>
          <a:custGeom>
            <a:avLst/>
            <a:gdLst/>
            <a:ahLst/>
            <a:rect l="l" t="t" r="r" b="b"/>
            <a:pathLst>
              <a:path w="172" h="171">
                <a:moveTo>
                  <a:pt x="0" y="171"/>
                </a:moveTo>
                <a:cubicBezTo>
                  <a:pt x="19" y="143"/>
                  <a:pt x="24" y="102"/>
                  <a:pt x="60" y="91"/>
                </a:cubicBezTo>
                <a:cubicBezTo>
                  <a:pt x="83" y="84"/>
                  <a:pt x="107" y="84"/>
                  <a:pt x="131" y="80"/>
                </a:cubicBezTo>
                <a:cubicBezTo>
                  <a:pt x="138" y="60"/>
                  <a:pt x="144" y="40"/>
                  <a:pt x="151" y="20"/>
                </a:cubicBezTo>
                <a:cubicBezTo>
                  <a:pt x="154" y="11"/>
                  <a:pt x="172" y="0"/>
                  <a:pt x="172" y="0"/>
                </a:cubicBezTo>
              </a:path>
            </a:pathLst>
          </a:custGeom>
          <a:noFill/>
          <a:ln w="5724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90480" y="5084640"/>
            <a:ext cx="416160" cy="338400"/>
          </a:xfrm>
          <a:custGeom>
            <a:avLst/>
            <a:gdLst/>
            <a:ahLst/>
            <a:rect l="l" t="t" r="r" b="b"/>
            <a:pathLst>
              <a:path w="262" h="213">
                <a:moveTo>
                  <a:pt x="0" y="213"/>
                </a:moveTo>
                <a:cubicBezTo>
                  <a:pt x="35" y="176"/>
                  <a:pt x="50" y="149"/>
                  <a:pt x="101" y="132"/>
                </a:cubicBezTo>
                <a:cubicBezTo>
                  <a:pt x="108" y="122"/>
                  <a:pt x="112" y="110"/>
                  <a:pt x="121" y="101"/>
                </a:cubicBezTo>
                <a:cubicBezTo>
                  <a:pt x="129" y="92"/>
                  <a:pt x="143" y="90"/>
                  <a:pt x="151" y="81"/>
                </a:cubicBezTo>
                <a:cubicBezTo>
                  <a:pt x="158" y="73"/>
                  <a:pt x="155" y="59"/>
                  <a:pt x="161" y="51"/>
                </a:cubicBezTo>
                <a:cubicBezTo>
                  <a:pt x="175" y="32"/>
                  <a:pt x="212" y="0"/>
                  <a:pt x="212" y="0"/>
                </a:cubicBezTo>
                <a:cubicBezTo>
                  <a:pt x="230" y="57"/>
                  <a:pt x="235" y="118"/>
                  <a:pt x="262" y="172"/>
                </a:cubicBez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848720" y="3048120"/>
            <a:ext cx="272880" cy="271440"/>
          </a:xfrm>
          <a:custGeom>
            <a:avLst/>
            <a:gdLst/>
            <a:ahLst/>
            <a:rect l="l" t="t" r="r" b="b"/>
            <a:pathLst>
              <a:path w="172" h="171">
                <a:moveTo>
                  <a:pt x="0" y="171"/>
                </a:moveTo>
                <a:cubicBezTo>
                  <a:pt x="19" y="143"/>
                  <a:pt x="24" y="102"/>
                  <a:pt x="60" y="91"/>
                </a:cubicBezTo>
                <a:cubicBezTo>
                  <a:pt x="83" y="84"/>
                  <a:pt x="107" y="84"/>
                  <a:pt x="131" y="80"/>
                </a:cubicBezTo>
                <a:cubicBezTo>
                  <a:pt x="138" y="60"/>
                  <a:pt x="144" y="40"/>
                  <a:pt x="151" y="20"/>
                </a:cubicBezTo>
                <a:cubicBezTo>
                  <a:pt x="154" y="11"/>
                  <a:pt x="172" y="0"/>
                  <a:pt x="172" y="0"/>
                </a:cubicBezTo>
              </a:path>
            </a:pathLst>
          </a:custGeom>
          <a:noFill/>
          <a:ln w="28440">
            <a:solidFill>
              <a:srgbClr val="ff00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191120" y="5105520"/>
            <a:ext cx="415800" cy="338040"/>
          </a:xfrm>
          <a:custGeom>
            <a:avLst/>
            <a:gdLst/>
            <a:ahLst/>
            <a:rect l="l" t="t" r="r" b="b"/>
            <a:pathLst>
              <a:path w="262" h="213">
                <a:moveTo>
                  <a:pt x="0" y="213"/>
                </a:moveTo>
                <a:cubicBezTo>
                  <a:pt x="35" y="176"/>
                  <a:pt x="50" y="149"/>
                  <a:pt x="101" y="132"/>
                </a:cubicBezTo>
                <a:cubicBezTo>
                  <a:pt x="108" y="122"/>
                  <a:pt x="112" y="110"/>
                  <a:pt x="121" y="101"/>
                </a:cubicBezTo>
                <a:cubicBezTo>
                  <a:pt x="129" y="92"/>
                  <a:pt x="143" y="90"/>
                  <a:pt x="151" y="81"/>
                </a:cubicBezTo>
                <a:cubicBezTo>
                  <a:pt x="158" y="73"/>
                  <a:pt x="155" y="59"/>
                  <a:pt x="161" y="51"/>
                </a:cubicBezTo>
                <a:cubicBezTo>
                  <a:pt x="175" y="32"/>
                  <a:pt x="212" y="0"/>
                  <a:pt x="212" y="0"/>
                </a:cubicBezTo>
                <a:cubicBezTo>
                  <a:pt x="230" y="57"/>
                  <a:pt x="235" y="118"/>
                  <a:pt x="262" y="172"/>
                </a:cubicBezTo>
              </a:path>
            </a:pathLst>
          </a:custGeom>
          <a:noFill/>
          <a:ln w="2844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06320" y="4186080"/>
            <a:ext cx="457200" cy="281160"/>
          </a:xfrm>
          <a:custGeom>
            <a:avLst/>
            <a:gdLst/>
            <a:ahLst/>
            <a:rect l="l" t="t" r="r" b="b"/>
            <a:pathLst>
              <a:path w="288" h="177">
                <a:moveTo>
                  <a:pt x="0" y="0"/>
                </a:moveTo>
                <a:cubicBezTo>
                  <a:pt x="15" y="46"/>
                  <a:pt x="35" y="36"/>
                  <a:pt x="50" y="81"/>
                </a:cubicBezTo>
                <a:cubicBezTo>
                  <a:pt x="53" y="101"/>
                  <a:pt x="56" y="122"/>
                  <a:pt x="60" y="142"/>
                </a:cubicBezTo>
                <a:cubicBezTo>
                  <a:pt x="62" y="152"/>
                  <a:pt x="61" y="167"/>
                  <a:pt x="70" y="172"/>
                </a:cubicBezTo>
                <a:cubicBezTo>
                  <a:pt x="80" y="177"/>
                  <a:pt x="91" y="165"/>
                  <a:pt x="101" y="162"/>
                </a:cubicBezTo>
                <a:cubicBezTo>
                  <a:pt x="111" y="155"/>
                  <a:pt x="120" y="147"/>
                  <a:pt x="131" y="142"/>
                </a:cubicBezTo>
                <a:cubicBezTo>
                  <a:pt x="151" y="133"/>
                  <a:pt x="192" y="122"/>
                  <a:pt x="192" y="122"/>
                </a:cubicBezTo>
                <a:cubicBezTo>
                  <a:pt x="202" y="115"/>
                  <a:pt x="211" y="108"/>
                  <a:pt x="222" y="102"/>
                </a:cubicBezTo>
                <a:cubicBezTo>
                  <a:pt x="231" y="97"/>
                  <a:pt x="245" y="99"/>
                  <a:pt x="252" y="91"/>
                </a:cubicBezTo>
                <a:cubicBezTo>
                  <a:pt x="288" y="54"/>
                  <a:pt x="236" y="61"/>
                  <a:pt x="283" y="61"/>
                </a:cubicBez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81280" y="228600"/>
            <a:ext cx="457200" cy="281160"/>
          </a:xfrm>
          <a:custGeom>
            <a:avLst/>
            <a:gdLst/>
            <a:ahLst/>
            <a:rect l="l" t="t" r="r" b="b"/>
            <a:pathLst>
              <a:path w="288" h="177">
                <a:moveTo>
                  <a:pt x="0" y="0"/>
                </a:moveTo>
                <a:cubicBezTo>
                  <a:pt x="15" y="46"/>
                  <a:pt x="35" y="36"/>
                  <a:pt x="50" y="81"/>
                </a:cubicBezTo>
                <a:cubicBezTo>
                  <a:pt x="53" y="101"/>
                  <a:pt x="56" y="122"/>
                  <a:pt x="60" y="142"/>
                </a:cubicBezTo>
                <a:cubicBezTo>
                  <a:pt x="62" y="152"/>
                  <a:pt x="61" y="167"/>
                  <a:pt x="70" y="172"/>
                </a:cubicBezTo>
                <a:cubicBezTo>
                  <a:pt x="80" y="177"/>
                  <a:pt x="91" y="165"/>
                  <a:pt x="101" y="162"/>
                </a:cubicBezTo>
                <a:cubicBezTo>
                  <a:pt x="111" y="155"/>
                  <a:pt x="120" y="147"/>
                  <a:pt x="131" y="142"/>
                </a:cubicBezTo>
                <a:cubicBezTo>
                  <a:pt x="151" y="133"/>
                  <a:pt x="192" y="122"/>
                  <a:pt x="192" y="122"/>
                </a:cubicBezTo>
                <a:cubicBezTo>
                  <a:pt x="202" y="115"/>
                  <a:pt x="211" y="108"/>
                  <a:pt x="222" y="102"/>
                </a:cubicBezTo>
                <a:cubicBezTo>
                  <a:pt x="231" y="97"/>
                  <a:pt x="245" y="99"/>
                  <a:pt x="252" y="91"/>
                </a:cubicBezTo>
                <a:cubicBezTo>
                  <a:pt x="288" y="54"/>
                  <a:pt x="236" y="61"/>
                  <a:pt x="283" y="61"/>
                </a:cubicBezTo>
              </a:path>
            </a:pathLst>
          </a:custGeom>
          <a:noFill/>
          <a:ln w="28440">
            <a:solidFill>
              <a:srgbClr val="ffcc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3581280" y="609480"/>
            <a:ext cx="152640" cy="228600"/>
          </a:xfrm>
          <a:prstGeom prst="line">
            <a:avLst/>
          </a:prstGeom>
          <a:ln w="28440">
            <a:solidFill>
              <a:srgbClr val="ffcc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 flipV="1">
            <a:off x="7924680" y="5866920"/>
            <a:ext cx="152640" cy="30492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4572000" y="4723920"/>
            <a:ext cx="228600" cy="304920"/>
          </a:xfrm>
          <a:prstGeom prst="line">
            <a:avLst/>
          </a:prstGeom>
          <a:ln w="9360">
            <a:solidFill>
              <a:srgbClr val="ff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914640" y="995400"/>
            <a:ext cx="505080" cy="3693960"/>
          </a:xfrm>
          <a:custGeom>
            <a:avLst/>
            <a:gdLst/>
            <a:ahLst/>
            <a:rect l="l" t="t" r="r" b="b"/>
            <a:pathLst>
              <a:path w="318" h="2327">
                <a:moveTo>
                  <a:pt x="91" y="0"/>
                </a:moveTo>
                <a:cubicBezTo>
                  <a:pt x="145" y="11"/>
                  <a:pt x="188" y="36"/>
                  <a:pt x="242" y="50"/>
                </a:cubicBezTo>
                <a:cubicBezTo>
                  <a:pt x="300" y="88"/>
                  <a:pt x="318" y="156"/>
                  <a:pt x="262" y="212"/>
                </a:cubicBezTo>
                <a:cubicBezTo>
                  <a:pt x="238" y="236"/>
                  <a:pt x="199" y="244"/>
                  <a:pt x="171" y="262"/>
                </a:cubicBezTo>
                <a:cubicBezTo>
                  <a:pt x="137" y="308"/>
                  <a:pt x="125" y="320"/>
                  <a:pt x="70" y="333"/>
                </a:cubicBezTo>
                <a:cubicBezTo>
                  <a:pt x="80" y="379"/>
                  <a:pt x="86" y="406"/>
                  <a:pt x="111" y="444"/>
                </a:cubicBezTo>
                <a:cubicBezTo>
                  <a:pt x="117" y="474"/>
                  <a:pt x="131" y="504"/>
                  <a:pt x="131" y="535"/>
                </a:cubicBezTo>
                <a:cubicBezTo>
                  <a:pt x="131" y="586"/>
                  <a:pt x="110" y="638"/>
                  <a:pt x="121" y="687"/>
                </a:cubicBezTo>
                <a:cubicBezTo>
                  <a:pt x="124" y="702"/>
                  <a:pt x="147" y="671"/>
                  <a:pt x="161" y="666"/>
                </a:cubicBezTo>
                <a:cubicBezTo>
                  <a:pt x="187" y="657"/>
                  <a:pt x="242" y="646"/>
                  <a:pt x="242" y="646"/>
                </a:cubicBezTo>
                <a:cubicBezTo>
                  <a:pt x="259" y="649"/>
                  <a:pt x="286" y="640"/>
                  <a:pt x="293" y="656"/>
                </a:cubicBezTo>
                <a:cubicBezTo>
                  <a:pt x="302" y="676"/>
                  <a:pt x="288" y="702"/>
                  <a:pt x="273" y="717"/>
                </a:cubicBezTo>
                <a:cubicBezTo>
                  <a:pt x="236" y="753"/>
                  <a:pt x="201" y="795"/>
                  <a:pt x="171" y="838"/>
                </a:cubicBezTo>
                <a:cubicBezTo>
                  <a:pt x="190" y="958"/>
                  <a:pt x="228" y="1062"/>
                  <a:pt x="81" y="1111"/>
                </a:cubicBezTo>
                <a:cubicBezTo>
                  <a:pt x="56" y="1147"/>
                  <a:pt x="24" y="1155"/>
                  <a:pt x="0" y="1192"/>
                </a:cubicBezTo>
                <a:cubicBezTo>
                  <a:pt x="3" y="1205"/>
                  <a:pt x="2" y="1221"/>
                  <a:pt x="10" y="1232"/>
                </a:cubicBezTo>
                <a:cubicBezTo>
                  <a:pt x="70" y="1324"/>
                  <a:pt x="17" y="1185"/>
                  <a:pt x="50" y="1283"/>
                </a:cubicBezTo>
                <a:cubicBezTo>
                  <a:pt x="59" y="1433"/>
                  <a:pt x="65" y="1439"/>
                  <a:pt x="91" y="1556"/>
                </a:cubicBezTo>
                <a:cubicBezTo>
                  <a:pt x="95" y="1573"/>
                  <a:pt x="97" y="1590"/>
                  <a:pt x="101" y="1606"/>
                </a:cubicBezTo>
                <a:cubicBezTo>
                  <a:pt x="107" y="1627"/>
                  <a:pt x="121" y="1667"/>
                  <a:pt x="121" y="1667"/>
                </a:cubicBezTo>
                <a:cubicBezTo>
                  <a:pt x="118" y="1758"/>
                  <a:pt x="111" y="1849"/>
                  <a:pt x="111" y="1940"/>
                </a:cubicBezTo>
                <a:cubicBezTo>
                  <a:pt x="111" y="2107"/>
                  <a:pt x="143" y="2048"/>
                  <a:pt x="70" y="2152"/>
                </a:cubicBezTo>
                <a:cubicBezTo>
                  <a:pt x="67" y="2162"/>
                  <a:pt x="63" y="2172"/>
                  <a:pt x="60" y="2182"/>
                </a:cubicBezTo>
                <a:cubicBezTo>
                  <a:pt x="55" y="2202"/>
                  <a:pt x="30" y="2296"/>
                  <a:pt x="30" y="2324"/>
                </a:cubicBezTo>
                <a:cubicBezTo>
                  <a:pt x="30" y="2327"/>
                  <a:pt x="37" y="2324"/>
                  <a:pt x="40" y="2324"/>
                </a:cubicBezTo>
              </a:path>
            </a:pathLst>
          </a:custGeom>
          <a:noFill/>
          <a:ln w="93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603680" y="3641760"/>
            <a:ext cx="235080" cy="625320"/>
          </a:xfrm>
          <a:custGeom>
            <a:avLst/>
            <a:gdLst/>
            <a:ahLst/>
            <a:rect l="l" t="t" r="r" b="b"/>
            <a:pathLst>
              <a:path w="148" h="394">
                <a:moveTo>
                  <a:pt x="71" y="394"/>
                </a:moveTo>
                <a:cubicBezTo>
                  <a:pt x="51" y="387"/>
                  <a:pt x="31" y="385"/>
                  <a:pt x="20" y="364"/>
                </a:cubicBezTo>
                <a:cubicBezTo>
                  <a:pt x="10" y="345"/>
                  <a:pt x="0" y="303"/>
                  <a:pt x="0" y="303"/>
                </a:cubicBezTo>
                <a:cubicBezTo>
                  <a:pt x="11" y="246"/>
                  <a:pt x="25" y="224"/>
                  <a:pt x="81" y="202"/>
                </a:cubicBezTo>
                <a:cubicBezTo>
                  <a:pt x="101" y="194"/>
                  <a:pt x="142" y="182"/>
                  <a:pt x="142" y="182"/>
                </a:cubicBezTo>
                <a:cubicBezTo>
                  <a:pt x="87" y="129"/>
                  <a:pt x="148" y="199"/>
                  <a:pt x="132" y="50"/>
                </a:cubicBezTo>
                <a:cubicBezTo>
                  <a:pt x="131" y="40"/>
                  <a:pt x="119" y="65"/>
                  <a:pt x="111" y="71"/>
                </a:cubicBezTo>
                <a:cubicBezTo>
                  <a:pt x="80" y="96"/>
                  <a:pt x="81" y="91"/>
                  <a:pt x="41" y="101"/>
                </a:cubicBezTo>
                <a:cubicBezTo>
                  <a:pt x="0" y="62"/>
                  <a:pt x="20" y="91"/>
                  <a:pt x="20" y="0"/>
                </a:cubicBezTo>
              </a:path>
            </a:pathLst>
          </a:custGeom>
          <a:noFill/>
          <a:ln w="9360">
            <a:solidFill>
              <a:srgbClr val="ff0066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334120" y="1219320"/>
            <a:ext cx="234720" cy="625320"/>
          </a:xfrm>
          <a:custGeom>
            <a:avLst/>
            <a:gdLst/>
            <a:ahLst/>
            <a:rect l="l" t="t" r="r" b="b"/>
            <a:pathLst>
              <a:path w="148" h="394">
                <a:moveTo>
                  <a:pt x="71" y="394"/>
                </a:moveTo>
                <a:cubicBezTo>
                  <a:pt x="51" y="387"/>
                  <a:pt x="31" y="385"/>
                  <a:pt x="20" y="364"/>
                </a:cubicBezTo>
                <a:cubicBezTo>
                  <a:pt x="10" y="345"/>
                  <a:pt x="0" y="303"/>
                  <a:pt x="0" y="303"/>
                </a:cubicBezTo>
                <a:cubicBezTo>
                  <a:pt x="11" y="246"/>
                  <a:pt x="25" y="224"/>
                  <a:pt x="81" y="202"/>
                </a:cubicBezTo>
                <a:cubicBezTo>
                  <a:pt x="101" y="194"/>
                  <a:pt x="142" y="182"/>
                  <a:pt x="142" y="182"/>
                </a:cubicBezTo>
                <a:cubicBezTo>
                  <a:pt x="87" y="129"/>
                  <a:pt x="148" y="199"/>
                  <a:pt x="132" y="50"/>
                </a:cubicBezTo>
                <a:cubicBezTo>
                  <a:pt x="131" y="40"/>
                  <a:pt x="119" y="65"/>
                  <a:pt x="111" y="71"/>
                </a:cubicBezTo>
                <a:cubicBezTo>
                  <a:pt x="80" y="96"/>
                  <a:pt x="81" y="91"/>
                  <a:pt x="41" y="101"/>
                </a:cubicBezTo>
                <a:cubicBezTo>
                  <a:pt x="0" y="62"/>
                  <a:pt x="20" y="91"/>
                  <a:pt x="20" y="0"/>
                </a:cubicBezTo>
              </a:path>
            </a:pathLst>
          </a:custGeom>
          <a:noFill/>
          <a:ln w="9360">
            <a:solidFill>
              <a:srgbClr val="ff0066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00400" y="1523880"/>
            <a:ext cx="235080" cy="625680"/>
          </a:xfrm>
          <a:custGeom>
            <a:avLst/>
            <a:gdLst/>
            <a:ahLst/>
            <a:rect l="l" t="t" r="r" b="b"/>
            <a:pathLst>
              <a:path w="148" h="394">
                <a:moveTo>
                  <a:pt x="71" y="394"/>
                </a:moveTo>
                <a:cubicBezTo>
                  <a:pt x="51" y="387"/>
                  <a:pt x="31" y="385"/>
                  <a:pt x="20" y="364"/>
                </a:cubicBezTo>
                <a:cubicBezTo>
                  <a:pt x="10" y="345"/>
                  <a:pt x="0" y="303"/>
                  <a:pt x="0" y="303"/>
                </a:cubicBezTo>
                <a:cubicBezTo>
                  <a:pt x="11" y="246"/>
                  <a:pt x="25" y="224"/>
                  <a:pt x="81" y="202"/>
                </a:cubicBezTo>
                <a:cubicBezTo>
                  <a:pt x="101" y="194"/>
                  <a:pt x="142" y="182"/>
                  <a:pt x="142" y="182"/>
                </a:cubicBezTo>
                <a:cubicBezTo>
                  <a:pt x="87" y="129"/>
                  <a:pt x="148" y="199"/>
                  <a:pt x="132" y="50"/>
                </a:cubicBezTo>
                <a:cubicBezTo>
                  <a:pt x="131" y="40"/>
                  <a:pt x="119" y="65"/>
                  <a:pt x="111" y="71"/>
                </a:cubicBezTo>
                <a:cubicBezTo>
                  <a:pt x="80" y="96"/>
                  <a:pt x="81" y="91"/>
                  <a:pt x="41" y="101"/>
                </a:cubicBezTo>
                <a:cubicBezTo>
                  <a:pt x="0" y="62"/>
                  <a:pt x="20" y="91"/>
                  <a:pt x="20" y="0"/>
                </a:cubicBezTo>
              </a:path>
            </a:pathLst>
          </a:custGeom>
          <a:noFill/>
          <a:ln w="9360">
            <a:solidFill>
              <a:srgbClr val="ff0066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72200" y="2475000"/>
            <a:ext cx="2917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ar sk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net ~ -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19520" y="2855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m cor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t ~ 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day 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19120" y="37702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756320" y="3794040"/>
            <a:ext cx="234720" cy="625680"/>
          </a:xfrm>
          <a:custGeom>
            <a:avLst/>
            <a:gdLst/>
            <a:ahLst/>
            <a:rect l="l" t="t" r="r" b="b"/>
            <a:pathLst>
              <a:path w="148" h="394">
                <a:moveTo>
                  <a:pt x="71" y="394"/>
                </a:moveTo>
                <a:cubicBezTo>
                  <a:pt x="51" y="387"/>
                  <a:pt x="31" y="385"/>
                  <a:pt x="20" y="364"/>
                </a:cubicBezTo>
                <a:cubicBezTo>
                  <a:pt x="10" y="345"/>
                  <a:pt x="0" y="303"/>
                  <a:pt x="0" y="303"/>
                </a:cubicBezTo>
                <a:cubicBezTo>
                  <a:pt x="11" y="246"/>
                  <a:pt x="25" y="224"/>
                  <a:pt x="81" y="202"/>
                </a:cubicBezTo>
                <a:cubicBezTo>
                  <a:pt x="101" y="194"/>
                  <a:pt x="142" y="182"/>
                  <a:pt x="142" y="182"/>
                </a:cubicBezTo>
                <a:cubicBezTo>
                  <a:pt x="87" y="129"/>
                  <a:pt x="148" y="199"/>
                  <a:pt x="132" y="50"/>
                </a:cubicBezTo>
                <a:cubicBezTo>
                  <a:pt x="131" y="40"/>
                  <a:pt x="119" y="65"/>
                  <a:pt x="111" y="71"/>
                </a:cubicBezTo>
                <a:cubicBezTo>
                  <a:pt x="80" y="96"/>
                  <a:pt x="81" y="91"/>
                  <a:pt x="41" y="101"/>
                </a:cubicBezTo>
                <a:cubicBezTo>
                  <a:pt x="0" y="62"/>
                  <a:pt x="20" y="91"/>
                  <a:pt x="20" y="0"/>
                </a:cubicBezTo>
              </a:path>
            </a:pathLst>
          </a:custGeom>
          <a:noFill/>
          <a:ln w="9360">
            <a:solidFill>
              <a:srgbClr val="ff0066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08120" y="5554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66480" y="544680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367480" y="506556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834320" y="3412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024080" y="3636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585440" y="56754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L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986240" y="31608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L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737720" y="377028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L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547960" y="3636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L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908360" y="53352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absor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7621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67760" y="1126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efl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048120" y="30492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321160" y="552276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sensi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539400" y="50655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lat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315200" y="4952880"/>
            <a:ext cx="457200" cy="381240"/>
          </a:xfrm>
          <a:prstGeom prst="irregularSeal2">
            <a:avLst/>
          </a:prstGeom>
          <a:solidFill>
            <a:srgbClr val="2a0f9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272680" y="58276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emiss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543800" y="541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albe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-360" y="6248520"/>
            <a:ext cx="4724280" cy="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-92160" y="6208560"/>
            <a:ext cx="481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Land ..low heat capacity, rapid temperature Changes… diurnal variabil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4647960" y="6248520"/>
            <a:ext cx="75960" cy="60948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648320" y="6284880"/>
            <a:ext cx="477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8ae"/>
                </a:solidFill>
                <a:latin typeface="Arial"/>
              </a:rPr>
              <a:t>Sea … high heat capacity, slow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8ae"/>
                </a:solidFill>
                <a:latin typeface="Arial"/>
              </a:rPr>
              <a:t>except for TC wake eff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676520" y="434340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-10+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-92160" y="1636560"/>
            <a:ext cx="29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’s &am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ation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91960" y="46846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clou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hort /Long wav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FDL radi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_sw_physics=98, ra_lw_physics=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r version of one in Eta/NMM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ault code is used with Ferr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phy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zone profile based on season, latit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acts with clouds (and clo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x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face emissivity of 1.0 (different from NA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urban effec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o how well  did HWRF (2008) perform?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roblems at longer time periods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ome further upgrades needed!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62" name="Content Placeholder 7" descr="08AL_inskl (GFDLvHWRF).gif"/>
          <p:cNvPicPr/>
          <p:nvPr/>
        </p:nvPicPr>
        <p:blipFill>
          <a:blip r:embed="rId1"/>
          <a:srcRect l="-3436" t="0" r="-1909" b="0"/>
          <a:stretch/>
        </p:blipFill>
        <p:spPr>
          <a:xfrm>
            <a:off x="4648320" y="2197080"/>
            <a:ext cx="4190760" cy="3456000"/>
          </a:xfrm>
          <a:prstGeom prst="rect">
            <a:avLst/>
          </a:prstGeom>
          <a:ln w="0">
            <a:noFill/>
          </a:ln>
        </p:spPr>
      </p:pic>
      <p:pic>
        <p:nvPicPr>
          <p:cNvPr id="463" name="Content Placeholder 5" descr="08AL_tkerr (GFDLvHWRF).gif"/>
          <p:cNvPicPr/>
          <p:nvPr/>
        </p:nvPicPr>
        <p:blipFill>
          <a:blip r:embed="rId2"/>
          <a:srcRect l="-6491" t="0" r="-4964" b="0"/>
          <a:stretch/>
        </p:blipFill>
        <p:spPr>
          <a:xfrm>
            <a:off x="304920" y="2197080"/>
            <a:ext cx="4190760" cy="345600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1582920" y="6132600"/>
            <a:ext cx="3603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HWRFI ~ HWR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FDL ~ GH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387840" y="6589800"/>
            <a:ext cx="26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Franklin, 2009 IH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rot="1603800">
            <a:off x="7238520" y="3047760"/>
            <a:ext cx="1600200" cy="19047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477120" y="1600200"/>
            <a:ext cx="990360" cy="15238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2009 HWRF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gain problems in days 4 &amp; 5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oor performance due to physics/dynamics ??</a:t>
            </a:r>
            <a:br>
              <a:rPr sz="40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69" name="Content Placeholder 7" descr="09AL_tkskl (early2).gif"/>
          <p:cNvPicPr/>
          <p:nvPr/>
        </p:nvPicPr>
        <p:blipFill>
          <a:blip r:embed="rId1"/>
          <a:srcRect l="-2406" t="0" r="-5027" b="0"/>
          <a:stretch/>
        </p:blipFill>
        <p:spPr>
          <a:xfrm>
            <a:off x="0" y="2109960"/>
            <a:ext cx="4724280" cy="3787560"/>
          </a:xfrm>
          <a:prstGeom prst="rect">
            <a:avLst/>
          </a:prstGeom>
          <a:ln w="0">
            <a:noFill/>
          </a:ln>
        </p:spPr>
      </p:pic>
      <p:pic>
        <p:nvPicPr>
          <p:cNvPr id="470" name="Content Placeholder 7" descr="09AL_inskl (early).gif"/>
          <p:cNvPicPr/>
          <p:nvPr/>
        </p:nvPicPr>
        <p:blipFill>
          <a:blip r:embed="rId2"/>
          <a:srcRect l="-177" t="0" r="-177" b="0"/>
          <a:stretch/>
        </p:blipFill>
        <p:spPr>
          <a:xfrm>
            <a:off x="4724280" y="2133720"/>
            <a:ext cx="4419720" cy="379548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 rot="11534400">
            <a:off x="1828440" y="2819520"/>
            <a:ext cx="2133720" cy="8380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rot="2765400">
            <a:off x="7350480" y="4049640"/>
            <a:ext cx="1981080" cy="8380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92200" y="6284880"/>
            <a:ext cx="3603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HWRFI ~ HWR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FDL ~ GH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3352680" y="1523880"/>
            <a:ext cx="457200" cy="12956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8457840" y="2819520"/>
            <a:ext cx="228600" cy="9903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854320" y="6208560"/>
            <a:ext cx="26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Franklin, 2010 IH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77760"/>
            <a:ext cx="895032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ysics Strateg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44160" y="2438280"/>
            <a:ext cx="8799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mic what was used in the successful GFDL hurricane mod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physics based on GFS mod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ation from N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ormulate within WRF software frame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loud Microphysics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errier schem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p_physics=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similar to current NAM sch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fferences in RH condensation onset, number concentration, NCW, et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for effici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ection only of total condensate and vap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gnostic cloud water, rain, &amp; ice (cloud ic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now/graupel) from storage array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umes fractions of water &amp; ice within the column are fixed during adv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ercooled liquid water &amp; ice me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ble density for precipitation 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now/graupel/sleet) – “rime factor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0" name=""/>
          <p:cNvGraphicFramePr/>
          <p:nvPr/>
        </p:nvGraphicFramePr>
        <p:xfrm>
          <a:off x="457200" y="533520"/>
          <a:ext cx="8229600" cy="56577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n differ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tween schem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WRF Ferri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 Ferri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C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concentration o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ud droplets   (cm-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 cyclogenic?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realistically small over lan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densation onset relative humidity   (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7.5 - 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_ice_ini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perature of ice initiation (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5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opical valu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5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zen spec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rnal to sche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 influence radiatio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nd use and vegetation tab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AH LSM IS AN OPTION IN HWRF AND IS CURRENTLY BEING T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NDUSE.TB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 (ASCII) file that has land-use properties for slab model (vegetation, urban, water, 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Version 3.1 Noah LSM does not use this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 USGS categories or 20 MODIS categories (new) from 30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lobal data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type is assigned summer/winter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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be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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iss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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ughness leng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 table properties (thermal inertia, moisture availability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now albedo effect) are used by 5-layer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so note other tables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PARM.TBL, et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) are used by Noah LS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hort wav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FDL radi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_sw_physics=9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der version of one in Eta/NMM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ault code is used with Ferr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rophysics (see GFDL longwa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zone/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ofile as in GFDL longw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s with clouds (and clo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c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urban effects (also longwa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ong wav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FDL radiation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_lw_physics=9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der version of one used in Eta/N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ault code is used with Ferrier micro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tral scheme from global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uses 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acts with clouds (cloud frac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zone profile based on season, latit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ix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face emissivity of 1.0 (different from NA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380880" y="0"/>
          <a:ext cx="8229600" cy="69897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Sche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HWRF  </a:t>
                      </a:r>
                      <a:r>
                        <a:rPr b="0" i="1" lang="en-US" sz="20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</a:rPr>
                        <a:t>HWRF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GFD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d configu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2-nests (coinciden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3-nests(not coinciden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000">
                <a:tc>
                  <a:txBody>
                    <a:bodyPr lIns="90000" rIns="90000" tIns="4680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s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Force-feedback to parent throughout ne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Interaction vi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intra-nest fluxe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an coupl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POM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(atlantic only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ctive parameteriz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mom.mix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mom.mix</a:t>
                      </a:r>
                      <a:r>
                        <a:rPr b="1" lang="en-US" sz="1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icit condens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rri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rri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undary lay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FS non-loc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FS non-loc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face layer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FDL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(Moon et. al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FDL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(Moon et. al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d surface model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GFDL sla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FDL sla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sipative hea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Based on D-L Zha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Based on M-Y 2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vity wave drag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Undergoing tes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GFDL </a:t>
                      </a:r>
                      <a:r>
                        <a:rPr b="0" lang="en-US" sz="1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(cloud difference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FDL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older version 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3726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914400"/>
            <a:ext cx="1981080" cy="3682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MICROPHYS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3505320"/>
            <a:ext cx="1981440" cy="3682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RADI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3600" y="990720"/>
            <a:ext cx="1981080" cy="3682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CUMUL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43600" y="3429000"/>
            <a:ext cx="1981080" cy="64260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BOUNDARY 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5410080"/>
            <a:ext cx="2819520" cy="368280"/>
          </a:xfrm>
          <a:prstGeom prst="rect">
            <a:avLst/>
          </a:prstGeom>
          <a:noFill/>
          <a:ln w="2844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8ae"/>
                </a:solidFill>
                <a:latin typeface="Arial"/>
              </a:rPr>
              <a:t>SEA/</a:t>
            </a: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LAND</a:t>
            </a: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8ae"/>
                </a:solidFill>
                <a:latin typeface="Arial"/>
              </a:rPr>
              <a:t>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5410080"/>
            <a:ext cx="1981080" cy="368280"/>
          </a:xfrm>
          <a:prstGeom prst="rect">
            <a:avLst/>
          </a:prstGeom>
          <a:noFill/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LAND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57400" y="4456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752480" y="1294920"/>
            <a:ext cx="0" cy="2133720"/>
          </a:xfrm>
          <a:prstGeom prst="line">
            <a:avLst/>
          </a:prstGeom>
          <a:ln w="28440">
            <a:solidFill>
              <a:srgbClr val="99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1447560"/>
            <a:ext cx="4267080" cy="1904760"/>
          </a:xfrm>
          <a:prstGeom prst="line">
            <a:avLst/>
          </a:prstGeom>
          <a:ln w="28440">
            <a:solidFill>
              <a:srgbClr val="99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90920" y="3657600"/>
            <a:ext cx="2666880" cy="16765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5029200"/>
            <a:ext cx="188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Latent/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Sensi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324480" y="4114800"/>
            <a:ext cx="0" cy="8380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8120" y="5029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Latent/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Sensi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19520" y="579132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733920" y="3809880"/>
            <a:ext cx="5054400" cy="2540160"/>
          </a:xfrm>
          <a:custGeom>
            <a:avLst/>
            <a:gdLst/>
            <a:ahLst/>
            <a:rect l="l" t="t" r="r" b="b"/>
            <a:pathLst>
              <a:path w="3184" h="1600">
                <a:moveTo>
                  <a:pt x="0" y="1440"/>
                </a:moveTo>
                <a:cubicBezTo>
                  <a:pt x="1192" y="1520"/>
                  <a:pt x="2384" y="1600"/>
                  <a:pt x="2784" y="1392"/>
                </a:cubicBezTo>
                <a:cubicBezTo>
                  <a:pt x="3184" y="1184"/>
                  <a:pt x="2456" y="384"/>
                  <a:pt x="2400" y="192"/>
                </a:cubicBezTo>
                <a:cubicBezTo>
                  <a:pt x="2344" y="0"/>
                  <a:pt x="2396" y="120"/>
                  <a:pt x="2448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57600" y="4038480"/>
            <a:ext cx="4584600" cy="2527560"/>
          </a:xfrm>
          <a:custGeom>
            <a:avLst/>
            <a:gdLst/>
            <a:ahLst/>
            <a:rect l="l" t="t" r="r" b="b"/>
            <a:pathLst>
              <a:path w="2888" h="1592">
                <a:moveTo>
                  <a:pt x="0" y="1200"/>
                </a:moveTo>
                <a:cubicBezTo>
                  <a:pt x="1052" y="1396"/>
                  <a:pt x="2104" y="1592"/>
                  <a:pt x="2496" y="1392"/>
                </a:cubicBezTo>
                <a:cubicBezTo>
                  <a:pt x="2888" y="1192"/>
                  <a:pt x="2376" y="240"/>
                  <a:pt x="2352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57600" y="4038480"/>
            <a:ext cx="4813200" cy="2438640"/>
          </a:xfrm>
          <a:custGeom>
            <a:avLst/>
            <a:gdLst/>
            <a:ahLst/>
            <a:rect l="l" t="t" r="r" b="b"/>
            <a:pathLst>
              <a:path w="3032" h="1536">
                <a:moveTo>
                  <a:pt x="0" y="1152"/>
                </a:moveTo>
                <a:cubicBezTo>
                  <a:pt x="1124" y="1344"/>
                  <a:pt x="2248" y="1536"/>
                  <a:pt x="2640" y="1344"/>
                </a:cubicBezTo>
                <a:cubicBezTo>
                  <a:pt x="3032" y="1152"/>
                  <a:pt x="2400" y="224"/>
                  <a:pt x="235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81080" y="3886200"/>
            <a:ext cx="457200" cy="1523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2514240" y="3962160"/>
            <a:ext cx="685800" cy="10666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60840" y="106668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ud water/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2590920" y="1066680"/>
            <a:ext cx="914400" cy="1526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1295280"/>
            <a:ext cx="38124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33720" y="3886200"/>
            <a:ext cx="457200" cy="15238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90920" y="3581280"/>
            <a:ext cx="2895480" cy="175284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1676520"/>
            <a:ext cx="18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ud proper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20574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828800" y="205740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800600" y="4190760"/>
            <a:ext cx="1219320" cy="53316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038480" y="4952880"/>
            <a:ext cx="304920" cy="15264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343400" y="4723920"/>
            <a:ext cx="457200" cy="228600"/>
          </a:xfrm>
          <a:prstGeom prst="line">
            <a:avLst/>
          </a:prstGeom>
          <a:ln w="93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05120" y="1523880"/>
            <a:ext cx="2057400" cy="762120"/>
          </a:xfrm>
          <a:prstGeom prst="cloudCallout">
            <a:avLst>
              <a:gd name="adj1" fmla="val -40509"/>
              <a:gd name="adj2" fmla="val 43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61600" y="361800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S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657240" y="39625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8400" y="46846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S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1752480" y="4647960"/>
            <a:ext cx="381240" cy="75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250320" y="57150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runof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7010280" y="5790600"/>
            <a:ext cx="381240" cy="228600"/>
          </a:xfrm>
          <a:custGeom>
            <a:avLst/>
            <a:gdLst>
              <a:gd name="textAreaLeft" fmla="*/ 66600 w 381240"/>
              <a:gd name="textAreaRight" fmla="*/ 276480 w 38124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27720" y="-3636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 interactio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WRF physics options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04920" y="1447920"/>
          <a:ext cx="8533800" cy="4424040"/>
        </p:xfrm>
        <a:graphic>
          <a:graphicData uri="http://schemas.openxmlformats.org/drawingml/2006/table">
            <a:tbl>
              <a:tblPr/>
              <a:tblGrid>
                <a:gridCol w="2844360"/>
                <a:gridCol w="2844720"/>
                <a:gridCol w="28447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ud Microphysic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WRF Ferri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p_physics=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vective parameteriz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_physics=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rface layer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FD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f_sfclay_physics=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d surface model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FDL sla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f_surface_physics=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netaryBoundary lay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F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_pbl_physics=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WRF GFD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_lw_physics=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_sw_physics=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errier schem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457200" y="228600"/>
            <a:ext cx="8686800" cy="6629400"/>
            <a:chOff x="457200" y="228600"/>
            <a:chExt cx="8686800" cy="6629400"/>
          </a:xfrm>
        </p:grpSpPr>
        <p:sp>
          <p:nvSpPr>
            <p:cNvPr id="264" name=""/>
            <p:cNvSpPr/>
            <p:nvPr/>
          </p:nvSpPr>
          <p:spPr>
            <a:xfrm>
              <a:off x="2590920" y="39243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8ae"/>
                  </a:solidFill>
                  <a:latin typeface="Times New Roman"/>
                </a:rPr>
                <a:t>RACW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1905120" y="2629080"/>
              <a:ext cx="1447560" cy="1218960"/>
              <a:chOff x="1905120" y="2629080"/>
              <a:chExt cx="1447560" cy="1218960"/>
            </a:xfrm>
          </p:grpSpPr>
          <p:sp>
            <p:nvSpPr>
              <p:cNvPr id="266" name=""/>
              <p:cNvSpPr/>
              <p:nvPr/>
            </p:nvSpPr>
            <p:spPr>
              <a:xfrm>
                <a:off x="1905120" y="2629080"/>
                <a:ext cx="1447560" cy="1218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095560" y="2827440"/>
                <a:ext cx="1066680" cy="825480"/>
              </a:xfrm>
              <a:prstGeom prst="rect">
                <a:avLst/>
              </a:prstGeom>
              <a:solidFill>
                <a:srgbClr val="0068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loud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Water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457200" y="6286680"/>
              <a:ext cx="8001000" cy="571320"/>
              <a:chOff x="457200" y="6286680"/>
              <a:chExt cx="8001000" cy="571320"/>
            </a:xfrm>
          </p:grpSpPr>
          <p:sp>
            <p:nvSpPr>
              <p:cNvPr id="269" name=""/>
              <p:cNvSpPr/>
              <p:nvPr/>
            </p:nvSpPr>
            <p:spPr>
              <a:xfrm>
                <a:off x="457200" y="6286680"/>
                <a:ext cx="8001000" cy="571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790800" y="6400800"/>
                <a:ext cx="1333800" cy="34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ROUND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1141560" y="1561680"/>
              <a:ext cx="2668320" cy="3353040"/>
              <a:chOff x="1141560" y="1561680"/>
              <a:chExt cx="2668320" cy="3353040"/>
            </a:xfrm>
          </p:grpSpPr>
          <p:sp>
            <p:nvSpPr>
              <p:cNvPr id="272" name=""/>
              <p:cNvSpPr/>
              <p:nvPr/>
            </p:nvSpPr>
            <p:spPr>
              <a:xfrm flipH="1">
                <a:off x="1371600" y="4914720"/>
                <a:ext cx="533520" cy="0"/>
              </a:xfrm>
              <a:prstGeom prst="line">
                <a:avLst/>
              </a:prstGeom>
              <a:ln w="57240">
                <a:solidFill>
                  <a:srgbClr val="0068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1371600" y="1561680"/>
                <a:ext cx="0" cy="3352680"/>
              </a:xfrm>
              <a:prstGeom prst="line">
                <a:avLst/>
              </a:prstGeom>
              <a:ln w="57240">
                <a:solidFill>
                  <a:srgbClr val="0068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371600" y="1562040"/>
                <a:ext cx="2438280" cy="0"/>
              </a:xfrm>
              <a:prstGeom prst="line">
                <a:avLst/>
              </a:prstGeom>
              <a:ln w="57240">
                <a:solidFill>
                  <a:srgbClr val="0068a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6200000">
                <a:off x="840960" y="2548080"/>
                <a:ext cx="1060560" cy="459720"/>
              </a:xfrm>
              <a:prstGeom prst="rect">
                <a:avLst/>
              </a:prstGeom>
              <a:solidFill>
                <a:srgbClr val="0068ae"/>
              </a:solidFill>
              <a:ln w="9360">
                <a:solidFill>
                  <a:srgbClr val="0068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REVP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1905120" y="4457880"/>
              <a:ext cx="1447560" cy="1218960"/>
              <a:chOff x="1905120" y="4457880"/>
              <a:chExt cx="1447560" cy="1218960"/>
            </a:xfrm>
          </p:grpSpPr>
          <p:sp>
            <p:nvSpPr>
              <p:cNvPr id="277" name=""/>
              <p:cNvSpPr/>
              <p:nvPr/>
            </p:nvSpPr>
            <p:spPr>
              <a:xfrm>
                <a:off x="1905120" y="4457880"/>
                <a:ext cx="1447560" cy="1218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171880" y="4686120"/>
                <a:ext cx="914400" cy="761760"/>
              </a:xfrm>
              <a:prstGeom prst="rect">
                <a:avLst/>
              </a:prstGeom>
              <a:solidFill>
                <a:srgbClr val="0068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171880" y="483876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Rain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3810240" y="800280"/>
              <a:ext cx="1447560" cy="1218960"/>
              <a:chOff x="3810240" y="800280"/>
              <a:chExt cx="1447560" cy="1218960"/>
            </a:xfrm>
          </p:grpSpPr>
          <p:sp>
            <p:nvSpPr>
              <p:cNvPr id="281" name=""/>
              <p:cNvSpPr/>
              <p:nvPr/>
            </p:nvSpPr>
            <p:spPr>
              <a:xfrm>
                <a:off x="3810240" y="800280"/>
                <a:ext cx="1447560" cy="1218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00680" y="998640"/>
                <a:ext cx="1066680" cy="825480"/>
              </a:xfrm>
              <a:prstGeom prst="rect">
                <a:avLst/>
              </a:prstGeom>
              <a:solidFill>
                <a:srgbClr val="0068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Water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Vapor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590920" y="3848040"/>
              <a:ext cx="0" cy="609840"/>
            </a:xfrm>
            <a:prstGeom prst="line">
              <a:avLst/>
            </a:prstGeom>
            <a:ln w="57240">
              <a:solidFill>
                <a:srgbClr val="0068a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24240" y="392436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8ae"/>
                  </a:solidFill>
                  <a:latin typeface="Times New Roman"/>
                </a:rPr>
                <a:t>RAU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90920" y="5676840"/>
              <a:ext cx="0" cy="609840"/>
            </a:xfrm>
            <a:prstGeom prst="line">
              <a:avLst/>
            </a:prstGeom>
            <a:ln w="76320">
              <a:solidFill>
                <a:srgbClr val="0068a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43000" y="575316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fc Rai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3353040" y="2019240"/>
              <a:ext cx="457200" cy="609840"/>
            </a:xfrm>
            <a:prstGeom prst="line">
              <a:avLst/>
            </a:prstGeom>
            <a:ln w="57240">
              <a:solidFill>
                <a:srgbClr val="0068a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667240" y="2019240"/>
              <a:ext cx="914400" cy="459720"/>
            </a:xfrm>
            <a:prstGeom prst="rect">
              <a:avLst/>
            </a:prstGeom>
            <a:noFill/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8ae"/>
                  </a:solidFill>
                  <a:latin typeface="Times New Roman"/>
                </a:rPr>
                <a:t>CN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85440" y="1257480"/>
              <a:ext cx="31244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23960" y="1257480"/>
              <a:ext cx="0" cy="3962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5800" y="5219640"/>
              <a:ext cx="12193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457200" y="3314880"/>
              <a:ext cx="533160" cy="1066680"/>
              <a:chOff x="457200" y="3314880"/>
              <a:chExt cx="533160" cy="1066680"/>
            </a:xfrm>
          </p:grpSpPr>
          <p:sp>
            <p:nvSpPr>
              <p:cNvPr id="293" name=""/>
              <p:cNvSpPr/>
              <p:nvPr/>
            </p:nvSpPr>
            <p:spPr>
              <a:xfrm rot="16200000">
                <a:off x="230040" y="3617640"/>
                <a:ext cx="990360" cy="459720"/>
              </a:xfrm>
              <a:prstGeom prst="rect">
                <a:avLst/>
              </a:prstGeom>
              <a:solidFill>
                <a:srgbClr val="0068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ICND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57200" y="3314880"/>
                <a:ext cx="533160" cy="10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5257800" y="2019240"/>
              <a:ext cx="990720" cy="609840"/>
            </a:xfrm>
            <a:prstGeom prst="line">
              <a:avLst/>
            </a:prstGeom>
            <a:ln w="57240">
              <a:solidFill>
                <a:srgbClr val="0088e4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29200" y="224784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8e4"/>
                  </a:solidFill>
                  <a:latin typeface="Times New Roman"/>
                </a:rPr>
                <a:t>DE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315200" y="5600880"/>
              <a:ext cx="0" cy="685800"/>
            </a:xfrm>
            <a:prstGeom prst="line">
              <a:avLst/>
            </a:prstGeom>
            <a:ln w="76320">
              <a:solidFill>
                <a:srgbClr val="0068a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62520" y="567684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fc Snow/Graupel/Sle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6248520" y="2629080"/>
              <a:ext cx="2209680" cy="2971800"/>
              <a:chOff x="6248520" y="2629080"/>
              <a:chExt cx="2209680" cy="2971800"/>
            </a:xfrm>
          </p:grpSpPr>
          <p:sp>
            <p:nvSpPr>
              <p:cNvPr id="300" name=""/>
              <p:cNvSpPr/>
              <p:nvPr/>
            </p:nvSpPr>
            <p:spPr>
              <a:xfrm>
                <a:off x="6248520" y="2629080"/>
                <a:ext cx="2209680" cy="29718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1" name=""/>
              <p:cNvGrpSpPr/>
              <p:nvPr/>
            </p:nvGrpSpPr>
            <p:grpSpPr>
              <a:xfrm>
                <a:off x="6477120" y="2859480"/>
                <a:ext cx="1752120" cy="2631240"/>
                <a:chOff x="6477120" y="2859480"/>
                <a:chExt cx="1752120" cy="263124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6477120" y="2859480"/>
                  <a:ext cx="1752120" cy="2631240"/>
                </a:xfrm>
                <a:prstGeom prst="rect">
                  <a:avLst/>
                </a:prstGeom>
                <a:solidFill>
                  <a:srgbClr val="0068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loud Ice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br>
                    <a:rPr sz="10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Precip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Ice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(Snow/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Graupel/</a:t>
                  </a:r>
                  <a:br>
                    <a:rPr sz="2400"/>
                  </a:b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Sleet)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671880" y="3392640"/>
                  <a:ext cx="12650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4" name=""/>
              <p:cNvSpPr/>
              <p:nvPr/>
            </p:nvSpPr>
            <p:spPr>
              <a:xfrm>
                <a:off x="6477120" y="3391200"/>
                <a:ext cx="17524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3352680" y="3390840"/>
              <a:ext cx="2514960" cy="1295280"/>
              <a:chOff x="3352680" y="3390840"/>
              <a:chExt cx="2514960" cy="129528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4572360" y="3695760"/>
                <a:ext cx="1295280" cy="459720"/>
                <a:chOff x="4572360" y="3695760"/>
                <a:chExt cx="1295280" cy="4597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4572360" y="3695760"/>
                  <a:ext cx="1295280" cy="457200"/>
                </a:xfrm>
                <a:prstGeom prst="rect">
                  <a:avLst/>
                </a:prstGeom>
                <a:solidFill>
                  <a:srgbClr val="0068ae"/>
                </a:solidFill>
                <a:ln w="57240">
                  <a:solidFill>
                    <a:srgbClr val="00cc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4572360" y="3695760"/>
                  <a:ext cx="1295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IACWR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3353040" y="3390840"/>
                <a:ext cx="1219320" cy="457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3352680" y="4000320"/>
                <a:ext cx="1219320" cy="685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5257800" y="1333440"/>
              <a:ext cx="2209680" cy="1295280"/>
              <a:chOff x="5257800" y="1333440"/>
              <a:chExt cx="2209680" cy="1295280"/>
            </a:xfrm>
          </p:grpSpPr>
          <p:sp>
            <p:nvSpPr>
              <p:cNvPr id="312" name=""/>
              <p:cNvSpPr/>
              <p:nvPr/>
            </p:nvSpPr>
            <p:spPr>
              <a:xfrm>
                <a:off x="5257800" y="1333440"/>
                <a:ext cx="2209680" cy="12952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6019920" y="1752480"/>
                <a:ext cx="914400" cy="459720"/>
                <a:chOff x="6019920" y="1752480"/>
                <a:chExt cx="914400" cy="4597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6019920" y="1752480"/>
                  <a:ext cx="914400" cy="457200"/>
                </a:xfrm>
                <a:prstGeom prst="rect">
                  <a:avLst/>
                </a:prstGeom>
                <a:solidFill>
                  <a:srgbClr val="0068ae"/>
                </a:solidFill>
                <a:ln w="57240">
                  <a:solidFill>
                    <a:srgbClr val="00cc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019920" y="175248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IEVP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6" name=""/>
            <p:cNvGrpSpPr/>
            <p:nvPr/>
          </p:nvGrpSpPr>
          <p:grpSpPr>
            <a:xfrm>
              <a:off x="3353040" y="2857680"/>
              <a:ext cx="2895480" cy="459720"/>
              <a:chOff x="3353040" y="2857680"/>
              <a:chExt cx="2895480" cy="459720"/>
            </a:xfrm>
          </p:grpSpPr>
          <p:sp>
            <p:nvSpPr>
              <p:cNvPr id="317" name=""/>
              <p:cNvSpPr/>
              <p:nvPr/>
            </p:nvSpPr>
            <p:spPr>
              <a:xfrm>
                <a:off x="3353040" y="2934000"/>
                <a:ext cx="2895480" cy="304920"/>
              </a:xfrm>
              <a:prstGeom prst="line">
                <a:avLst/>
              </a:prstGeom>
              <a:ln w="57240">
                <a:solidFill>
                  <a:srgbClr val="0088e4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8" name=""/>
              <p:cNvGrpSpPr/>
              <p:nvPr/>
            </p:nvGrpSpPr>
            <p:grpSpPr>
              <a:xfrm>
                <a:off x="4267080" y="2857680"/>
                <a:ext cx="1066680" cy="459720"/>
                <a:chOff x="4267080" y="2857680"/>
                <a:chExt cx="1066680" cy="4597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4267080" y="2857680"/>
                  <a:ext cx="1066680" cy="457200"/>
                </a:xfrm>
                <a:prstGeom prst="rect">
                  <a:avLst/>
                </a:prstGeom>
                <a:solidFill>
                  <a:srgbClr val="0068ae"/>
                </a:solidFill>
                <a:ln w="57240">
                  <a:solidFill>
                    <a:srgbClr val="00cc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4267080" y="2857680"/>
                  <a:ext cx="1066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ACW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353040" y="4229280"/>
              <a:ext cx="2895480" cy="914400"/>
              <a:chOff x="3353040" y="4229280"/>
              <a:chExt cx="2895480" cy="914400"/>
            </a:xfrm>
          </p:grpSpPr>
          <p:sp>
            <p:nvSpPr>
              <p:cNvPr id="322" name=""/>
              <p:cNvSpPr/>
              <p:nvPr/>
            </p:nvSpPr>
            <p:spPr>
              <a:xfrm flipV="1">
                <a:off x="3353040" y="4229280"/>
                <a:ext cx="2895480" cy="914400"/>
              </a:xfrm>
              <a:prstGeom prst="line">
                <a:avLst/>
              </a:prstGeom>
              <a:ln w="57240">
                <a:solidFill>
                  <a:srgbClr val="0088e4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3" name=""/>
              <p:cNvGrpSpPr/>
              <p:nvPr/>
            </p:nvGrpSpPr>
            <p:grpSpPr>
              <a:xfrm>
                <a:off x="4267080" y="4457880"/>
                <a:ext cx="1066680" cy="459720"/>
                <a:chOff x="4267080" y="4457880"/>
                <a:chExt cx="1066680" cy="4597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4267080" y="4457880"/>
                  <a:ext cx="1066680" cy="457200"/>
                </a:xfrm>
                <a:prstGeom prst="rect">
                  <a:avLst/>
                </a:prstGeom>
                <a:solidFill>
                  <a:srgbClr val="0068ae"/>
                </a:solidFill>
                <a:ln w="57240">
                  <a:solidFill>
                    <a:srgbClr val="00cc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4267080" y="4457880"/>
                  <a:ext cx="1066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ACR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6" name=""/>
            <p:cNvGrpSpPr/>
            <p:nvPr/>
          </p:nvGrpSpPr>
          <p:grpSpPr>
            <a:xfrm>
              <a:off x="3353040" y="5029200"/>
              <a:ext cx="2895480" cy="459720"/>
              <a:chOff x="3353040" y="5029200"/>
              <a:chExt cx="2895480" cy="459720"/>
            </a:xfrm>
          </p:grpSpPr>
          <p:sp>
            <p:nvSpPr>
              <p:cNvPr id="327" name=""/>
              <p:cNvSpPr/>
              <p:nvPr/>
            </p:nvSpPr>
            <p:spPr>
              <a:xfrm flipV="1">
                <a:off x="3353040" y="5029200"/>
                <a:ext cx="2895480" cy="457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8" name=""/>
              <p:cNvGrpSpPr/>
              <p:nvPr/>
            </p:nvGrpSpPr>
            <p:grpSpPr>
              <a:xfrm>
                <a:off x="4267080" y="5029200"/>
                <a:ext cx="1066680" cy="459720"/>
                <a:chOff x="4267080" y="5029200"/>
                <a:chExt cx="1066680" cy="4597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4267080" y="5029200"/>
                  <a:ext cx="1066680" cy="457200"/>
                </a:xfrm>
                <a:prstGeom prst="rect">
                  <a:avLst/>
                </a:prstGeom>
                <a:solidFill>
                  <a:srgbClr val="0068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267080" y="5029200"/>
                  <a:ext cx="1066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IMLT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1" name=""/>
            <p:cNvGrpSpPr/>
            <p:nvPr/>
          </p:nvGrpSpPr>
          <p:grpSpPr>
            <a:xfrm>
              <a:off x="7124760" y="457200"/>
              <a:ext cx="1600200" cy="396720"/>
              <a:chOff x="7124760" y="457200"/>
              <a:chExt cx="1600200" cy="396720"/>
            </a:xfrm>
          </p:grpSpPr>
          <p:sp>
            <p:nvSpPr>
              <p:cNvPr id="332" name=""/>
              <p:cNvSpPr/>
              <p:nvPr/>
            </p:nvSpPr>
            <p:spPr>
              <a:xfrm>
                <a:off x="7124760" y="465120"/>
                <a:ext cx="1600200" cy="380880"/>
              </a:xfrm>
              <a:prstGeom prst="rect">
                <a:avLst/>
              </a:prstGeom>
              <a:solidFill>
                <a:srgbClr val="0068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124760" y="457200"/>
                <a:ext cx="1600200" cy="3967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7010640" y="838080"/>
              <a:ext cx="1828800" cy="398880"/>
              <a:chOff x="7010640" y="838080"/>
              <a:chExt cx="1828800" cy="398880"/>
            </a:xfrm>
          </p:grpSpPr>
          <p:sp>
            <p:nvSpPr>
              <p:cNvPr id="335" name=""/>
              <p:cNvSpPr/>
              <p:nvPr/>
            </p:nvSpPr>
            <p:spPr>
              <a:xfrm>
                <a:off x="7010640" y="1036440"/>
                <a:ext cx="1828800" cy="0"/>
              </a:xfrm>
              <a:prstGeom prst="line">
                <a:avLst/>
              </a:prstGeom>
              <a:ln w="57240">
                <a:solidFill>
                  <a:srgbClr val="0088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391520" y="884160"/>
                <a:ext cx="1066680" cy="304920"/>
              </a:xfrm>
              <a:prstGeom prst="rect">
                <a:avLst/>
              </a:prstGeom>
              <a:solidFill>
                <a:srgbClr val="0068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15200" y="83808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88e4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 &lt; 0</a:t>
                </a:r>
                <a:r>
                  <a:rPr b="1" lang="en-US" sz="1600" spc="-1" strike="noStrike" baseline="50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7010640" y="1203480"/>
              <a:ext cx="1828800" cy="398880"/>
              <a:chOff x="7010640" y="1203480"/>
              <a:chExt cx="1828800" cy="398880"/>
            </a:xfrm>
          </p:grpSpPr>
          <p:sp>
            <p:nvSpPr>
              <p:cNvPr id="339" name=""/>
              <p:cNvSpPr/>
              <p:nvPr/>
            </p:nvSpPr>
            <p:spPr>
              <a:xfrm>
                <a:off x="7010640" y="1401840"/>
                <a:ext cx="18288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391520" y="1249560"/>
                <a:ext cx="1066680" cy="304560"/>
              </a:xfrm>
              <a:prstGeom prst="rect">
                <a:avLst/>
              </a:prstGeom>
              <a:solidFill>
                <a:srgbClr val="0068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315200" y="120348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88e4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T &gt; 0</a:t>
                </a:r>
                <a:r>
                  <a:rPr b="1" lang="en-US" sz="1600" spc="-1" strike="noStrike" baseline="50000">
                    <a:solidFill>
                      <a:srgbClr val="ff0000"/>
                    </a:solidFill>
                    <a:latin typeface="Times New Roman"/>
                  </a:rPr>
                  <a:t>o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7010640" y="1600200"/>
              <a:ext cx="1828800" cy="406440"/>
              <a:chOff x="7010640" y="1600200"/>
              <a:chExt cx="1828800" cy="406440"/>
            </a:xfrm>
          </p:grpSpPr>
          <p:sp>
            <p:nvSpPr>
              <p:cNvPr id="343" name=""/>
              <p:cNvSpPr/>
              <p:nvPr/>
            </p:nvSpPr>
            <p:spPr>
              <a:xfrm>
                <a:off x="7010640" y="1828800"/>
                <a:ext cx="1828800" cy="0"/>
              </a:xfrm>
              <a:prstGeom prst="line">
                <a:avLst/>
              </a:prstGeom>
              <a:ln w="57240">
                <a:solidFill>
                  <a:srgbClr val="0068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7162920" y="1600200"/>
                <a:ext cx="1523880" cy="406440"/>
                <a:chOff x="7162920" y="1600200"/>
                <a:chExt cx="1523880" cy="40644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7200720" y="1608120"/>
                  <a:ext cx="1447560" cy="380880"/>
                </a:xfrm>
                <a:prstGeom prst="rect">
                  <a:avLst/>
                </a:prstGeom>
                <a:solidFill>
                  <a:srgbClr val="0068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7162920" y="1600200"/>
                  <a:ext cx="1523880" cy="406440"/>
                </a:xfrm>
                <a:prstGeom prst="rect">
                  <a:avLst/>
                </a:prstGeom>
                <a:noFill/>
                <a:ln w="9360">
                  <a:solidFill>
                    <a:srgbClr val="0068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7" name=""/>
            <p:cNvSpPr/>
            <p:nvPr/>
          </p:nvSpPr>
          <p:spPr>
            <a:xfrm>
              <a:off x="6629400" y="228600"/>
              <a:ext cx="2514600" cy="1981080"/>
            </a:xfrm>
            <a:prstGeom prst="ellipse">
              <a:avLst/>
            </a:prstGeom>
            <a:noFill/>
            <a:ln cap="rnd" w="9360">
              <a:solidFill>
                <a:srgbClr val="afe1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29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chart of Ferrier Microphysic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80320" y="6491160"/>
            <a:ext cx="2263680" cy="368280"/>
          </a:xfrm>
          <a:prstGeom prst="rect">
            <a:avLst/>
          </a:prstGeom>
          <a:solidFill>
            <a:srgbClr val="af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Ferrier,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010280" y="1600200"/>
            <a:ext cx="1828800" cy="45720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748640" cy="58482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143000" y="5105520"/>
            <a:ext cx="61722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651040" y="1905120"/>
            <a:ext cx="14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umulus heat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~ &gt; 500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/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36720" y="2278080"/>
            <a:ext cx="1349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Adiabatic coo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~495 </a:t>
            </a:r>
            <a:r>
              <a:rPr b="0" lang="en-US" sz="1800" spc="-1" strike="noStrike" baseline="30000">
                <a:solidFill>
                  <a:srgbClr val="0068ae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/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76920" y="281952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8ae"/>
                </a:solidFill>
                <a:latin typeface="Arial"/>
              </a:rPr>
              <a:t>offset by ~2-3</a:t>
            </a:r>
            <a:r>
              <a:rPr b="0" lang="en-US" sz="1400" spc="-1" strike="noStrike" baseline="30000">
                <a:solidFill>
                  <a:srgbClr val="0068ae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68ae"/>
                </a:solidFill>
                <a:latin typeface="Arial"/>
              </a:rPr>
              <a:t>/day radiational cooling</a:t>
            </a:r>
            <a:r>
              <a:rPr b="0" lang="en-US" sz="1800" spc="-1" strike="noStrike">
                <a:solidFill>
                  <a:srgbClr val="0068a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712760" y="6284880"/>
            <a:ext cx="34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d on Dudhia WRF_Phys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62120" y="5257800"/>
            <a:ext cx="7619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∂h/∂t = E(h-h~) + D(h~-h) + M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∂/∂z (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∂q/∂t = E(q-q~) + D(q~+l-q) + M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∂/∂z (q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umulus parameterization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urricane intensity quite sensitive to sc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rameterize cloud elements except water vap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_physics=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ified Arakawa-Schubert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GFS sc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si-equilibrium sc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cloud and ice detrai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wndrafts and single, simple clo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component for cloud t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momentum m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17:24:15Z</dcterms:created>
  <dc:creator>sgopal</dc:creator>
  <dc:description/>
  <dc:language>en-US</dc:language>
  <cp:lastModifiedBy>tuleya</cp:lastModifiedBy>
  <dcterms:modified xsi:type="dcterms:W3CDTF">2010-03-17T16:35:21Z</dcterms:modified>
  <cp:revision>195</cp:revision>
  <dc:subject/>
  <dc:title>Operational Hurricane Forecasting: State-of-the-art and beyond </dc:title>
</cp:coreProperties>
</file>