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A27-B212-4FB9-8552-655CB2A3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23D-7F60-4D88-8FD9-262576C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6D7-C3BA-43C6-BB67-3F6E451A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B1E-7B67-4F04-89A0-29EF5981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B38-3E56-4E5D-87AA-13921B29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3CA-94BC-42DC-8ABB-7CA85049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DA7-57A8-42D0-90F0-1EAF0854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FC4-F8E2-4D9C-A3CD-01FA21E3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A5F-491A-4E85-966F-634CD98E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42A-3438-4933-AB9B-7787DB4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AD2-2BB2-4261-AB8D-67288E2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C1A-8047-4024-A682-2968D83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5CD6D-BC50-4E78-A806-E87BDDBA0C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tcenter.org/HurrWRF/users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 work at D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owu B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8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 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HWRF tutorial in Febru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RF Beta release 0.9 availabl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FV3.2 official release March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RFV3.2 release, DTC will have the first official HWRF rel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RF release include WRFV3.2, WPS, vortex initialization, ocean model, coupler, WPP, GFDL vortex tracker, HWRF plotting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C encourages HWRF research communities to use this release ver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30960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 R2O test –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tober 2009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rom eight storms in 2008 ATL, *NOT* comple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8006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30960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 R2O test –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bruary 20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imilar storms and cycles as in October 2009 tes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858000"/>
            <a:ext cx="8686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some differences may be from initial condition data, G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80060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2401920"/>
            <a:ext cx="5029200" cy="42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R2O t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see if HWRV3 matches the operational HWRF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MC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with G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s for 2008 and 2009, Atlantic and East Pacific (Richard Pasch's lis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code: WRFV3.2, WPS 3.2, other codes (vortex, ocean, etc) will be the operation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360" y="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RF webpage</a:t>
            </a:r>
            <a:br>
              <a:rPr sz="44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dtcenter.org/HurrWRF/us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479600"/>
            <a:ext cx="10078920" cy="583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0:39:42Z</dcterms:created>
  <dc:creator>Shaowu Bao</dc:creator>
  <dc:description/>
  <dc:language>en-US</dc:language>
  <cp:lastModifiedBy/>
  <cp:revision>1</cp:revision>
  <dc:subject/>
  <dc:title/>
</cp:coreProperties>
</file>