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F6D2-06F5-4AA1-8AA6-66E97CC32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6830-C244-477A-A771-FA4AD7A4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CF0C-4580-4C35-996A-659D284A9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ED9C-EA0C-4A6A-AA25-6D683FB83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14DF-465A-4013-97D6-026A1545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8A14-D6FA-4E46-A8EB-BE3EB599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083E-7AB0-46D6-BB2F-954153C4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3E3C-9E59-4B87-8926-E88B0451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A331-724E-40C1-984D-3CDD50B8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A7CF-6720-477F-83F1-13BD3A5D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A0E9-13BE-49BC-8208-CDC26FA7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2E43-9FE0-4277-A173-E62FCF03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D29DE1-A7A1-4642-B6C3-E46B6E1E5E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4272120" y="888840"/>
            <a:ext cx="2971800" cy="1627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WRF tends to have lower sea-level pressure compared to observed (NHC) best track estimates, particularly at higher wind sp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kwon</dc:creator>
  <dc:description/>
  <dc:language>en-US</dc:language>
  <cp:lastModifiedBy>ykwon</cp:lastModifiedBy>
  <cp:revision>0</cp:revision>
  <dc:subject/>
  <dc:title>Slide 1</dc:title>
</cp:coreProperties>
</file>