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062-0CDD-4B41-A965-EBE8C31B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9D3-3DE0-42BA-BA74-8A334962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F6F-EDBB-450B-8E2B-810D60AD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F5F-644B-42E6-9DE4-CB0593E1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3C4-D5E5-4341-B0FA-16C46B6A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9D0-CEB4-4831-8614-207D7E21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589-FF4B-4840-849E-79945A1E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9B9-D5DC-42B2-91BA-A7654B0C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26A-0535-4201-802C-9D4E55BE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AFB-5D5E-4833-8062-182D7F17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0F9-B003-45F4-8E4E-6D4E4110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A30-25D9-4079-861B-BC835827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542C-84CC-42CF-A3AA-3B85E46FD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alized Strom Intensification in HWRFX: Sensitivity to Physic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(work in progres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.-W. Bao, S. G. Gopalakrishnan, S. A. Michel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knowledgements: Xuejin Zhang (HWRFX co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vin Yeh (DIAPO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ontrolmyjgfslhflxazimuthmean1224.gif"/>
          <p:cNvPicPr/>
          <p:nvPr/>
        </p:nvPicPr>
        <p:blipFill>
          <a:blip r:embed="rId1"/>
          <a:srcRect l="0" t="8890" r="0" b="0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3605040" y="649440"/>
          <a:ext cx="4191120" cy="3597120"/>
        </p:xfrm>
        <a:graphic>
          <a:graphicData uri="http://schemas.openxmlformats.org/drawingml/2006/table">
            <a:tbl>
              <a:tblPr/>
              <a:tblGrid>
                <a:gridCol w="673200"/>
                <a:gridCol w="698400"/>
                <a:gridCol w="1171800"/>
                <a:gridCol w="733320"/>
                <a:gridCol w="91440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ndary Layer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ctive parameterization scheme (D1/D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physics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ck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e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enta 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nge 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le (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y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(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226240" y="152280"/>
            <a:ext cx="45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t Heat Flux 12-24 hour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ustazimuthmean3648.gif"/>
          <p:cNvPicPr/>
          <p:nvPr/>
        </p:nvPicPr>
        <p:blipFill>
          <a:blip r:embed="rId1"/>
          <a:srcRect l="0" t="8890" r="0" b="0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3613320" y="662040"/>
          <a:ext cx="4190760" cy="3597120"/>
        </p:xfrm>
        <a:graphic>
          <a:graphicData uri="http://schemas.openxmlformats.org/drawingml/2006/table">
            <a:tbl>
              <a:tblPr/>
              <a:tblGrid>
                <a:gridCol w="672840"/>
                <a:gridCol w="698760"/>
                <a:gridCol w="1171440"/>
                <a:gridCol w="733320"/>
                <a:gridCol w="91440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ndary Layer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ctive parameterization scheme (D1/D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physics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ck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e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enta 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nge 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le (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y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(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Box 3"/>
          <p:cNvSpPr/>
          <p:nvPr/>
        </p:nvSpPr>
        <p:spPr>
          <a:xfrm>
            <a:off x="2832840" y="15228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T 36 - 48 hour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trsshflxazimuthmean1224.gif"/>
          <p:cNvPicPr/>
          <p:nvPr/>
        </p:nvPicPr>
        <p:blipFill>
          <a:blip r:embed="rId1"/>
          <a:srcRect l="0" t="7823" r="0" b="0"/>
          <a:stretch/>
        </p:blipFill>
        <p:spPr>
          <a:xfrm>
            <a:off x="0" y="457200"/>
            <a:ext cx="9144000" cy="632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3600360" y="577800"/>
          <a:ext cx="4191120" cy="3597480"/>
        </p:xfrm>
        <a:graphic>
          <a:graphicData uri="http://schemas.openxmlformats.org/drawingml/2006/table">
            <a:tbl>
              <a:tblPr/>
              <a:tblGrid>
                <a:gridCol w="673200"/>
                <a:gridCol w="698400"/>
                <a:gridCol w="1171800"/>
                <a:gridCol w="733320"/>
                <a:gridCol w="914400"/>
              </a:tblGrid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ndary Layer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ctive parameterization scheme (D1/D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physics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ck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e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enta 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nge 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le (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y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(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Box 3"/>
          <p:cNvSpPr/>
          <p:nvPr/>
        </p:nvSpPr>
        <p:spPr>
          <a:xfrm>
            <a:off x="2229120" y="15228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ible Heat Flux 36-48 hour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ontrolmyjgfslhflxazimuthmean3648.gif"/>
          <p:cNvPicPr/>
          <p:nvPr/>
        </p:nvPicPr>
        <p:blipFill>
          <a:blip r:embed="rId1"/>
          <a:srcRect l="0" t="8936" r="0" b="0"/>
          <a:stretch/>
        </p:blipFill>
        <p:spPr>
          <a:xfrm>
            <a:off x="0" y="536400"/>
            <a:ext cx="9144000" cy="624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3608280" y="588960"/>
          <a:ext cx="4191120" cy="3597120"/>
        </p:xfrm>
        <a:graphic>
          <a:graphicData uri="http://schemas.openxmlformats.org/drawingml/2006/table">
            <a:tbl>
              <a:tblPr/>
              <a:tblGrid>
                <a:gridCol w="673200"/>
                <a:gridCol w="698400"/>
                <a:gridCol w="1171800"/>
                <a:gridCol w="733320"/>
                <a:gridCol w="91440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ndary Layer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ctive parameterization scheme (D1/D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physics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ck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e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enta 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nge 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le (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y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(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Box 3"/>
          <p:cNvSpPr/>
          <p:nvPr/>
        </p:nvSpPr>
        <p:spPr>
          <a:xfrm>
            <a:off x="2226240" y="152280"/>
            <a:ext cx="45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t Heat Flux 36-48 hour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762120" y="474840"/>
            <a:ext cx="7467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   It is useful to set up idealized benchmark cases for the evaluation and understanding of ongoing improvements of HWRF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  The sensitivity of the HWRFX simulated surface max wind speed to the SL/BL physics is as great as that to the cloud physics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   The azimuthally averaged secondary circulation is affected not only by the SL/BL physics but also by the cloud physics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   Different permutations of the SL/BL and the cloud physics lead to various dynamical properties of the vortex in terms of du/dt and dv/dt (not shown)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   Due to the uncertainties associated with the sensitivities indicated in (2)-(4) above, it is perhaps more meaningful to compare the HWRFX forecasts/simulations to observations in spatial and temporal average for different stages of storm develop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rtex Initialization 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 plane located at 12.5°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a prescribed axisymmetric vorte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maximum sfc tangential wind: 15 m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radius of sfc maximum wind: 80 k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quiescent environment with a constant sea surface temperature of 29°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nitial mass and wind fields derived by solving the nonlinear balance equation for the prescribed vortex (Wang 1995, MW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219320" y="1836720"/>
          <a:ext cx="6629400" cy="3336840"/>
        </p:xfrm>
        <a:graphic>
          <a:graphicData uri="http://schemas.openxmlformats.org/drawingml/2006/table">
            <a:tbl>
              <a:tblPr/>
              <a:tblGrid>
                <a:gridCol w="1065240"/>
                <a:gridCol w="1104840"/>
                <a:gridCol w="1854000"/>
                <a:gridCol w="1158840"/>
                <a:gridCol w="144648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RI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ndary Layer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ctive parameterization scheme (D1/D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physics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Box 4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Per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3292920" y="5562720"/>
            <a:ext cx="25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grid dimen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0.06,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 = 0.06,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x = 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5"/>
          <p:cNvGrpSpPr/>
          <p:nvPr/>
        </p:nvGrpSpPr>
        <p:grpSpPr>
          <a:xfrm>
            <a:off x="76320" y="795240"/>
            <a:ext cx="4971960" cy="4691160"/>
            <a:chOff x="76320" y="795240"/>
            <a:chExt cx="4971960" cy="4691160"/>
          </a:xfrm>
        </p:grpSpPr>
        <p:pic>
          <p:nvPicPr>
            <p:cNvPr id="49" name="Picture 10" descr="maxwindspdallruns.png"/>
            <p:cNvPicPr/>
            <p:nvPr/>
          </p:nvPicPr>
          <p:blipFill>
            <a:blip r:embed="rId1"/>
            <a:srcRect l="12501" t="8800" r="15000" b="0"/>
            <a:stretch/>
          </p:blipFill>
          <p:spPr>
            <a:xfrm>
              <a:off x="76320" y="795240"/>
              <a:ext cx="4971960" cy="46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Straight Connector 4"/>
            <p:cNvSpPr/>
            <p:nvPr/>
          </p:nvSpPr>
          <p:spPr>
            <a:xfrm>
              <a:off x="2895840" y="1904760"/>
              <a:ext cx="0" cy="3124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traight Connector 8"/>
            <p:cNvSpPr/>
            <p:nvPr/>
          </p:nvSpPr>
          <p:spPr>
            <a:xfrm>
              <a:off x="1600200" y="1904760"/>
              <a:ext cx="0" cy="31244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traight Connector 9"/>
            <p:cNvSpPr/>
            <p:nvPr/>
          </p:nvSpPr>
          <p:spPr>
            <a:xfrm>
              <a:off x="990720" y="1904760"/>
              <a:ext cx="0" cy="31244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traight Connector 10"/>
            <p:cNvSpPr/>
            <p:nvPr/>
          </p:nvSpPr>
          <p:spPr>
            <a:xfrm>
              <a:off x="2286000" y="1904760"/>
              <a:ext cx="0" cy="3124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Straight Arrow Connector 14"/>
            <p:cNvCxnSpPr/>
            <p:nvPr/>
          </p:nvCxnSpPr>
          <p:spPr>
            <a:xfrm>
              <a:off x="2285640" y="4648320"/>
              <a:ext cx="61020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55" name="Straight Arrow Connector 16"/>
            <p:cNvCxnSpPr/>
            <p:nvPr/>
          </p:nvCxnSpPr>
          <p:spPr>
            <a:xfrm>
              <a:off x="990360" y="4648320"/>
              <a:ext cx="610200" cy="216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56" name="TextBox 17"/>
            <p:cNvSpPr/>
            <p:nvPr/>
          </p:nvSpPr>
          <p:spPr>
            <a:xfrm>
              <a:off x="937080" y="472464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-24 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18"/>
            <p:cNvSpPr/>
            <p:nvPr/>
          </p:nvSpPr>
          <p:spPr>
            <a:xfrm>
              <a:off x="2247840" y="475236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-48 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4896000" y="1219320"/>
          <a:ext cx="4190760" cy="3504960"/>
        </p:xfrm>
        <a:graphic>
          <a:graphicData uri="http://schemas.openxmlformats.org/drawingml/2006/table">
            <a:tbl>
              <a:tblPr/>
              <a:tblGrid>
                <a:gridCol w="672840"/>
                <a:gridCol w="698760"/>
                <a:gridCol w="1171440"/>
                <a:gridCol w="733320"/>
                <a:gridCol w="914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ndary Layer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ctive parameterization scheme (D1/D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physics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ck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e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enta 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nge 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le (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y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(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minslpallruns.png"/>
          <p:cNvPicPr/>
          <p:nvPr/>
        </p:nvPicPr>
        <p:blipFill>
          <a:blip r:embed="rId1"/>
          <a:srcRect l="10001" t="8800" r="15000" b="0"/>
          <a:stretch/>
        </p:blipFill>
        <p:spPr>
          <a:xfrm>
            <a:off x="76320" y="900000"/>
            <a:ext cx="5029200" cy="458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937040" y="1219320"/>
          <a:ext cx="4191120" cy="3504960"/>
        </p:xfrm>
        <a:graphic>
          <a:graphicData uri="http://schemas.openxmlformats.org/drawingml/2006/table">
            <a:tbl>
              <a:tblPr/>
              <a:tblGrid>
                <a:gridCol w="673200"/>
                <a:gridCol w="698400"/>
                <a:gridCol w="1171800"/>
                <a:gridCol w="733320"/>
                <a:gridCol w="914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ndary Layer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ctive parameterization scheme (D1/D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physics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ck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e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enta 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nge 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le (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y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(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gfsrad1_uw0312-24tx.gif"/>
          <p:cNvPicPr/>
          <p:nvPr/>
        </p:nvPicPr>
        <p:blipFill>
          <a:blip r:embed="rId1"/>
          <a:stretch/>
        </p:blipFill>
        <p:spPr>
          <a:xfrm>
            <a:off x="3124080" y="25092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myjrad1_uw0312-24tx.gif"/>
          <p:cNvPicPr/>
          <p:nvPr/>
        </p:nvPicPr>
        <p:blipFill>
          <a:blip r:embed="rId2"/>
          <a:stretch/>
        </p:blipFill>
        <p:spPr>
          <a:xfrm>
            <a:off x="152280" y="210960"/>
            <a:ext cx="3017880" cy="226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gfsrad99_uw0312-24tx.gif"/>
          <p:cNvPicPr/>
          <p:nvPr/>
        </p:nvPicPr>
        <p:blipFill>
          <a:blip r:embed="rId3"/>
          <a:stretch/>
        </p:blipFill>
        <p:spPr>
          <a:xfrm>
            <a:off x="5943600" y="30492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gfsrad99mp4_uw0312-24tx.gif"/>
          <p:cNvPicPr/>
          <p:nvPr/>
        </p:nvPicPr>
        <p:blipFill>
          <a:blip r:embed="rId4"/>
          <a:stretch/>
        </p:blipFill>
        <p:spPr>
          <a:xfrm>
            <a:off x="152280" y="233676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gfsrad99mp6_uw0312-24tx.gif"/>
          <p:cNvPicPr/>
          <p:nvPr/>
        </p:nvPicPr>
        <p:blipFill>
          <a:blip r:embed="rId5"/>
          <a:stretch/>
        </p:blipFill>
        <p:spPr>
          <a:xfrm>
            <a:off x="3154320" y="246060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gfsrad99mp8_uw0312-24tx.gif"/>
          <p:cNvPicPr/>
          <p:nvPr/>
        </p:nvPicPr>
        <p:blipFill>
          <a:blip r:embed="rId6"/>
          <a:stretch/>
        </p:blipFill>
        <p:spPr>
          <a:xfrm>
            <a:off x="5943600" y="246060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gfsrad99mp5nocpsd2_uw0312-24tx.gif"/>
          <p:cNvPicPr/>
          <p:nvPr/>
        </p:nvPicPr>
        <p:blipFill>
          <a:blip r:embed="rId7"/>
          <a:stretch/>
        </p:blipFill>
        <p:spPr>
          <a:xfrm>
            <a:off x="228600" y="46483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myjrad1bm_uw0312-24tx.gif"/>
          <p:cNvPicPr/>
          <p:nvPr/>
        </p:nvPicPr>
        <p:blipFill>
          <a:blip r:embed="rId8"/>
          <a:stretch/>
        </p:blipFill>
        <p:spPr>
          <a:xfrm>
            <a:off x="3200400" y="4670280"/>
            <a:ext cx="3017880" cy="2264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gfsrad99mp5bm_uw0312-24tx.gif"/>
          <p:cNvPicPr/>
          <p:nvPr/>
        </p:nvPicPr>
        <p:blipFill>
          <a:blip r:embed="rId9"/>
          <a:stretch/>
        </p:blipFill>
        <p:spPr>
          <a:xfrm>
            <a:off x="5973840" y="4670280"/>
            <a:ext cx="3017880" cy="2264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0"/>
          <p:cNvSpPr/>
          <p:nvPr/>
        </p:nvSpPr>
        <p:spPr>
          <a:xfrm>
            <a:off x="1983960" y="3808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5032080" y="3808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7851600" y="4572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1983960" y="24382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5032080" y="259092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7851600" y="259092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2060280" y="48006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5032080" y="48006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7851600" y="48006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155520" y="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-24 h 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gfsrad1_uw0336-48tx.gif"/>
          <p:cNvPicPr/>
          <p:nvPr/>
        </p:nvPicPr>
        <p:blipFill>
          <a:blip r:embed="rId1"/>
          <a:stretch/>
        </p:blipFill>
        <p:spPr>
          <a:xfrm>
            <a:off x="3154320" y="32220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myjrad1_uw0336-48tx.gif"/>
          <p:cNvPicPr/>
          <p:nvPr/>
        </p:nvPicPr>
        <p:blipFill>
          <a:blip r:embed="rId2"/>
          <a:stretch/>
        </p:blipFill>
        <p:spPr>
          <a:xfrm>
            <a:off x="106200" y="30492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gfsrad99_uw0336-48tx.gif"/>
          <p:cNvPicPr/>
          <p:nvPr/>
        </p:nvPicPr>
        <p:blipFill>
          <a:blip r:embed="rId3"/>
          <a:stretch/>
        </p:blipFill>
        <p:spPr>
          <a:xfrm>
            <a:off x="5943600" y="32868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gfsrad99mp4_uw0336-48tx.gif"/>
          <p:cNvPicPr/>
          <p:nvPr/>
        </p:nvPicPr>
        <p:blipFill>
          <a:blip r:embed="rId4"/>
          <a:stretch/>
        </p:blipFill>
        <p:spPr>
          <a:xfrm>
            <a:off x="106200" y="2438280"/>
            <a:ext cx="3017880" cy="2264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gfsrad99mp6_uw0336-48tx.gif"/>
          <p:cNvPicPr/>
          <p:nvPr/>
        </p:nvPicPr>
        <p:blipFill>
          <a:blip r:embed="rId5"/>
          <a:stretch/>
        </p:blipFill>
        <p:spPr>
          <a:xfrm>
            <a:off x="3179880" y="2438280"/>
            <a:ext cx="3017880" cy="226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gfsrad99mp8_uw0336-48tx.gif"/>
          <p:cNvPicPr/>
          <p:nvPr/>
        </p:nvPicPr>
        <p:blipFill>
          <a:blip r:embed="rId6"/>
          <a:stretch/>
        </p:blipFill>
        <p:spPr>
          <a:xfrm>
            <a:off x="5973840" y="246060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gfsrad99mp5nocpsd2_uw0336-48tx.gif"/>
          <p:cNvPicPr/>
          <p:nvPr/>
        </p:nvPicPr>
        <p:blipFill>
          <a:blip r:embed="rId7"/>
          <a:stretch/>
        </p:blipFill>
        <p:spPr>
          <a:xfrm>
            <a:off x="304920" y="4724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myjrad1bm_uw0336-48tx.gif"/>
          <p:cNvPicPr/>
          <p:nvPr/>
        </p:nvPicPr>
        <p:blipFill>
          <a:blip r:embed="rId8"/>
          <a:stretch/>
        </p:blipFill>
        <p:spPr>
          <a:xfrm>
            <a:off x="3198960" y="4648320"/>
            <a:ext cx="3017520" cy="2263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gfsrad99mp5bm_uw0336-48tx.gif"/>
          <p:cNvPicPr/>
          <p:nvPr/>
        </p:nvPicPr>
        <p:blipFill>
          <a:blip r:embed="rId9"/>
          <a:stretch/>
        </p:blipFill>
        <p:spPr>
          <a:xfrm>
            <a:off x="5973840" y="4670280"/>
            <a:ext cx="3017880" cy="2264040"/>
          </a:xfrm>
          <a:prstGeom prst="rect">
            <a:avLst/>
          </a:prstGeom>
          <a:ln w="0">
            <a:noFill/>
          </a:ln>
        </p:spPr>
      </p:pic>
      <p:sp>
        <p:nvSpPr>
          <p:cNvPr id="89" name="TextBox 10"/>
          <p:cNvSpPr/>
          <p:nvPr/>
        </p:nvSpPr>
        <p:spPr>
          <a:xfrm>
            <a:off x="1937880" y="45396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986000" y="4748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7775280" y="4572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1937880" y="259092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5005080" y="259092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7824600" y="25876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1937880" y="48006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081400" y="48006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7824600" y="479736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.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77760" y="7308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-48 h 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ontrolgfsmyjustazimuthmean1224.gif"/>
          <p:cNvPicPr/>
          <p:nvPr/>
        </p:nvPicPr>
        <p:blipFill>
          <a:blip r:embed="rId1"/>
          <a:srcRect l="0" t="8890" r="0" b="0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3613320" y="662040"/>
          <a:ext cx="4190760" cy="3505320"/>
        </p:xfrm>
        <a:graphic>
          <a:graphicData uri="http://schemas.openxmlformats.org/drawingml/2006/table">
            <a:tbl>
              <a:tblPr/>
              <a:tblGrid>
                <a:gridCol w="672840"/>
                <a:gridCol w="698760"/>
                <a:gridCol w="1171440"/>
                <a:gridCol w="733320"/>
                <a:gridCol w="914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ndary Layer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ctive parameterization scheme (D1/D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physics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ck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e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enta 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nge 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le (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y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(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Box 3"/>
          <p:cNvSpPr/>
          <p:nvPr/>
        </p:nvSpPr>
        <p:spPr>
          <a:xfrm>
            <a:off x="2832120" y="15228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T 12-24 hour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trlgfsshflxazimuthmean3648.gif"/>
          <p:cNvPicPr/>
          <p:nvPr/>
        </p:nvPicPr>
        <p:blipFill>
          <a:blip r:embed="rId1"/>
          <a:srcRect l="0" t="8890" r="0" b="0"/>
          <a:stretch/>
        </p:blipFill>
        <p:spPr>
          <a:xfrm>
            <a:off x="0" y="380880"/>
            <a:ext cx="9144000" cy="624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3605040" y="433440"/>
          <a:ext cx="4191120" cy="3597120"/>
        </p:xfrm>
        <a:graphic>
          <a:graphicData uri="http://schemas.openxmlformats.org/drawingml/2006/table">
            <a:tbl>
              <a:tblPr/>
              <a:tblGrid>
                <a:gridCol w="673200"/>
                <a:gridCol w="698400"/>
                <a:gridCol w="1171800"/>
                <a:gridCol w="733320"/>
                <a:gridCol w="91440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ndary Layer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ctive parameterization scheme (D1/D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physics sch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ck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e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enta 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nge 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le (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/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y 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(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/B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Box 3"/>
          <p:cNvSpPr/>
          <p:nvPr/>
        </p:nvSpPr>
        <p:spPr>
          <a:xfrm>
            <a:off x="2229120" y="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ible Heat Flux 12-24 hour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6:15:52Z</dcterms:created>
  <dc:creator>J.-W. Bao</dc:creator>
  <dc:description/>
  <dc:language>en-US</dc:language>
  <cp:lastModifiedBy>J.-W. Bao</cp:lastModifiedBy>
  <dcterms:modified xsi:type="dcterms:W3CDTF">2010-02-18T01:09:20Z</dcterms:modified>
  <cp:revision>61</cp:revision>
  <dc:subject/>
  <dc:title>Idealized Strom Intensification in HWRFX: Sensitivity to Physics</dc:title>
</cp:coreProperties>
</file>