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00D0-7D93-43BE-A013-39DE386B5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4C25-B5C4-4E3F-8245-539B3F3AB697}" type="slidenum">
              <a:rPr b="0" lang="en-US" sz="12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B78-7651-4F60-B92B-8389794F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0E5-74FE-4600-9779-D723168D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E9E-FA7F-464E-AB42-A946758A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AD8-DB24-487B-B835-18263793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E5A1-E8AA-4D2F-AA97-14475467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58B4-834E-4965-B792-A7158C34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32F3-01F6-4ACF-8649-4D7ECDB6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9C4D-CF5C-436F-8F3D-8C60716D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916C-1D1C-430D-AC51-D3DDDC81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1198-8ED5-4EE8-8442-0EDB83E8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965D-A1A0-4FCA-A630-C11BFBEF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D4A-3176-4027-8B0B-80372AF3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E620-5A79-4C73-897B-797DC727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CD47-0B8E-407F-BA0A-1B5F2477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4E11-4489-4510-8B5B-959ECA7D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AD30-7E01-4D48-B95D-80441BC6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BDD3-2372-4DF7-8229-0049C739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2DE8-E348-4234-BE2C-BD173180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840F-32C3-4B41-97C3-FCF69B1C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A164-6D8A-40DC-B8D6-D1D549EC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9ACF-5F75-432C-BEB3-BA380945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960A-2AD5-4077-9C07-4C7626F9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2C3-E443-42E9-9F00-E29D5BCF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22C9-E901-42DD-8A87-A2904C5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2557-8463-40F7-8366-6EAB1920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827C7-DFEF-449E-9E1B-88CEBE66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8EFB-A3B0-4391-85D1-AD5FF151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204C4-ADF5-4108-8568-127D1A7A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7039-C3CC-4936-9795-E93772C3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C8FB-5D91-431A-8D2F-4537636E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2F1C-E5C9-47CD-BBDE-01FCEF29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0B4C-A9C3-45CA-9ECB-88033B52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B740F-2F2A-4F10-A94D-D23EE2CD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7A8-B03E-4C69-99EF-45585B69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917C6-2527-4C50-9D43-79B84CD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76AC-0F65-4693-843D-9AA0204B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547A4-E70F-4D7F-94F6-376E2531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78549-7943-44B8-8CD5-81389591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11190-9C85-49A9-BABF-14494E0E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8965-8E72-47CE-A328-B0343F67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47A9E-38F0-4D8C-ADDB-9015F04A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75A8F-DDF2-445A-9789-757D2900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0CF09-473C-4371-B722-86554CFA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734BC-F37B-461A-8787-1F8A8338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3E3-0E64-4597-B6F8-6D1BF168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10A7C-A886-451E-B25F-367DD9D0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34E6A-67A6-4118-B0D3-E5F1BF64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386D7-D071-4B57-9CD2-C0393560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F7534-C9E5-4315-9E21-F22A05E1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433C8-785D-4B17-94A8-D58032C9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234D6-A851-41AD-AF02-0ACB9185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DC521-904E-42D6-921F-156DC5C7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13D8-FA7F-45F2-B6F7-6CA2CFD9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12A7B-DF25-4037-ACCD-4AA63DC4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A73F8-6016-49E8-8ED3-22D98A1F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B68-F9C3-46D2-A66D-DCC61DE1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6E686-2DE6-4F52-B0D1-10FA17CB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1C4-3E41-4395-A7C1-C56C5F6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644-0763-4143-AAAC-2584849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751-8B65-4A21-A5ED-CB96BC76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D49A-8221-4522-BFAA-BFD53544819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8F5C-EE34-4FAA-85C9-3DB5AC29CD6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ED5B-327E-44E0-A221-417AD1FDA0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AD84-6C08-4C58-9E76-8D73A309353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6263-473E-4F0A-89F5-2873466793F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9.png"/><Relationship Id="rId14" Type="http://schemas.openxmlformats.org/officeDocument/2006/relationships/image" Target="../media/image2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69"/>
          <p:cNvGrpSpPr/>
          <p:nvPr/>
        </p:nvGrpSpPr>
        <p:grpSpPr>
          <a:xfrm>
            <a:off x="152280" y="2362320"/>
            <a:ext cx="3143520" cy="3979800"/>
            <a:chOff x="152280" y="2362320"/>
            <a:chExt cx="3143520" cy="3979800"/>
          </a:xfrm>
        </p:grpSpPr>
        <p:sp>
          <p:nvSpPr>
            <p:cNvPr id="236" name="Rectangle 35"/>
            <p:cNvSpPr/>
            <p:nvPr/>
          </p:nvSpPr>
          <p:spPr>
            <a:xfrm>
              <a:off x="1779480" y="2362320"/>
              <a:ext cx="1516320" cy="372240"/>
            </a:xfrm>
            <a:prstGeom prst="rect">
              <a:avLst/>
            </a:prstGeom>
            <a:solidFill>
              <a:srgbClr val="9bbb59"/>
            </a:solidFill>
            <a:ln w="9360">
              <a:solidFill>
                <a:srgbClr val="4f81bd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WRF V3.2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237" name="Rectangle 11"/>
            <p:cNvSpPr/>
            <p:nvPr/>
          </p:nvSpPr>
          <p:spPr>
            <a:xfrm>
              <a:off x="1779480" y="2885400"/>
              <a:ext cx="1516320" cy="3722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4f81bd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WRF V3.1.1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grpSp>
          <p:nvGrpSpPr>
            <p:cNvPr id="238" name="Rectangle 13"/>
            <p:cNvGrpSpPr/>
            <p:nvPr/>
          </p:nvGrpSpPr>
          <p:grpSpPr>
            <a:xfrm>
              <a:off x="1728360" y="3363840"/>
              <a:ext cx="1498320" cy="496080"/>
              <a:chOff x="1728360" y="3363840"/>
              <a:chExt cx="1498320" cy="496080"/>
            </a:xfrm>
          </p:grpSpPr>
          <p:pic>
            <p:nvPicPr>
              <p:cNvPr id="239" name="Rectangl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28360" y="3363840"/>
                <a:ext cx="1498320" cy="4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1779120" y="3408480"/>
                <a:ext cx="139428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Perpetua"/>
                  </a:rPr>
                  <a:t>WRF V3.1</a:t>
                </a: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grpSp>
          <p:nvGrpSpPr>
            <p:cNvPr id="241" name="Rectangle 14"/>
            <p:cNvGrpSpPr/>
            <p:nvPr/>
          </p:nvGrpSpPr>
          <p:grpSpPr>
            <a:xfrm>
              <a:off x="1728360" y="3961800"/>
              <a:ext cx="1498320" cy="496080"/>
              <a:chOff x="1728360" y="3961800"/>
              <a:chExt cx="1498320" cy="496080"/>
            </a:xfrm>
          </p:grpSpPr>
          <p:pic>
            <p:nvPicPr>
              <p:cNvPr id="242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28360" y="3961800"/>
                <a:ext cx="1498320" cy="4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1779120" y="4006440"/>
                <a:ext cx="139428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Perpetua"/>
                  </a:rPr>
                  <a:t>WRF V3.0</a:t>
                </a: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grpSp>
          <p:nvGrpSpPr>
            <p:cNvPr id="244" name="Rectangle 15"/>
            <p:cNvGrpSpPr/>
            <p:nvPr/>
          </p:nvGrpSpPr>
          <p:grpSpPr>
            <a:xfrm>
              <a:off x="1728360" y="4565880"/>
              <a:ext cx="1498320" cy="490320"/>
              <a:chOff x="1728360" y="4565880"/>
              <a:chExt cx="1498320" cy="490320"/>
            </a:xfrm>
          </p:grpSpPr>
          <p:pic>
            <p:nvPicPr>
              <p:cNvPr id="245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728360" y="4565880"/>
                <a:ext cx="1498320" cy="4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1779480" y="4607280"/>
                <a:ext cx="139428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Perpetua"/>
                  </a:rPr>
                  <a:t>WRF V2.2</a:t>
                </a: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grpSp>
          <p:nvGrpSpPr>
            <p:cNvPr id="247" name="Rectangle 16"/>
            <p:cNvGrpSpPr/>
            <p:nvPr/>
          </p:nvGrpSpPr>
          <p:grpSpPr>
            <a:xfrm>
              <a:off x="1680480" y="5235840"/>
              <a:ext cx="1504080" cy="496080"/>
              <a:chOff x="1680480" y="5235840"/>
              <a:chExt cx="1504080" cy="496080"/>
            </a:xfrm>
          </p:grpSpPr>
          <p:pic>
            <p:nvPicPr>
              <p:cNvPr id="248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680480" y="5235840"/>
                <a:ext cx="1504080" cy="4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1734480" y="5279400"/>
                <a:ext cx="139428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Perpetua"/>
                  </a:rPr>
                  <a:t>WRF V2.1</a:t>
                </a: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grpSp>
          <p:nvGrpSpPr>
            <p:cNvPr id="250" name="Rectangle 17"/>
            <p:cNvGrpSpPr/>
            <p:nvPr/>
          </p:nvGrpSpPr>
          <p:grpSpPr>
            <a:xfrm>
              <a:off x="1698480" y="5851800"/>
              <a:ext cx="1498320" cy="490320"/>
              <a:chOff x="1698480" y="5851800"/>
              <a:chExt cx="1498320" cy="490320"/>
            </a:xfrm>
          </p:grpSpPr>
          <p:pic>
            <p:nvPicPr>
              <p:cNvPr id="251" name="Rectangl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8480" y="5851800"/>
                <a:ext cx="1498320" cy="4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1749960" y="5894280"/>
                <a:ext cx="139428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Perpetua"/>
                  </a:rPr>
                  <a:t>WRF V2</a:t>
                </a: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grpSp>
          <p:nvGrpSpPr>
            <p:cNvPr id="253" name="Rectangle 18"/>
            <p:cNvGrpSpPr/>
            <p:nvPr/>
          </p:nvGrpSpPr>
          <p:grpSpPr>
            <a:xfrm>
              <a:off x="158040" y="5851800"/>
              <a:ext cx="1504080" cy="490320"/>
              <a:chOff x="158040" y="5851800"/>
              <a:chExt cx="1504080" cy="490320"/>
            </a:xfrm>
          </p:grpSpPr>
          <p:pic>
            <p:nvPicPr>
              <p:cNvPr id="254" name="Rectangle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58040" y="5851800"/>
                <a:ext cx="1504080" cy="4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213480" y="5894280"/>
                <a:ext cx="139428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Perpetua"/>
                  </a:rPr>
                  <a:t>05/2004</a:t>
                </a: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grpSp>
          <p:nvGrpSpPr>
            <p:cNvPr id="256" name="Rectangle 19"/>
            <p:cNvGrpSpPr/>
            <p:nvPr/>
          </p:nvGrpSpPr>
          <p:grpSpPr>
            <a:xfrm>
              <a:off x="230040" y="2843640"/>
              <a:ext cx="1498320" cy="490320"/>
              <a:chOff x="230040" y="2843640"/>
              <a:chExt cx="1498320" cy="490320"/>
            </a:xfrm>
          </p:grpSpPr>
          <p:pic>
            <p:nvPicPr>
              <p:cNvPr id="257" name="Rectangle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230040" y="2843640"/>
                <a:ext cx="1498320" cy="4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280800" y="2885400"/>
                <a:ext cx="139428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Perpetua"/>
                  </a:rPr>
                  <a:t>07/2009</a:t>
                </a: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grpSp>
          <p:nvGrpSpPr>
            <p:cNvPr id="259" name="Up Arrow 28"/>
            <p:cNvGrpSpPr/>
            <p:nvPr/>
          </p:nvGrpSpPr>
          <p:grpSpPr>
            <a:xfrm>
              <a:off x="2345760" y="3651120"/>
              <a:ext cx="263520" cy="400680"/>
              <a:chOff x="2345760" y="3651120"/>
              <a:chExt cx="263520" cy="400680"/>
            </a:xfrm>
          </p:grpSpPr>
          <p:pic>
            <p:nvPicPr>
              <p:cNvPr id="260" name="Up Arrow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345760" y="3651120"/>
                <a:ext cx="263520" cy="40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464920" y="3719160"/>
                <a:ext cx="2232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grpSp>
          <p:nvGrpSpPr>
            <p:cNvPr id="262" name="Up Arrow 29"/>
            <p:cNvGrpSpPr/>
            <p:nvPr/>
          </p:nvGrpSpPr>
          <p:grpSpPr>
            <a:xfrm>
              <a:off x="2345760" y="3202560"/>
              <a:ext cx="263520" cy="400680"/>
              <a:chOff x="2345760" y="3202560"/>
              <a:chExt cx="263520" cy="400680"/>
            </a:xfrm>
          </p:grpSpPr>
          <p:pic>
            <p:nvPicPr>
              <p:cNvPr id="263" name="Up Arrow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2345760" y="3202560"/>
                <a:ext cx="263520" cy="40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2464920" y="3270600"/>
                <a:ext cx="2232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grpSp>
          <p:nvGrpSpPr>
            <p:cNvPr id="265" name="Up Arrow 34"/>
            <p:cNvGrpSpPr/>
            <p:nvPr/>
          </p:nvGrpSpPr>
          <p:grpSpPr>
            <a:xfrm>
              <a:off x="2273760" y="2676240"/>
              <a:ext cx="263520" cy="406440"/>
              <a:chOff x="2273760" y="2676240"/>
              <a:chExt cx="263520" cy="406440"/>
            </a:xfrm>
          </p:grpSpPr>
          <p:pic>
            <p:nvPicPr>
              <p:cNvPr id="266" name="Up Arrow 34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3760" y="2676240"/>
                <a:ext cx="26352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2389680" y="2747160"/>
                <a:ext cx="2232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sp>
          <p:nvSpPr>
            <p:cNvPr id="268" name="Rectangle 36"/>
            <p:cNvSpPr/>
            <p:nvPr/>
          </p:nvSpPr>
          <p:spPr>
            <a:xfrm>
              <a:off x="280800" y="2362320"/>
              <a:ext cx="1394280" cy="372240"/>
            </a:xfrm>
            <a:prstGeom prst="rect">
              <a:avLst/>
            </a:prstGeom>
            <a:solidFill>
              <a:srgbClr val="9bbb59"/>
            </a:solidFill>
            <a:ln w="9360">
              <a:solidFill>
                <a:srgbClr val="f79646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03/2010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grpSp>
          <p:nvGrpSpPr>
            <p:cNvPr id="269" name="Rectangle 65"/>
            <p:cNvGrpSpPr/>
            <p:nvPr/>
          </p:nvGrpSpPr>
          <p:grpSpPr>
            <a:xfrm>
              <a:off x="158040" y="5235840"/>
              <a:ext cx="1504080" cy="496080"/>
              <a:chOff x="158040" y="5235840"/>
              <a:chExt cx="1504080" cy="496080"/>
            </a:xfrm>
          </p:grpSpPr>
          <p:pic>
            <p:nvPicPr>
              <p:cNvPr id="270" name="Rectangle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58040" y="5235840"/>
                <a:ext cx="1504080" cy="4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13480" y="5279400"/>
                <a:ext cx="139428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Perpetua"/>
                  </a:rPr>
                  <a:t>08/2005</a:t>
                </a: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grpSp>
          <p:nvGrpSpPr>
            <p:cNvPr id="272" name="Rectangle 66"/>
            <p:cNvGrpSpPr/>
            <p:nvPr/>
          </p:nvGrpSpPr>
          <p:grpSpPr>
            <a:xfrm>
              <a:off x="158040" y="4565880"/>
              <a:ext cx="1504080" cy="490320"/>
              <a:chOff x="158040" y="4565880"/>
              <a:chExt cx="1504080" cy="490320"/>
            </a:xfrm>
          </p:grpSpPr>
          <p:pic>
            <p:nvPicPr>
              <p:cNvPr id="273" name="Rectangle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8040" y="4565880"/>
                <a:ext cx="1504080" cy="4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13480" y="4607280"/>
                <a:ext cx="139428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Perpetua"/>
                  </a:rPr>
                  <a:t>12/2006</a:t>
                </a: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grpSp>
          <p:nvGrpSpPr>
            <p:cNvPr id="275" name="Rectangle 67"/>
            <p:cNvGrpSpPr/>
            <p:nvPr/>
          </p:nvGrpSpPr>
          <p:grpSpPr>
            <a:xfrm>
              <a:off x="152280" y="3961800"/>
              <a:ext cx="1504080" cy="496080"/>
              <a:chOff x="152280" y="3961800"/>
              <a:chExt cx="1504080" cy="496080"/>
            </a:xfrm>
          </p:grpSpPr>
          <p:pic>
            <p:nvPicPr>
              <p:cNvPr id="276" name="Rectangle 6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52280" y="3961800"/>
                <a:ext cx="1504080" cy="4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205920" y="4006440"/>
                <a:ext cx="139428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Perpetua"/>
                  </a:rPr>
                  <a:t>04/2008</a:t>
                </a: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grpSp>
          <p:nvGrpSpPr>
            <p:cNvPr id="278" name="Rectangle 68"/>
            <p:cNvGrpSpPr/>
            <p:nvPr/>
          </p:nvGrpSpPr>
          <p:grpSpPr>
            <a:xfrm>
              <a:off x="230040" y="3363840"/>
              <a:ext cx="1498320" cy="496080"/>
              <a:chOff x="230040" y="3363840"/>
              <a:chExt cx="1498320" cy="496080"/>
            </a:xfrm>
          </p:grpSpPr>
          <p:pic>
            <p:nvPicPr>
              <p:cNvPr id="279" name="Rectangle 68" descr=""/>
              <p:cNvPicPr/>
              <p:nvPr/>
            </p:nvPicPr>
            <p:blipFill>
              <a:blip r:embed="rId14"/>
              <a:stretch/>
            </p:blipFill>
            <p:spPr>
              <a:xfrm>
                <a:off x="230040" y="3363840"/>
                <a:ext cx="1498320" cy="4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280800" y="3408480"/>
                <a:ext cx="139428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Perpetua"/>
                  </a:rPr>
                  <a:t>04/2009</a:t>
                </a: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</p:grpSp>
      <p:sp>
        <p:nvSpPr>
          <p:cNvPr id="281" name="Rectangle 2"/>
          <p:cNvSpPr/>
          <p:nvPr/>
        </p:nvSpPr>
        <p:spPr>
          <a:xfrm>
            <a:off x="736560" y="487440"/>
            <a:ext cx="8688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Franklin Gothic Book"/>
              </a:rPr>
              <a:t>HWRF code management: </a:t>
            </a:r>
            <a:br>
              <a:rPr sz="3600"/>
            </a:br>
            <a:r>
              <a:rPr b="0" lang="en-GB" sz="1800" spc="-1" strike="noStrike">
                <a:solidFill>
                  <a:srgbClr val="1f497d"/>
                </a:solidFill>
                <a:latin typeface="Franklin Gothic Book"/>
              </a:rPr>
              <a:t>a new mechanism to facilitate collaboration between research and operation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82" name="Up Arrow 24"/>
          <p:cNvGrpSpPr/>
          <p:nvPr/>
        </p:nvGrpSpPr>
        <p:grpSpPr>
          <a:xfrm>
            <a:off x="2305080" y="5651640"/>
            <a:ext cx="272880" cy="414360"/>
            <a:chOff x="2305080" y="5651640"/>
            <a:chExt cx="272880" cy="414360"/>
          </a:xfrm>
        </p:grpSpPr>
        <p:pic>
          <p:nvPicPr>
            <p:cNvPr id="283" name="Up Arrow 24" descr=""/>
            <p:cNvPicPr/>
            <p:nvPr/>
          </p:nvPicPr>
          <p:blipFill>
            <a:blip r:embed="rId15"/>
            <a:stretch/>
          </p:blipFill>
          <p:spPr>
            <a:xfrm>
              <a:off x="2305080" y="5651640"/>
              <a:ext cx="2728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427120" y="5726160"/>
              <a:ext cx="241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85" name="Up Arrow 26"/>
          <p:cNvGrpSpPr/>
          <p:nvPr/>
        </p:nvGrpSpPr>
        <p:grpSpPr>
          <a:xfrm>
            <a:off x="2305080" y="5029200"/>
            <a:ext cx="272880" cy="407880"/>
            <a:chOff x="2305080" y="5029200"/>
            <a:chExt cx="272880" cy="407880"/>
          </a:xfrm>
        </p:grpSpPr>
        <p:pic>
          <p:nvPicPr>
            <p:cNvPr id="286" name="Up Arrow 26" descr=""/>
            <p:cNvPicPr/>
            <p:nvPr/>
          </p:nvPicPr>
          <p:blipFill>
            <a:blip r:embed="rId16"/>
            <a:stretch/>
          </p:blipFill>
          <p:spPr>
            <a:xfrm>
              <a:off x="2305080" y="5029200"/>
              <a:ext cx="27288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427120" y="5099040"/>
              <a:ext cx="241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88" name="Up Arrow 27"/>
          <p:cNvGrpSpPr/>
          <p:nvPr/>
        </p:nvGrpSpPr>
        <p:grpSpPr>
          <a:xfrm>
            <a:off x="2328840" y="4359240"/>
            <a:ext cx="268200" cy="414360"/>
            <a:chOff x="2328840" y="4359240"/>
            <a:chExt cx="268200" cy="414360"/>
          </a:xfrm>
        </p:grpSpPr>
        <p:pic>
          <p:nvPicPr>
            <p:cNvPr id="289" name="Up Arrow 27" descr=""/>
            <p:cNvPicPr/>
            <p:nvPr/>
          </p:nvPicPr>
          <p:blipFill>
            <a:blip r:embed="rId17"/>
            <a:stretch/>
          </p:blipFill>
          <p:spPr>
            <a:xfrm>
              <a:off x="2328840" y="4359240"/>
              <a:ext cx="2682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2449440" y="4430880"/>
              <a:ext cx="237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91" name="Group 45"/>
          <p:cNvGrpSpPr/>
          <p:nvPr/>
        </p:nvGrpSpPr>
        <p:grpSpPr>
          <a:xfrm>
            <a:off x="3124080" y="1797120"/>
            <a:ext cx="5469120" cy="379440"/>
            <a:chOff x="3124080" y="1797120"/>
            <a:chExt cx="5469120" cy="379440"/>
          </a:xfrm>
        </p:grpSpPr>
        <p:sp>
          <p:nvSpPr>
            <p:cNvPr id="292" name="Rectangle 51"/>
            <p:cNvSpPr/>
            <p:nvPr/>
          </p:nvSpPr>
          <p:spPr>
            <a:xfrm>
              <a:off x="3734280" y="1797120"/>
              <a:ext cx="4858920" cy="379440"/>
            </a:xfrm>
            <a:prstGeom prst="rect">
              <a:avLst/>
            </a:prstGeom>
            <a:solidFill>
              <a:srgbClr val="9bbb59"/>
            </a:solidFill>
            <a:ln w="9360">
              <a:solidFill>
                <a:srgbClr val="4f81bd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HWRF configuration for operations (2011)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293" name="Right Arrow 50"/>
            <p:cNvSpPr/>
            <p:nvPr/>
          </p:nvSpPr>
          <p:spPr>
            <a:xfrm>
              <a:off x="3124080" y="1981440"/>
              <a:ext cx="468720" cy="4572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f79646"/>
            </a:solidFill>
            <a:ln w="35280">
              <a:solidFill>
                <a:srgbClr val="9bbb59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294" name="Group 75"/>
          <p:cNvGrpSpPr/>
          <p:nvPr/>
        </p:nvGrpSpPr>
        <p:grpSpPr>
          <a:xfrm>
            <a:off x="2508120" y="1265400"/>
            <a:ext cx="1954440" cy="1112400"/>
            <a:chOff x="2508120" y="1265400"/>
            <a:chExt cx="1954440" cy="1112400"/>
          </a:xfrm>
        </p:grpSpPr>
        <p:sp>
          <p:nvSpPr>
            <p:cNvPr id="295" name="Rectangle 60"/>
            <p:cNvSpPr/>
            <p:nvPr/>
          </p:nvSpPr>
          <p:spPr>
            <a:xfrm>
              <a:off x="2508120" y="1265400"/>
              <a:ext cx="1954440" cy="3790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4f81bd"/>
              </a:solidFill>
              <a:miter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Extensive Testing</a:t>
              </a: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296" name="Straight Connector 63"/>
            <p:cNvSpPr/>
            <p:nvPr/>
          </p:nvSpPr>
          <p:spPr>
            <a:xfrm flipV="1">
              <a:off x="3479040" y="1644480"/>
              <a:ext cx="0" cy="733320"/>
            </a:xfrm>
            <a:prstGeom prst="line">
              <a:avLst/>
            </a:prstGeom>
            <a:ln w="12600">
              <a:solidFill>
                <a:srgbClr val="6600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297" name="Rectangle 74"/>
          <p:cNvSpPr/>
          <p:nvPr/>
        </p:nvSpPr>
        <p:spPr>
          <a:xfrm>
            <a:off x="439560" y="1265400"/>
            <a:ext cx="1954440" cy="379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WRF Repositor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Right Arrow 46"/>
          <p:cNvSpPr/>
          <p:nvPr/>
        </p:nvSpPr>
        <p:spPr>
          <a:xfrm>
            <a:off x="4419720" y="6095880"/>
            <a:ext cx="304560" cy="46080"/>
          </a:xfrm>
          <a:prstGeom prst="rightArrow">
            <a:avLst>
              <a:gd name="adj1" fmla="val 50000"/>
              <a:gd name="adj2" fmla="val 49570"/>
            </a:avLst>
          </a:prstGeom>
          <a:solidFill>
            <a:srgbClr val="f79646"/>
          </a:solidFill>
          <a:ln w="35280">
            <a:solidFill>
              <a:srgbClr val="f79646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Rectangle 49"/>
          <p:cNvSpPr/>
          <p:nvPr/>
        </p:nvSpPr>
        <p:spPr>
          <a:xfrm>
            <a:off x="3429000" y="5943600"/>
            <a:ext cx="990720" cy="457200"/>
          </a:xfrm>
          <a:prstGeom prst="rect">
            <a:avLst/>
          </a:prstGeom>
          <a:solidFill>
            <a:srgbClr val="f79646"/>
          </a:solidFill>
          <a:ln w="9360">
            <a:solidFill>
              <a:srgbClr val="39659b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erpetua"/>
              </a:rPr>
              <a:t>oper HWRF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erpetu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Right Arrow 53"/>
          <p:cNvSpPr/>
          <p:nvPr/>
        </p:nvSpPr>
        <p:spPr>
          <a:xfrm>
            <a:off x="3124080" y="609588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f79646"/>
          </a:solidFill>
          <a:ln w="35280">
            <a:solidFill>
              <a:srgbClr val="f79646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Right Arrow 54"/>
          <p:cNvSpPr/>
          <p:nvPr/>
        </p:nvSpPr>
        <p:spPr>
          <a:xfrm flipV="1">
            <a:off x="7162920" y="6095880"/>
            <a:ext cx="304560" cy="46080"/>
          </a:xfrm>
          <a:prstGeom prst="rightArrow">
            <a:avLst>
              <a:gd name="adj1" fmla="val 50000"/>
              <a:gd name="adj2" fmla="val 49570"/>
            </a:avLst>
          </a:prstGeom>
          <a:solidFill>
            <a:srgbClr val="f79646"/>
          </a:solidFill>
          <a:ln w="35280">
            <a:solidFill>
              <a:srgbClr val="f79646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Right Arrow 55"/>
          <p:cNvSpPr/>
          <p:nvPr/>
        </p:nvSpPr>
        <p:spPr>
          <a:xfrm>
            <a:off x="5791320" y="6095880"/>
            <a:ext cx="304560" cy="46080"/>
          </a:xfrm>
          <a:prstGeom prst="rightArrow">
            <a:avLst>
              <a:gd name="adj1" fmla="val 50000"/>
              <a:gd name="adj2" fmla="val 49570"/>
            </a:avLst>
          </a:prstGeom>
          <a:solidFill>
            <a:srgbClr val="f79646"/>
          </a:solidFill>
          <a:ln w="35280">
            <a:solidFill>
              <a:srgbClr val="f79646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Rectangle 56"/>
          <p:cNvSpPr/>
          <p:nvPr/>
        </p:nvSpPr>
        <p:spPr>
          <a:xfrm>
            <a:off x="4800600" y="5943600"/>
            <a:ext cx="990720" cy="457200"/>
          </a:xfrm>
          <a:prstGeom prst="rect">
            <a:avLst/>
          </a:prstGeom>
          <a:solidFill>
            <a:srgbClr val="f79646"/>
          </a:solidFill>
          <a:ln w="9360">
            <a:solidFill>
              <a:srgbClr val="39659b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erpetua"/>
              </a:rPr>
              <a:t>oper HWRF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erpetu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Rectangle 57"/>
          <p:cNvSpPr/>
          <p:nvPr/>
        </p:nvSpPr>
        <p:spPr>
          <a:xfrm>
            <a:off x="6172200" y="5943600"/>
            <a:ext cx="990720" cy="457200"/>
          </a:xfrm>
          <a:prstGeom prst="rect">
            <a:avLst/>
          </a:prstGeom>
          <a:solidFill>
            <a:srgbClr val="f79646"/>
          </a:solidFill>
          <a:ln w="9360">
            <a:solidFill>
              <a:srgbClr val="39659b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erpetua"/>
              </a:rPr>
              <a:t>oper HWRF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erpetua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Rectangle 58"/>
          <p:cNvSpPr/>
          <p:nvPr/>
        </p:nvSpPr>
        <p:spPr>
          <a:xfrm>
            <a:off x="7543800" y="5943600"/>
            <a:ext cx="990720" cy="457200"/>
          </a:xfrm>
          <a:prstGeom prst="rect">
            <a:avLst/>
          </a:prstGeom>
          <a:solidFill>
            <a:srgbClr val="f79646"/>
          </a:solidFill>
          <a:ln w="9360">
            <a:solidFill>
              <a:srgbClr val="39659b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erpetua"/>
              </a:rPr>
              <a:t>oper HWRF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erpetua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306" name="Straight Arrow Connector 72"/>
          <p:cNvCxnSpPr>
            <a:stCxn id="304" idx="0"/>
            <a:endCxn id="266" idx="3"/>
          </p:cNvCxnSpPr>
          <p:nvPr/>
        </p:nvCxnSpPr>
        <p:spPr>
          <a:xfrm flipH="1" flipV="1">
            <a:off x="2537280" y="2879280"/>
            <a:ext cx="4130640" cy="306468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307" name="Straight Arrow Connector 75"/>
          <p:cNvCxnSpPr>
            <a:stCxn id="305" idx="0"/>
          </p:cNvCxnSpPr>
          <p:nvPr/>
        </p:nvCxnSpPr>
        <p:spPr>
          <a:xfrm flipH="1" flipV="1">
            <a:off x="2437920" y="2133000"/>
            <a:ext cx="5601600" cy="3810960"/>
          </a:xfrm>
          <a:prstGeom prst="straightConnector1">
            <a:avLst/>
          </a:prstGeom>
          <a:ln w="19080">
            <a:solidFill>
              <a:srgbClr val="f79646"/>
            </a:solidFill>
            <a:prstDash val="dash"/>
            <a:miter/>
            <a:tailEnd len="med" type="arrow" w="med"/>
          </a:ln>
        </p:spPr>
      </p:cxnSp>
      <p:sp>
        <p:nvSpPr>
          <p:cNvPr id="308" name="Rectangle 42"/>
          <p:cNvSpPr/>
          <p:nvPr/>
        </p:nvSpPr>
        <p:spPr>
          <a:xfrm>
            <a:off x="1828800" y="1752480"/>
            <a:ext cx="1467000" cy="3794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RF V3.2+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9" name="Up Arrow 48"/>
          <p:cNvGrpSpPr/>
          <p:nvPr/>
        </p:nvGrpSpPr>
        <p:grpSpPr>
          <a:xfrm>
            <a:off x="2255760" y="2073240"/>
            <a:ext cx="268200" cy="414360"/>
            <a:chOff x="2255760" y="2073240"/>
            <a:chExt cx="268200" cy="414360"/>
          </a:xfrm>
        </p:grpSpPr>
        <p:pic>
          <p:nvPicPr>
            <p:cNvPr id="310" name="Up Arrow 48" descr=""/>
            <p:cNvPicPr/>
            <p:nvPr/>
          </p:nvPicPr>
          <p:blipFill>
            <a:blip r:embed="rId18"/>
            <a:stretch/>
          </p:blipFill>
          <p:spPr>
            <a:xfrm>
              <a:off x="2255760" y="2073240"/>
              <a:ext cx="2682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373480" y="2144880"/>
              <a:ext cx="237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312" name="Rectangle 59"/>
          <p:cNvSpPr/>
          <p:nvPr/>
        </p:nvSpPr>
        <p:spPr>
          <a:xfrm>
            <a:off x="228600" y="1752480"/>
            <a:ext cx="1447920" cy="3794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eb 2011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Rectangle 64"/>
          <p:cNvSpPr/>
          <p:nvPr/>
        </p:nvSpPr>
        <p:spPr>
          <a:xfrm>
            <a:off x="7238880" y="3733920"/>
            <a:ext cx="990720" cy="457200"/>
          </a:xfrm>
          <a:prstGeom prst="rect">
            <a:avLst/>
          </a:prstGeom>
          <a:solidFill>
            <a:srgbClr val="f79646"/>
          </a:solidFill>
          <a:ln w="9360">
            <a:solidFill>
              <a:srgbClr val="39659b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erpetua"/>
              </a:rPr>
              <a:t>upgrade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erpetua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314" name="Straight Arrow Connector 69"/>
          <p:cNvCxnSpPr>
            <a:stCxn id="313" idx="1"/>
            <a:endCxn id="310" idx="3"/>
          </p:cNvCxnSpPr>
          <p:nvPr/>
        </p:nvCxnSpPr>
        <p:spPr>
          <a:xfrm flipH="1" flipV="1">
            <a:off x="2523960" y="2280240"/>
            <a:ext cx="4715280" cy="1682640"/>
          </a:xfrm>
          <a:prstGeom prst="straightConnector1">
            <a:avLst/>
          </a:prstGeom>
          <a:ln w="19080">
            <a:solidFill>
              <a:srgbClr val="f79646"/>
            </a:solidFill>
            <a:prstDash val="dash"/>
            <a:miter/>
            <a:tailEnd len="med" type="arrow" w="med"/>
          </a:ln>
        </p:spPr>
      </p:cxnSp>
      <p:sp>
        <p:nvSpPr>
          <p:cNvPr id="315" name="TextBox 52"/>
          <p:cNvSpPr/>
          <p:nvPr/>
        </p:nvSpPr>
        <p:spPr>
          <a:xfrm>
            <a:off x="5486400" y="304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igia Bernardet – DTC – 2/18/201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Content Placeholder 7" descr="test.png"/>
          <p:cNvPicPr/>
          <p:nvPr/>
        </p:nvPicPr>
        <p:blipFill>
          <a:blip r:embed="rId1"/>
          <a:srcRect l="-15749" t="0" r="-15749" b="0"/>
          <a:stretch/>
        </p:blipFill>
        <p:spPr>
          <a:xfrm>
            <a:off x="4038480" y="1219320"/>
            <a:ext cx="4664160" cy="2743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test.png"/>
          <p:cNvPicPr/>
          <p:nvPr/>
        </p:nvPicPr>
        <p:blipFill>
          <a:blip r:embed="rId2"/>
          <a:stretch/>
        </p:blipFill>
        <p:spPr>
          <a:xfrm>
            <a:off x="1143000" y="1143000"/>
            <a:ext cx="3546360" cy="27432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Preliminary testing result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19" name="Content Placeholder 7" descr="test.png"/>
          <p:cNvPicPr/>
          <p:nvPr/>
        </p:nvPicPr>
        <p:blipFill>
          <a:blip r:embed="rId3"/>
          <a:srcRect l="-41922" t="0" r="-41922" b="0"/>
          <a:stretch/>
        </p:blipFill>
        <p:spPr>
          <a:xfrm>
            <a:off x="1066680" y="3886200"/>
            <a:ext cx="4664160" cy="2743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" descr=""/>
          <p:cNvPicPr/>
          <p:nvPr/>
        </p:nvPicPr>
        <p:blipFill>
          <a:blip r:embed="rId4"/>
          <a:stretch/>
        </p:blipFill>
        <p:spPr>
          <a:xfrm>
            <a:off x="4648320" y="3962520"/>
            <a:ext cx="3547800" cy="2743200"/>
          </a:xfrm>
          <a:prstGeom prst="rect">
            <a:avLst/>
          </a:prstGeom>
          <a:ln w="0">
            <a:noFill/>
          </a:ln>
        </p:spPr>
      </p:pic>
      <p:sp>
        <p:nvSpPr>
          <p:cNvPr id="321" name="Oval 10"/>
          <p:cNvSpPr/>
          <p:nvPr/>
        </p:nvSpPr>
        <p:spPr>
          <a:xfrm>
            <a:off x="5029200" y="5181480"/>
            <a:ext cx="990720" cy="1067040"/>
          </a:xfrm>
          <a:prstGeom prst="ellipse">
            <a:avLst/>
          </a:prstGeom>
          <a:noFill/>
          <a:ln w="15840">
            <a:solidFill>
              <a:srgbClr val="f79646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20:45:44Z</dcterms:created>
  <dc:creator>nance</dc:creator>
  <dc:description/>
  <dc:language>en-US</dc:language>
  <cp:lastModifiedBy>xzhang</cp:lastModifiedBy>
  <dcterms:modified xsi:type="dcterms:W3CDTF">2010-02-18T04:42:45Z</dcterms:modified>
  <cp:revision>49</cp:revision>
  <dc:subject/>
  <dc:title>Task Title</dc:title>
</cp:coreProperties>
</file>