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01D811-55EB-426C-8FB1-09AD39011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635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: JTWC warning messages of Vmax, r35, r50 in 4 quadr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: Using Sat wind OBS to fit to TC structure model in 8 octants and AMSU T-profile to determine TC circulation dep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35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: JTWC warning messages of Vmax, r35, r50 in 4 quadr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: Using Sat wind OBS to fit to TC structure model in 8 octants and AMSU T-profile to determine TC circulation dep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BC97-612B-48EB-B70D-9EE4C675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611F-53AC-46DB-918F-C9BC6077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645-1CD8-4D99-99F6-710D2205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6BC-C1F6-479B-85E4-A9775892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E804-A9F4-4552-AD3E-CA874ADA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B09A-3F4C-421B-8476-13CF6472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125-F850-4EBA-BE28-A9529CBF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D524-5F13-4312-BC79-2333BB19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117-6996-44BC-AA3C-CFC1709A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5216-BF0D-4611-B920-29839433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392-E270-4E3E-B932-51D6A7C3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D90-D0E2-4F88-8123-12793574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BDB2-9E5B-4780-AA7F-BCEC1C325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System for COAMP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4343400"/>
            <a:ext cx="0" cy="685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3048120"/>
            <a:ext cx="2895840" cy="129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3048120"/>
            <a:ext cx="28195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-VAR Analys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ducing correlation scale &amp; geos. coup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429000" y="838080"/>
            <a:ext cx="1523880" cy="1523880"/>
            <a:chOff x="3429000" y="838080"/>
            <a:chExt cx="1523880" cy="1523880"/>
          </a:xfrm>
        </p:grpSpPr>
        <p:sp>
          <p:nvSpPr>
            <p:cNvPr id="55" name=""/>
            <p:cNvSpPr/>
            <p:nvPr/>
          </p:nvSpPr>
          <p:spPr>
            <a:xfrm>
              <a:off x="3429000" y="838080"/>
              <a:ext cx="1523880" cy="1523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04960" y="114300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irst Gu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191120" y="2438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04920" y="2514600"/>
            <a:ext cx="2209680" cy="2286000"/>
            <a:chOff x="304920" y="2514600"/>
            <a:chExt cx="2209680" cy="2286000"/>
          </a:xfrm>
        </p:grpSpPr>
        <p:sp>
          <p:nvSpPr>
            <p:cNvPr id="59" name=""/>
            <p:cNvSpPr/>
            <p:nvPr/>
          </p:nvSpPr>
          <p:spPr>
            <a:xfrm>
              <a:off x="304920" y="2514600"/>
              <a:ext cx="2209680" cy="228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2971800"/>
              <a:ext cx="22096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bservation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 algn="ctr"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al 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 algn="ctr"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ynthetic o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51460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429000" y="5029200"/>
            <a:ext cx="1523880" cy="1523520"/>
            <a:chOff x="3429000" y="5029200"/>
            <a:chExt cx="1523880" cy="1523520"/>
          </a:xfrm>
        </p:grpSpPr>
        <p:sp>
          <p:nvSpPr>
            <p:cNvPr id="63" name=""/>
            <p:cNvSpPr/>
            <p:nvPr/>
          </p:nvSpPr>
          <p:spPr>
            <a:xfrm>
              <a:off x="3429000" y="5029200"/>
              <a:ext cx="1523880" cy="152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4960" y="534996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410080" y="58672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553080" y="5257800"/>
            <a:ext cx="1676520" cy="1219320"/>
            <a:chOff x="6553080" y="5257800"/>
            <a:chExt cx="1676520" cy="1219320"/>
          </a:xfrm>
        </p:grpSpPr>
        <p:sp>
          <p:nvSpPr>
            <p:cNvPr id="67" name=""/>
            <p:cNvSpPr/>
            <p:nvPr/>
          </p:nvSpPr>
          <p:spPr>
            <a:xfrm>
              <a:off x="6553080" y="5257800"/>
              <a:ext cx="1676520" cy="1219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53080" y="525780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AMPS Forecast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 flipV="1">
            <a:off x="7391520" y="4419360"/>
            <a:ext cx="0" cy="685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705720" y="2743200"/>
            <a:ext cx="1523880" cy="1523880"/>
            <a:chOff x="6705720" y="2743200"/>
            <a:chExt cx="1523880" cy="1523880"/>
          </a:xfrm>
        </p:grpSpPr>
        <p:sp>
          <p:nvSpPr>
            <p:cNvPr id="71" name=""/>
            <p:cNvSpPr/>
            <p:nvPr/>
          </p:nvSpPr>
          <p:spPr>
            <a:xfrm>
              <a:off x="6705720" y="2743200"/>
              <a:ext cx="1523880" cy="1523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82040" y="3047760"/>
              <a:ext cx="144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 Foreca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6477120" y="990720"/>
            <a:ext cx="2361960" cy="1066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990720"/>
            <a:ext cx="2438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 Relocation (T,V,q,p,e,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,s,g,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467480" y="21333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81480" y="1676520"/>
            <a:ext cx="9907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3048120"/>
            <a:ext cx="2895840" cy="12952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990720"/>
            <a:ext cx="2361960" cy="10666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29600" y="65530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NRL-M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53080" y="5257800"/>
            <a:ext cx="1676520" cy="12193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17524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ed TC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tic Observations for COAMPS-T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019920" y="3044880"/>
            <a:ext cx="2895120" cy="825480"/>
            <a:chOff x="6019920" y="3044880"/>
            <a:chExt cx="2895120" cy="825480"/>
          </a:xfrm>
        </p:grpSpPr>
        <p:sp>
          <p:nvSpPr>
            <p:cNvPr id="86" name=""/>
            <p:cNvSpPr/>
            <p:nvPr/>
          </p:nvSpPr>
          <p:spPr>
            <a:xfrm>
              <a:off x="6019920" y="3425760"/>
              <a:ext cx="7617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8000" y="3044880"/>
              <a:ext cx="2057040" cy="825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ynthetic Observ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819520" y="3121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352680" y="2968560"/>
            <a:ext cx="2805120" cy="914400"/>
            <a:chOff x="3352680" y="2968560"/>
            <a:chExt cx="2805120" cy="914400"/>
          </a:xfrm>
        </p:grpSpPr>
        <p:sp>
          <p:nvSpPr>
            <p:cNvPr id="90" name=""/>
            <p:cNvSpPr/>
            <p:nvPr/>
          </p:nvSpPr>
          <p:spPr>
            <a:xfrm>
              <a:off x="3352680" y="2968560"/>
              <a:ext cx="2805120" cy="914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52680" y="296856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GAPS T15/T20 truncated fiel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808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TC circ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362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Environmental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124080" y="4343400"/>
            <a:ext cx="2819520" cy="2517120"/>
            <a:chOff x="3124080" y="4343400"/>
            <a:chExt cx="2819520" cy="2517120"/>
          </a:xfrm>
        </p:grpSpPr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3146400" y="4343400"/>
                  <a:ext cx="2671920" cy="16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t xml:space="preserve">ϕ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r</m:t>
                          </m:r>
                          <m:r>
                            <m:t xml:space="preserve">&lt;</m:t>
                          </m:r>
                          <m:r>
                            <m:t xml:space="preserve">R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ϕ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α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r</m:t>
                          </m:r>
                          <m:r>
                            <m:t xml:space="preserve">&gt;</m:t>
                          </m:r>
                          <m:r>
                            <m:t xml:space="preserve">R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6" name=""/>
            <p:cNvSpPr/>
            <p:nvPr/>
          </p:nvSpPr>
          <p:spPr>
            <a:xfrm>
              <a:off x="3124080" y="5943600"/>
              <a:ext cx="281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= radius of 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24080" y="64008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z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04920" y="52578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Modified Rankine Vortex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600200"/>
            <a:ext cx="2514600" cy="2743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 structur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943600" y="4876920"/>
            <a:ext cx="3200400" cy="1191240"/>
            <a:chOff x="5943600" y="4876920"/>
            <a:chExt cx="3200400" cy="1191240"/>
          </a:xfrm>
        </p:grpSpPr>
        <p:sp>
          <p:nvSpPr>
            <p:cNvPr id="102" name=""/>
            <p:cNvSpPr/>
            <p:nvPr/>
          </p:nvSpPr>
          <p:spPr>
            <a:xfrm>
              <a:off x="6400800" y="487692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ff"/>
                  </a:solidFill>
                  <a:latin typeface="Arial"/>
                </a:rPr>
                <a:t>surface friction effects at bottom 3 levels (≤ 850m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600" y="51818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ff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8229600" y="65530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NRL-M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76520"/>
            <a:ext cx="22860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57200" y="3123360"/>
            <a:ext cx="22860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514600" y="1599840"/>
            <a:ext cx="11430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114300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JTWC warning message: sfc Vmax, radii of 34 and 50 KTS winds for named st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1066680"/>
            <a:ext cx="5181480" cy="1143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4267080"/>
            <a:ext cx="26676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5181480"/>
            <a:ext cx="2743200" cy="990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3680" y="649116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escribed pro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5260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76320"/>
            <a:ext cx="815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MPS analysis and forecasts for Feli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10960" y="627120"/>
            <a:ext cx="3702240" cy="6092640"/>
            <a:chOff x="210960" y="627120"/>
            <a:chExt cx="3702240" cy="609264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rcRect l="0" t="9633" r="0" b="0"/>
            <a:stretch/>
          </p:blipFill>
          <p:spPr>
            <a:xfrm>
              <a:off x="255600" y="666720"/>
              <a:ext cx="365760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2760" y="668160"/>
              <a:ext cx="3571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nthetic Observations 850 hPa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id for 0000 UTC 4 Au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712800" y="4210200"/>
              <a:ext cx="2438280" cy="2400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9" name=""/>
            <p:cNvSpPr/>
            <p:nvPr/>
          </p:nvSpPr>
          <p:spPr>
            <a:xfrm>
              <a:off x="1866960" y="2671920"/>
              <a:ext cx="0" cy="1447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0960" y="627120"/>
              <a:ext cx="3646800" cy="609264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005440" y="620640"/>
            <a:ext cx="3958920" cy="6040440"/>
            <a:chOff x="5005440" y="620640"/>
            <a:chExt cx="3958920" cy="6040440"/>
          </a:xfrm>
        </p:grpSpPr>
        <p:grpSp>
          <p:nvGrpSpPr>
            <p:cNvPr id="122" name=""/>
            <p:cNvGrpSpPr/>
            <p:nvPr/>
          </p:nvGrpSpPr>
          <p:grpSpPr>
            <a:xfrm>
              <a:off x="5005440" y="620640"/>
              <a:ext cx="3958920" cy="6040440"/>
              <a:chOff x="5005440" y="620640"/>
              <a:chExt cx="3958920" cy="6040440"/>
            </a:xfrm>
          </p:grpSpPr>
          <p:pic>
            <p:nvPicPr>
              <p:cNvPr id="123" name="" descr=""/>
              <p:cNvPicPr/>
              <p:nvPr/>
            </p:nvPicPr>
            <p:blipFill>
              <a:blip r:embed="rId3"/>
              <a:srcRect l="18000" t="7601" r="21735" b="5802"/>
              <a:stretch/>
            </p:blipFill>
            <p:spPr>
              <a:xfrm>
                <a:off x="5144400" y="702720"/>
                <a:ext cx="3599640" cy="296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4"/>
              <a:srcRect l="0" t="3488" r="7753" b="9384"/>
              <a:stretch/>
            </p:blipFill>
            <p:spPr>
              <a:xfrm>
                <a:off x="5005440" y="3763440"/>
                <a:ext cx="3787560" cy="282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5792400" y="3818520"/>
                <a:ext cx="279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al-time Forecasts 5-k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554080" y="708480"/>
                <a:ext cx="3225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Geo. H. and 850 hPa winds at 0 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valid for 0000 UTC 4 Au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055120" y="620640"/>
                <a:ext cx="3909240" cy="6040440"/>
              </a:xfrm>
              <a:prstGeom prst="rect">
                <a:avLst/>
              </a:prstGeom>
              <a:noFill/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 flipH="1">
              <a:off x="7087680" y="4391280"/>
              <a:ext cx="36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89000" y="421056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7:04:10Z</dcterms:created>
  <dc:creator>Liou, Dr. Chi-Sann</dc:creator>
  <dc:description/>
  <dc:language>en-US</dc:language>
  <cp:lastModifiedBy>gopal</cp:lastModifiedBy>
  <dcterms:modified xsi:type="dcterms:W3CDTF">2009-08-19T23:36:4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