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F63-384F-432F-A05E-EBE698BC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1B2-445A-42DB-8389-57717B2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D11-4BE8-40F7-B6D4-5A165766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FFB-BC7B-474F-892D-BCA9B74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DF4-42FE-4A65-9D7E-9780469B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8A1-C186-440E-81A9-8A75E4B8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60D-0AF8-47F2-9BBD-2E4C01D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2FD-65D4-4132-A2BC-0C28AE7D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BDA-E9A2-4E67-8676-AF4F9C2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4E4-6954-4199-89C5-A1A086F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B83-28B0-403B-95D3-FCF5804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99F-3504-4BAC-944A-ECEB506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B691-09D9-4F4C-B238-BD8F0F66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719" t="41601" r="20706" b="25018"/>
          <a:stretch/>
        </p:blipFill>
        <p:spPr>
          <a:xfrm>
            <a:off x="293760" y="3600360"/>
            <a:ext cx="3897360" cy="3029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3553" t="59637" r="50448" b="20946"/>
          <a:stretch/>
        </p:blipFill>
        <p:spPr>
          <a:xfrm>
            <a:off x="4594320" y="3552840"/>
            <a:ext cx="4000320" cy="313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46680" y="320040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ved grid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2360" y="3200400"/>
            <a:ext cx="250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angular-hexagonal m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63320" y="36360"/>
            <a:ext cx="63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oward hurricane simulation and forecasting with 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ob Walko - R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771480"/>
            <a:ext cx="8931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Obtained sample HWRF hurricane initialization fields from Xuejin Zhang and Thiago Quir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Implementing routines to input to OLAM and combine with GFS initial fiel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esigned and implemented improvements to OLAM advection routines (currently debuggi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) Zalesak (1979) monotone vertical/horizontal advection scheme for all prognostic variables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(previously tested for some variables in horizontal on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) Upwinding scheme for advected variables based on concepts of Stevens &amp; Bretherton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(1996) 3rd order scheme but implementing only 2</a:t>
            </a:r>
            <a:r>
              <a:rPr b="0" lang="en-US" sz="16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order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Both schemes require special consideration of triangular cells and shave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39:37Z</dcterms:created>
  <dc:creator>walko</dc:creator>
  <dc:description/>
  <dc:language>en-US</dc:language>
  <cp:lastModifiedBy>gopal</cp:lastModifiedBy>
  <dcterms:modified xsi:type="dcterms:W3CDTF">2009-08-19T22:22:37Z</dcterms:modified>
  <cp:revision>3</cp:revision>
  <dc:subject/>
  <dc:title>Slide 1</dc:title>
</cp:coreProperties>
</file>