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D61-EE37-4F47-84FA-223848D7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460-71DD-479F-AA83-44B9095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EDA-F0E6-491F-9B56-9EFB5CCB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760-1589-4ADF-9B66-DF78FEDE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ECE-B8FF-452C-BB1B-ED9250AA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4DA-B4B8-4736-B83D-17DC9C3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3D8-B2B3-46A1-8807-1085F178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141-23F9-42A9-8FBB-5F4A28DB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EF2-318E-43BA-88B3-34EFA114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738-7FF2-4677-8AE8-1F6FAA67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89E-03B4-48C8-A96D-9B738F05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7B7-645F-4C3E-ACDB-A5B1540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D4F1-8720-430C-8487-D4C728BBA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04920" y="152280"/>
            <a:ext cx="861048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-Dimensional Ocean Model With Multiple Vertical Mixing Parameterizations for HWRF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orge Halliwel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AA/AOML/PhO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304920" y="152280"/>
            <a:ext cx="853416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racted directly from HYCOM c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parameterizations for vertical diffusion and vertical fri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-Profile Parameterizat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KP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llor-Yamada level 2.5 turbulence closu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MY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ddard Institute for Space Studies level 2 turbulence closu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GIS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-Weller-Pinkel dynamical instability mode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W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208080"/>
            <a:ext cx="6781680" cy="6364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640" y="990720"/>
            <a:ext cx="18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d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lized T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666880"/>
            <a:ext cx="238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 hour st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eye pres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0 and 9.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920" y="4724280"/>
            <a:ext cx="239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ertial peri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locity respon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4 hr at 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3733920" cy="3503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3733560" cy="350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3425760"/>
            <a:ext cx="3657600" cy="343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495680" y="3425760"/>
            <a:ext cx="36576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1160" y="152280"/>
            <a:ext cx="4943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ison of SST coo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GIS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W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0:39:09Z</dcterms:created>
  <dc:creator>Lynn K. Shay</dc:creator>
  <dc:description>ocean heat content, upwelling, mixing, sea surface temperature, altimetry, shear</dc:description>
  <dc:language>en-US</dc:language>
  <cp:lastModifiedBy>gopal</cp:lastModifiedBy>
  <dcterms:modified xsi:type="dcterms:W3CDTF">2009-08-19T23:42:48Z</dcterms:modified>
  <cp:revision>195</cp:revision>
  <dc:subject>Section_5_MSC106</dc:subject>
  <dc:title>Oceanic Impacts of Hurricane Intensity</dc:title>
</cp:coreProperties>
</file>