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947-9FA2-4121-8B9F-2A918E23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941-C215-4DA7-957A-0C50D421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279-DD64-4444-857C-32DB8620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F4F-3F18-40D2-B68C-922F3AB0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278-B283-4615-946F-C72178AF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46F-AAFD-4BE4-9F77-99BE8A31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705-CA8F-4B7E-8B24-F731002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9A4-15DA-4A86-98D6-16AF1AA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059-2735-4144-AB34-495CE6C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77B-5E25-472F-9182-07800B19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665-B397-4401-AC88-51C5EAD4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513-9A73-4061-8F96-FD3CA04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508-1E7B-4B53-A808-E262D8AD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dates on WRF-NMM V3 Restart Option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Mod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g fix in HALO_NMM_C. The halo width was defined wrong, it should be 24. The bug affects feedback calculation from nested do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broutine force_domain_nmm_part2, a ‘if statement’ for restart was removed: the nested domain boundary should be calculated every time the parent values are upda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generation seeds are saved in restart file for SAS calcul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533520"/>
            <a:ext cx="784872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-earth distance is calculated using starting date/GMT when restarted, instead of restart date/GM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s in start_domain_nmm subroutine in order to use values from restart file instead of prescribed val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is updated for re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bitwise reproducible results when restarted at 6h and 24h, failed when restarted at 12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22:33Z</dcterms:created>
  <dc:creator>zzhang</dc:creator>
  <dc:description/>
  <dc:language>en-US</dc:language>
  <cp:lastModifiedBy>gopal</cp:lastModifiedBy>
  <dcterms:modified xsi:type="dcterms:W3CDTF">2009-08-20T12:14:56Z</dcterms:modified>
  <cp:revision>7</cp:revision>
  <dc:subject/>
  <dc:title>Updates on WRF-NMM V3 Restart Option Development</dc:title>
</cp:coreProperties>
</file>