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8EAB-F79D-46D1-8685-85C8525A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C522-51AF-4BAE-9B4E-CB9E2EBE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6355-B43D-4BD3-B9D9-F61E808C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3453-8411-46BB-AC67-42711F3F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9C48-40B8-4D8A-B9B4-0E0896DC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1911-386A-434E-B012-F90E72FB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801E-CBCE-492D-9730-AE4C27D6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F966-E7DA-45CA-B098-B7A55EF3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054D-9986-4EF2-A7A1-0637E1DE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332B-2378-447F-ABB9-3547702F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D0D-3FC8-4FFD-8D04-983881FC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8490-4034-43FA-A623-CEAE6AF4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3F65-CCC7-42F3-ADA4-3D0493D3F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Examples of HFIP DEMO Foreca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Yeh and HWRFX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na_Bill_2009_HWRFx_3km_track_fcst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Bill2009081600z_HWRFx_3km_wind_swath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572000" cy="3660840"/>
          </a:xfrm>
          <a:prstGeom prst="rect">
            <a:avLst/>
          </a:prstGeom>
          <a:ln w="0">
            <a:noFill/>
          </a:ln>
        </p:spPr>
      </p:pic>
      <p:pic>
        <p:nvPicPr>
          <p:cNvPr id="45" name="Bill12009081912z_HWRFx_3km_wind_swath" descr=""/>
          <p:cNvPicPr/>
          <p:nvPr/>
        </p:nvPicPr>
        <p:blipFill>
          <a:blip r:embed="rId2"/>
          <a:stretch/>
        </p:blipFill>
        <p:spPr>
          <a:xfrm>
            <a:off x="4076640" y="28954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12:28:24Z</dcterms:created>
  <dc:creator>gopal</dc:creator>
  <dc:description/>
  <dc:language>en-US</dc:language>
  <cp:lastModifiedBy>gopal</cp:lastModifiedBy>
  <dcterms:modified xsi:type="dcterms:W3CDTF">2009-08-20T12:36:21Z</dcterms:modified>
  <cp:revision>1</cp:revision>
  <dc:subject/>
  <dc:title>Some Examples of HFIP DEMO Forecasts</dc:title>
</cp:coreProperties>
</file>