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BC8B-5B0E-4F45-8D20-0B8606AF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0688-2E9F-4A60-AD48-770B5B3D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2B0-7115-4E38-9C51-9AC060AE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4F7A-95E2-43B6-B14C-0F07A329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C7E9-3D40-45D2-A27A-A6B2E1FF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E716-C984-40C7-84DB-00E3DDEE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F992-54BE-4858-9B09-3159D682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C404-5471-406F-8DF6-33B9F626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4FE2-C182-4F5D-AC02-1F645EA1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DD5B-20D9-4A5F-8F23-2E48F83B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233B-CB7C-4B3E-B193-10A0644E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38D8-8C57-4A4E-9D64-3C0B2E5D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2B71-F3F9-48F6-BC77-BFA2E7894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FIP Demo Project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2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itioning our modeling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the nJE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OML: Thiago Quirino, Gopal Sundararaman, Frank Ma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MC: Vijay Talaprag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SRL: Bob Lipschutz, Craig Tier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80880" y="1065240"/>
            <a:ext cx="8001000" cy="4497120"/>
            <a:chOff x="380880" y="1065240"/>
            <a:chExt cx="8001000" cy="449712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380880" y="1871640"/>
              <a:ext cx="7647120" cy="369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" name=""/>
            <p:cNvGrpSpPr/>
            <p:nvPr/>
          </p:nvGrpSpPr>
          <p:grpSpPr>
            <a:xfrm>
              <a:off x="5408640" y="1065240"/>
              <a:ext cx="2973240" cy="1796760"/>
              <a:chOff x="5408640" y="1065240"/>
              <a:chExt cx="2973240" cy="1796760"/>
            </a:xfrm>
          </p:grpSpPr>
          <p:pic>
            <p:nvPicPr>
              <p:cNvPr id="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762520" y="1065240"/>
                <a:ext cx="2619360" cy="179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 flipV="1">
                <a:off x="5408640" y="2084400"/>
                <a:ext cx="35388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6324840" cy="3686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828800" y="1981080"/>
            <a:ext cx="647712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FIP Demo Project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8380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tatistics on nJe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1295280"/>
            <a:ext cx="8686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ccessful transition from WJET to NJET last we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12 CPU core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WRFx runs on 00Z and 12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ation: HWRF/G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 hours: 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s per run: 2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2 runs in parall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 to 4 simulations per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ld perform 4 simulations all 4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age requirements per HWRFx 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175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GB for WPS N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 GB for WRF N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 GB for Diapost (lots of analysis produc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715000" y="3809880"/>
            <a:ext cx="2286000" cy="153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10080" y="52578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pecial thank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ijay Talapra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11:54:37Z</dcterms:created>
  <dc:creator>gopal</dc:creator>
  <dc:description/>
  <dc:language>en-US</dc:language>
  <cp:lastModifiedBy>gopal</cp:lastModifiedBy>
  <dcterms:modified xsi:type="dcterms:W3CDTF">2009-08-20T12:10:27Z</dcterms:modified>
  <cp:revision>1</cp:revision>
  <dc:subject/>
  <dc:title>PowerPoint Presentation</dc:title>
</cp:coreProperties>
</file>